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58F-7F38-4BC9-A07A-D9677192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5A-4468-41A1-8D1F-4B973AF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9B3-1738-4102-B63B-6170378B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327-745C-40CA-A5B4-C977E3CC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71E-7E0E-4765-92CF-9231678C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9EB-0AA5-4219-B7AF-5C15E153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1B0-CCCC-4F04-A32D-40EA839C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919-07E6-4B19-A5B9-6D6FE015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BF5-6A48-4D3C-85EE-A62B0CD5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143-95C0-42D5-A722-736C4027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8AF-C5F1-46FE-B54F-193217C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C3E-4DCE-465F-8CD4-2B35543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31BE-3DD3-4881-95C3-D308FC01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3480"/>
            <a:ext cx="748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d)Centrales nucléai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3520" y="1577880"/>
            <a:ext cx="51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1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Principe de foncti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3200" y="2263680"/>
            <a:ext cx="38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2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Création de cha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26240" y="287352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3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Le circuit pri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49640" y="3483000"/>
            <a:ext cx="40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4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Le circuit second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24080" y="4092480"/>
            <a:ext cx="53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5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Le circuit de refroidis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1120" y="4778280"/>
            <a:ext cx="55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6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Les trois circuits indépend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320840" y="914400"/>
            <a:ext cx="2654280" cy="59436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086600" y="1828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086600" y="2438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7086600" y="30481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26" h="21600">
                <a:moveTo>
                  <a:pt x="5286" y="3985"/>
                </a:moveTo>
                <a:lnTo>
                  <a:pt x="12284" y="3985"/>
                </a:lnTo>
                <a:lnTo>
                  <a:pt x="16340" y="7484"/>
                </a:lnTo>
                <a:lnTo>
                  <a:pt x="16340" y="17615"/>
                </a:lnTo>
                <a:lnTo>
                  <a:pt x="5286" y="17615"/>
                </a:lnTo>
                <a:close/>
              </a:path>
              <a:path fill="darken" w="21626" h="21600">
                <a:moveTo>
                  <a:pt x="12284" y="3985"/>
                </a:moveTo>
                <a:lnTo>
                  <a:pt x="16340" y="7484"/>
                </a:lnTo>
                <a:lnTo>
                  <a:pt x="12284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086600" y="3657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7086600" y="4267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7" action="ppaction://hlinksldjump"/>
          </p:cNvPr>
          <p:cNvSpPr/>
          <p:nvPr/>
        </p:nvSpPr>
        <p:spPr>
          <a:xfrm>
            <a:off x="7086600" y="4952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0200" y="5486400"/>
            <a:ext cx="53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7) </a:t>
            </a:r>
            <a:r>
              <a:rPr b="0" lang="en-US" sz="3200" spc="-1" strike="noStrike" u="sng">
                <a:solidFill>
                  <a:srgbClr val="d60093"/>
                </a:solidFill>
                <a:uFillTx/>
                <a:latin typeface="Times New Roman"/>
              </a:rPr>
              <a:t>Quelques chiffres impor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7086600" y="567684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9840" y="763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de refroidi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286000" y="1905120"/>
            <a:ext cx="3048120" cy="3580920"/>
            <a:chOff x="2286000" y="1905120"/>
            <a:chExt cx="3048120" cy="3580920"/>
          </a:xfrm>
        </p:grpSpPr>
        <p:sp>
          <p:nvSpPr>
            <p:cNvPr id="1194" name=""/>
            <p:cNvSpPr/>
            <p:nvPr/>
          </p:nvSpPr>
          <p:spPr>
            <a:xfrm>
              <a:off x="2484720" y="4743360"/>
              <a:ext cx="2786040" cy="7426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86000" y="4495680"/>
              <a:ext cx="3048120" cy="577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40160" y="4787640"/>
              <a:ext cx="2698560" cy="53316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514600" y="4533840"/>
              <a:ext cx="2743200" cy="532800"/>
            </a:xfrm>
            <a:custGeom>
              <a:avLst/>
              <a:gdLst/>
              <a:ahLst/>
              <a:rect l="l" t="t" r="r" b="b"/>
              <a:pathLst>
                <a:path w="1728" h="336">
                  <a:moveTo>
                    <a:pt x="192" y="0"/>
                  </a:moveTo>
                  <a:lnTo>
                    <a:pt x="1536" y="0"/>
                  </a:lnTo>
                  <a:lnTo>
                    <a:pt x="1728" y="336"/>
                  </a:lnTo>
                  <a:lnTo>
                    <a:pt x="0" y="33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03720" y="5308560"/>
              <a:ext cx="76320" cy="75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05320" y="5308560"/>
              <a:ext cx="76320" cy="75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62600" y="528300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895840" y="523224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41680" y="5181480"/>
              <a:ext cx="7632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59400" y="5283000"/>
              <a:ext cx="7632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64320" y="5232240"/>
              <a:ext cx="7596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05520" y="5168880"/>
              <a:ext cx="76320" cy="75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514600" y="4533840"/>
              <a:ext cx="30492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flipV="1">
              <a:off x="4953240" y="4533840"/>
              <a:ext cx="30456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53240" y="4533840"/>
              <a:ext cx="1872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711680" y="4635360"/>
              <a:ext cx="18756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4876920" y="4533840"/>
              <a:ext cx="763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4609800" y="4647960"/>
              <a:ext cx="11124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4267080" y="4686120"/>
              <a:ext cx="75960" cy="65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356360" y="4686120"/>
              <a:ext cx="25848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2666880" y="4533840"/>
              <a:ext cx="1522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666880" y="4609800"/>
              <a:ext cx="22860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95840" y="4609800"/>
              <a:ext cx="396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124440" y="4686120"/>
              <a:ext cx="75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29000" y="4686120"/>
              <a:ext cx="119160" cy="65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3200040" y="4686120"/>
              <a:ext cx="2286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2908080" y="4660560"/>
              <a:ext cx="22860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819520" y="1905120"/>
              <a:ext cx="2133720" cy="2793240"/>
              <a:chOff x="2819520" y="1905120"/>
              <a:chExt cx="2133720" cy="279324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2819520" y="1905120"/>
                <a:ext cx="2133720" cy="2755080"/>
                <a:chOff x="2819520" y="1905120"/>
                <a:chExt cx="2133720" cy="27550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2819520" y="4431960"/>
                  <a:ext cx="2133720" cy="228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819520" y="2031840"/>
                  <a:ext cx="106668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3886200" y="2031840"/>
                  <a:ext cx="106704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276720" y="1905120"/>
                  <a:ext cx="1216080" cy="228240"/>
                </a:xfrm>
                <a:prstGeom prst="ellipse">
                  <a:avLst/>
                </a:prstGeom>
                <a:solidFill>
                  <a:srgbClr val="4d4d4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721320" y="2158920"/>
                  <a:ext cx="304560" cy="236160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857680" y="4546440"/>
                  <a:ext cx="205740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9" name=""/>
              <p:cNvSpPr/>
              <p:nvPr/>
            </p:nvSpPr>
            <p:spPr>
              <a:xfrm>
                <a:off x="2819520" y="4431960"/>
                <a:ext cx="2133720" cy="2282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19520" y="2044440"/>
                <a:ext cx="1066680" cy="2514240"/>
              </a:xfrm>
              <a:custGeom>
                <a:avLst/>
                <a:gdLst/>
                <a:ahLst/>
                <a:rect l="l" t="t" r="r" b="b"/>
                <a:pathLst>
                  <a:path w="672" h="1584">
                    <a:moveTo>
                      <a:pt x="0" y="1584"/>
                    </a:moveTo>
                    <a:lnTo>
                      <a:pt x="192" y="1056"/>
                    </a:lnTo>
                    <a:lnTo>
                      <a:pt x="240" y="864"/>
                    </a:lnTo>
                    <a:lnTo>
                      <a:pt x="288" y="624"/>
                    </a:lnTo>
                    <a:lnTo>
                      <a:pt x="288" y="576"/>
                    </a:lnTo>
                    <a:lnTo>
                      <a:pt x="288" y="528"/>
                    </a:lnTo>
                    <a:lnTo>
                      <a:pt x="288" y="0"/>
                    </a:lnTo>
                    <a:lnTo>
                      <a:pt x="672" y="0"/>
                    </a:lnTo>
                    <a:lnTo>
                      <a:pt x="672" y="1584"/>
                    </a:lnTo>
                    <a:lnTo>
                      <a:pt x="0" y="1584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3886200" y="2044440"/>
                <a:ext cx="1067040" cy="2514240"/>
              </a:xfrm>
              <a:custGeom>
                <a:avLst/>
                <a:gdLst/>
                <a:ahLst/>
                <a:rect l="l" t="t" r="r" b="b"/>
                <a:pathLst>
                  <a:path w="672" h="1584">
                    <a:moveTo>
                      <a:pt x="0" y="1584"/>
                    </a:moveTo>
                    <a:lnTo>
                      <a:pt x="192" y="1056"/>
                    </a:lnTo>
                    <a:lnTo>
                      <a:pt x="240" y="864"/>
                    </a:lnTo>
                    <a:lnTo>
                      <a:pt x="288" y="624"/>
                    </a:lnTo>
                    <a:lnTo>
                      <a:pt x="288" y="576"/>
                    </a:lnTo>
                    <a:lnTo>
                      <a:pt x="288" y="528"/>
                    </a:lnTo>
                    <a:lnTo>
                      <a:pt x="288" y="0"/>
                    </a:lnTo>
                    <a:lnTo>
                      <a:pt x="672" y="0"/>
                    </a:lnTo>
                    <a:lnTo>
                      <a:pt x="672" y="1584"/>
                    </a:lnTo>
                    <a:lnTo>
                      <a:pt x="0" y="1584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721320" y="2171520"/>
                <a:ext cx="304560" cy="23619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857680" y="4559040"/>
                <a:ext cx="205740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429000" y="1993680"/>
                <a:ext cx="990720" cy="26665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76720" y="1917360"/>
                <a:ext cx="121608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3809880" y="2145960"/>
                <a:ext cx="22860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19520" y="4457520"/>
                <a:ext cx="213372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124440" y="4495680"/>
                <a:ext cx="1558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908440" y="4520880"/>
                <a:ext cx="1558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381480" y="4457520"/>
                <a:ext cx="15588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819520" y="4546440"/>
                <a:ext cx="10904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951360" y="4444920"/>
                <a:ext cx="925560" cy="12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994120" y="2082600"/>
                <a:ext cx="816120" cy="2590560"/>
              </a:xfrm>
              <a:custGeom>
                <a:avLst/>
                <a:gdLst/>
                <a:ahLst/>
                <a:rect l="l" t="t" r="r" b="b"/>
                <a:pathLst>
                  <a:path w="514" h="1632">
                    <a:moveTo>
                      <a:pt x="506" y="37"/>
                    </a:moveTo>
                    <a:cubicBezTo>
                      <a:pt x="514" y="316"/>
                      <a:pt x="514" y="221"/>
                      <a:pt x="514" y="321"/>
                    </a:cubicBezTo>
                    <a:lnTo>
                      <a:pt x="480" y="528"/>
                    </a:lnTo>
                    <a:lnTo>
                      <a:pt x="432" y="672"/>
                    </a:lnTo>
                    <a:lnTo>
                      <a:pt x="336" y="960"/>
                    </a:lnTo>
                    <a:lnTo>
                      <a:pt x="384" y="1152"/>
                    </a:lnTo>
                    <a:lnTo>
                      <a:pt x="336" y="1200"/>
                    </a:lnTo>
                    <a:lnTo>
                      <a:pt x="336" y="1632"/>
                    </a:lnTo>
                    <a:lnTo>
                      <a:pt x="240" y="1632"/>
                    </a:lnTo>
                    <a:lnTo>
                      <a:pt x="0" y="1440"/>
                    </a:lnTo>
                    <a:lnTo>
                      <a:pt x="48" y="1296"/>
                    </a:lnTo>
                    <a:lnTo>
                      <a:pt x="144" y="1056"/>
                    </a:lnTo>
                    <a:lnTo>
                      <a:pt x="192" y="816"/>
                    </a:lnTo>
                    <a:lnTo>
                      <a:pt x="240" y="624"/>
                    </a:lnTo>
                    <a:lnTo>
                      <a:pt x="240" y="0"/>
                    </a:lnTo>
                    <a:lnTo>
                      <a:pt x="506" y="3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895840" y="2070000"/>
                <a:ext cx="815760" cy="2590200"/>
              </a:xfrm>
              <a:custGeom>
                <a:avLst/>
                <a:gdLst/>
                <a:ahLst/>
                <a:rect l="l" t="t" r="r" b="b"/>
                <a:pathLst>
                  <a:path w="514" h="1632">
                    <a:moveTo>
                      <a:pt x="506" y="37"/>
                    </a:moveTo>
                    <a:cubicBezTo>
                      <a:pt x="514" y="316"/>
                      <a:pt x="514" y="221"/>
                      <a:pt x="514" y="321"/>
                    </a:cubicBezTo>
                    <a:lnTo>
                      <a:pt x="480" y="528"/>
                    </a:lnTo>
                    <a:lnTo>
                      <a:pt x="432" y="672"/>
                    </a:lnTo>
                    <a:lnTo>
                      <a:pt x="336" y="960"/>
                    </a:lnTo>
                    <a:lnTo>
                      <a:pt x="384" y="1152"/>
                    </a:lnTo>
                    <a:lnTo>
                      <a:pt x="336" y="1200"/>
                    </a:lnTo>
                    <a:lnTo>
                      <a:pt x="336" y="1632"/>
                    </a:lnTo>
                    <a:lnTo>
                      <a:pt x="240" y="1632"/>
                    </a:lnTo>
                    <a:lnTo>
                      <a:pt x="0" y="1440"/>
                    </a:lnTo>
                    <a:lnTo>
                      <a:pt x="48" y="1296"/>
                    </a:lnTo>
                    <a:lnTo>
                      <a:pt x="144" y="1056"/>
                    </a:lnTo>
                    <a:lnTo>
                      <a:pt x="192" y="816"/>
                    </a:lnTo>
                    <a:lnTo>
                      <a:pt x="240" y="624"/>
                    </a:lnTo>
                    <a:lnTo>
                      <a:pt x="240" y="0"/>
                    </a:lnTo>
                    <a:lnTo>
                      <a:pt x="506" y="37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45080" y="4356000"/>
                <a:ext cx="457200" cy="304200"/>
              </a:xfrm>
              <a:custGeom>
                <a:avLst/>
                <a:gdLst/>
                <a:ahLst/>
                <a:rect l="l" t="t" r="r" b="b"/>
                <a:pathLst>
                  <a:path w="288" h="192">
                    <a:moveTo>
                      <a:pt x="48" y="0"/>
                    </a:moveTo>
                    <a:lnTo>
                      <a:pt x="288" y="192"/>
                    </a:lnTo>
                    <a:lnTo>
                      <a:pt x="240" y="192"/>
                    </a:lnTo>
                    <a:lnTo>
                      <a:pt x="192" y="192"/>
                    </a:lnTo>
                    <a:lnTo>
                      <a:pt x="144" y="144"/>
                    </a:lnTo>
                    <a:lnTo>
                      <a:pt x="192" y="192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4023000" y="2070000"/>
                <a:ext cx="815760" cy="2590200"/>
              </a:xfrm>
              <a:custGeom>
                <a:avLst/>
                <a:gdLst/>
                <a:ahLst/>
                <a:rect l="l" t="t" r="r" b="b"/>
                <a:pathLst>
                  <a:path w="514" h="1632">
                    <a:moveTo>
                      <a:pt x="506" y="37"/>
                    </a:moveTo>
                    <a:cubicBezTo>
                      <a:pt x="514" y="316"/>
                      <a:pt x="514" y="221"/>
                      <a:pt x="514" y="321"/>
                    </a:cubicBezTo>
                    <a:lnTo>
                      <a:pt x="480" y="528"/>
                    </a:lnTo>
                    <a:lnTo>
                      <a:pt x="432" y="672"/>
                    </a:lnTo>
                    <a:lnTo>
                      <a:pt x="336" y="960"/>
                    </a:lnTo>
                    <a:lnTo>
                      <a:pt x="384" y="1152"/>
                    </a:lnTo>
                    <a:lnTo>
                      <a:pt x="336" y="1200"/>
                    </a:lnTo>
                    <a:lnTo>
                      <a:pt x="336" y="1632"/>
                    </a:lnTo>
                    <a:lnTo>
                      <a:pt x="240" y="1632"/>
                    </a:lnTo>
                    <a:lnTo>
                      <a:pt x="0" y="1440"/>
                    </a:lnTo>
                    <a:lnTo>
                      <a:pt x="48" y="1296"/>
                    </a:lnTo>
                    <a:lnTo>
                      <a:pt x="144" y="1056"/>
                    </a:lnTo>
                    <a:lnTo>
                      <a:pt x="192" y="816"/>
                    </a:lnTo>
                    <a:lnTo>
                      <a:pt x="240" y="624"/>
                    </a:lnTo>
                    <a:lnTo>
                      <a:pt x="240" y="0"/>
                    </a:lnTo>
                    <a:lnTo>
                      <a:pt x="506" y="37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4063320" y="2070000"/>
                <a:ext cx="816120" cy="2590200"/>
              </a:xfrm>
              <a:custGeom>
                <a:avLst/>
                <a:gdLst/>
                <a:ahLst/>
                <a:rect l="l" t="t" r="r" b="b"/>
                <a:pathLst>
                  <a:path w="514" h="1632">
                    <a:moveTo>
                      <a:pt x="506" y="37"/>
                    </a:moveTo>
                    <a:cubicBezTo>
                      <a:pt x="514" y="316"/>
                      <a:pt x="514" y="221"/>
                      <a:pt x="514" y="321"/>
                    </a:cubicBezTo>
                    <a:lnTo>
                      <a:pt x="480" y="528"/>
                    </a:lnTo>
                    <a:lnTo>
                      <a:pt x="432" y="672"/>
                    </a:lnTo>
                    <a:lnTo>
                      <a:pt x="336" y="960"/>
                    </a:lnTo>
                    <a:lnTo>
                      <a:pt x="384" y="1152"/>
                    </a:lnTo>
                    <a:lnTo>
                      <a:pt x="336" y="1200"/>
                    </a:lnTo>
                    <a:lnTo>
                      <a:pt x="336" y="1632"/>
                    </a:lnTo>
                    <a:lnTo>
                      <a:pt x="240" y="1632"/>
                    </a:lnTo>
                    <a:lnTo>
                      <a:pt x="0" y="1440"/>
                    </a:lnTo>
                    <a:lnTo>
                      <a:pt x="48" y="1296"/>
                    </a:lnTo>
                    <a:lnTo>
                      <a:pt x="144" y="1056"/>
                    </a:lnTo>
                    <a:lnTo>
                      <a:pt x="192" y="816"/>
                    </a:lnTo>
                    <a:lnTo>
                      <a:pt x="240" y="624"/>
                    </a:lnTo>
                    <a:lnTo>
                      <a:pt x="240" y="0"/>
                    </a:lnTo>
                    <a:lnTo>
                      <a:pt x="506" y="37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4496040" y="4356000"/>
                <a:ext cx="457200" cy="304200"/>
              </a:xfrm>
              <a:custGeom>
                <a:avLst/>
                <a:gdLst/>
                <a:ahLst/>
                <a:rect l="l" t="t" r="r" b="b"/>
                <a:pathLst>
                  <a:path w="288" h="192">
                    <a:moveTo>
                      <a:pt x="48" y="0"/>
                    </a:moveTo>
                    <a:lnTo>
                      <a:pt x="288" y="192"/>
                    </a:lnTo>
                    <a:lnTo>
                      <a:pt x="240" y="192"/>
                    </a:lnTo>
                    <a:lnTo>
                      <a:pt x="192" y="192"/>
                    </a:lnTo>
                    <a:lnTo>
                      <a:pt x="144" y="144"/>
                    </a:lnTo>
                    <a:lnTo>
                      <a:pt x="192" y="192"/>
                    </a:lnTo>
                    <a:lnTo>
                      <a:pt x="48" y="144"/>
                    </a:lnTo>
                    <a:lnTo>
                      <a:pt x="0" y="14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"/>
            <p:cNvSpPr/>
            <p:nvPr/>
          </p:nvSpPr>
          <p:spPr>
            <a:xfrm>
              <a:off x="3505320" y="45590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48" y="48"/>
                  </a:moveTo>
                  <a:lnTo>
                    <a:pt x="192" y="48"/>
                  </a:lnTo>
                  <a:lnTo>
                    <a:pt x="240" y="0"/>
                  </a:lnTo>
                  <a:lnTo>
                    <a:pt x="336" y="0"/>
                  </a:lnTo>
                  <a:lnTo>
                    <a:pt x="384" y="48"/>
                  </a:lnTo>
                  <a:lnTo>
                    <a:pt x="480" y="48"/>
                  </a:lnTo>
                  <a:lnTo>
                    <a:pt x="480" y="192"/>
                  </a:lnTo>
                  <a:lnTo>
                    <a:pt x="48" y="192"/>
                  </a:lnTo>
                  <a:lnTo>
                    <a:pt x="0" y="48"/>
                  </a:lnTo>
                  <a:lnTo>
                    <a:pt x="144" y="48"/>
                  </a:lnTo>
                  <a:lnTo>
                    <a:pt x="192" y="48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505320" y="460980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48" y="48"/>
                  </a:moveTo>
                  <a:lnTo>
                    <a:pt x="192" y="48"/>
                  </a:lnTo>
                  <a:lnTo>
                    <a:pt x="240" y="0"/>
                  </a:lnTo>
                  <a:lnTo>
                    <a:pt x="336" y="0"/>
                  </a:lnTo>
                  <a:lnTo>
                    <a:pt x="384" y="48"/>
                  </a:lnTo>
                  <a:lnTo>
                    <a:pt x="480" y="48"/>
                  </a:lnTo>
                  <a:lnTo>
                    <a:pt x="480" y="192"/>
                  </a:lnTo>
                  <a:lnTo>
                    <a:pt x="48" y="192"/>
                  </a:lnTo>
                  <a:lnTo>
                    <a:pt x="0" y="48"/>
                  </a:lnTo>
                  <a:lnTo>
                    <a:pt x="144" y="48"/>
                  </a:lnTo>
                  <a:lnTo>
                    <a:pt x="192" y="48"/>
                  </a:lnTo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1739880" y="5079960"/>
            <a:ext cx="2133720" cy="76320"/>
            <a:chOff x="1739880" y="5079960"/>
            <a:chExt cx="2133720" cy="76320"/>
          </a:xfrm>
        </p:grpSpPr>
        <p:sp>
          <p:nvSpPr>
            <p:cNvPr id="1252" name=""/>
            <p:cNvSpPr/>
            <p:nvPr/>
          </p:nvSpPr>
          <p:spPr>
            <a:xfrm>
              <a:off x="1816200" y="50799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739880" y="5156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254560" y="533412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mpe du circuit de refroidiss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88760" y="10666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oalternat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54920" y="7002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secondaire: vapeur sè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277960" y="20718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ens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255280" y="566748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Aéroréfrigérant: utilisé si le débit 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leuve est insuffisant pour pour refroi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t condenser la vapeur du circ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econd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254920" y="2590920"/>
            <a:ext cx="39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bes de refroidissement: plus de 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courus par l ’eau du circuit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roidiss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76320" y="6083280"/>
            <a:ext cx="3755160" cy="700920"/>
            <a:chOff x="76320" y="6083280"/>
            <a:chExt cx="3755160" cy="700920"/>
          </a:xfrm>
        </p:grpSpPr>
        <p:sp>
          <p:nvSpPr>
            <p:cNvPr id="1261" name=""/>
            <p:cNvSpPr/>
            <p:nvPr/>
          </p:nvSpPr>
          <p:spPr>
            <a:xfrm>
              <a:off x="76320" y="6083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20" y="67816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77840" y="6095880"/>
              <a:ext cx="2666880" cy="685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382320" y="6172200"/>
              <a:ext cx="2437200" cy="533160"/>
              <a:chOff x="382320" y="6172200"/>
              <a:chExt cx="2437200" cy="533160"/>
            </a:xfrm>
          </p:grpSpPr>
          <p:sp>
            <p:nvSpPr>
              <p:cNvPr id="1265" name=""/>
              <p:cNvSpPr/>
              <p:nvPr/>
            </p:nvSpPr>
            <p:spPr>
              <a:xfrm rot="5400000">
                <a:off x="1569240" y="4985280"/>
                <a:ext cx="63360" cy="2437200"/>
              </a:xfrm>
              <a:custGeom>
                <a:avLst/>
                <a:gdLst/>
                <a:ahLst/>
                <a:rect l="l" t="t" r="r" b="b"/>
                <a:pathLst>
                  <a:path w="39" h="315">
                    <a:moveTo>
                      <a:pt x="0" y="0"/>
                    </a:moveTo>
                    <a:lnTo>
                      <a:pt x="39" y="45"/>
                    </a:lnTo>
                    <a:lnTo>
                      <a:pt x="0" y="101"/>
                    </a:lnTo>
                    <a:lnTo>
                      <a:pt x="23" y="136"/>
                    </a:lnTo>
                    <a:lnTo>
                      <a:pt x="31" y="183"/>
                    </a:lnTo>
                    <a:lnTo>
                      <a:pt x="23" y="216"/>
                    </a:lnTo>
                    <a:lnTo>
                      <a:pt x="0" y="282"/>
                    </a:lnTo>
                    <a:lnTo>
                      <a:pt x="21" y="3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5400000">
                <a:off x="1569240" y="5141520"/>
                <a:ext cx="63360" cy="2437200"/>
              </a:xfrm>
              <a:custGeom>
                <a:avLst/>
                <a:gdLst/>
                <a:ahLst/>
                <a:rect l="l" t="t" r="r" b="b"/>
                <a:pathLst>
                  <a:path w="39" h="315">
                    <a:moveTo>
                      <a:pt x="0" y="0"/>
                    </a:moveTo>
                    <a:lnTo>
                      <a:pt x="39" y="45"/>
                    </a:lnTo>
                    <a:lnTo>
                      <a:pt x="0" y="101"/>
                    </a:lnTo>
                    <a:lnTo>
                      <a:pt x="23" y="136"/>
                    </a:lnTo>
                    <a:lnTo>
                      <a:pt x="31" y="183"/>
                    </a:lnTo>
                    <a:lnTo>
                      <a:pt x="23" y="216"/>
                    </a:lnTo>
                    <a:lnTo>
                      <a:pt x="0" y="282"/>
                    </a:lnTo>
                    <a:lnTo>
                      <a:pt x="21" y="3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5400000">
                <a:off x="1569240" y="5298120"/>
                <a:ext cx="63360" cy="2437200"/>
              </a:xfrm>
              <a:custGeom>
                <a:avLst/>
                <a:gdLst/>
                <a:ahLst/>
                <a:rect l="l" t="t" r="r" b="b"/>
                <a:pathLst>
                  <a:path w="39" h="315">
                    <a:moveTo>
                      <a:pt x="0" y="0"/>
                    </a:moveTo>
                    <a:lnTo>
                      <a:pt x="39" y="45"/>
                    </a:lnTo>
                    <a:lnTo>
                      <a:pt x="0" y="101"/>
                    </a:lnTo>
                    <a:lnTo>
                      <a:pt x="23" y="136"/>
                    </a:lnTo>
                    <a:lnTo>
                      <a:pt x="31" y="183"/>
                    </a:lnTo>
                    <a:lnTo>
                      <a:pt x="23" y="216"/>
                    </a:lnTo>
                    <a:lnTo>
                      <a:pt x="0" y="282"/>
                    </a:lnTo>
                    <a:lnTo>
                      <a:pt x="21" y="3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5400000">
                <a:off x="1569240" y="5455080"/>
                <a:ext cx="63360" cy="2437200"/>
              </a:xfrm>
              <a:custGeom>
                <a:avLst/>
                <a:gdLst/>
                <a:ahLst/>
                <a:rect l="l" t="t" r="r" b="b"/>
                <a:pathLst>
                  <a:path w="39" h="315">
                    <a:moveTo>
                      <a:pt x="0" y="0"/>
                    </a:moveTo>
                    <a:lnTo>
                      <a:pt x="39" y="45"/>
                    </a:lnTo>
                    <a:lnTo>
                      <a:pt x="0" y="101"/>
                    </a:lnTo>
                    <a:lnTo>
                      <a:pt x="23" y="136"/>
                    </a:lnTo>
                    <a:lnTo>
                      <a:pt x="31" y="183"/>
                    </a:lnTo>
                    <a:lnTo>
                      <a:pt x="23" y="216"/>
                    </a:lnTo>
                    <a:lnTo>
                      <a:pt x="0" y="282"/>
                    </a:lnTo>
                    <a:lnTo>
                      <a:pt x="21" y="3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2820240" y="63244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eu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1676520" y="4038480"/>
            <a:ext cx="1244520" cy="368280"/>
            <a:chOff x="1676520" y="4038480"/>
            <a:chExt cx="1244520" cy="368280"/>
          </a:xfrm>
        </p:grpSpPr>
        <p:sp>
          <p:nvSpPr>
            <p:cNvPr id="1271" name=""/>
            <p:cNvSpPr/>
            <p:nvPr/>
          </p:nvSpPr>
          <p:spPr>
            <a:xfrm>
              <a:off x="1752480" y="43815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76520" y="403848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u cha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457200" y="4038480"/>
            <a:ext cx="368280" cy="1142280"/>
            <a:chOff x="457200" y="4038480"/>
            <a:chExt cx="368280" cy="1142280"/>
          </a:xfrm>
        </p:grpSpPr>
        <p:sp>
          <p:nvSpPr>
            <p:cNvPr id="1274" name=""/>
            <p:cNvSpPr/>
            <p:nvPr/>
          </p:nvSpPr>
          <p:spPr>
            <a:xfrm flipV="1">
              <a:off x="812880" y="40640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0200" y="44254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u fro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5251320" y="3733920"/>
            <a:ext cx="38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froidissement par circulation d ’ea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u fleuve à haut débit dans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ondenseur. Ceci évite une trop gra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ntée en température de l ’eau rejet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77760" y="759960"/>
            <a:ext cx="1320840" cy="3633840"/>
            <a:chOff x="77760" y="759960"/>
            <a:chExt cx="1320840" cy="3633840"/>
          </a:xfrm>
        </p:grpSpPr>
        <p:sp>
          <p:nvSpPr>
            <p:cNvPr id="1278" name=""/>
            <p:cNvSpPr/>
            <p:nvPr/>
          </p:nvSpPr>
          <p:spPr>
            <a:xfrm>
              <a:off x="77760" y="2133720"/>
              <a:ext cx="731880" cy="89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66720" y="182880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9922400">
              <a:off x="382680" y="1980720"/>
              <a:ext cx="761760" cy="841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7760" y="212868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148680" y="2286360"/>
              <a:ext cx="589680" cy="634320"/>
              <a:chOff x="148680" y="2286360"/>
              <a:chExt cx="589680" cy="63432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433080" y="2597040"/>
                <a:ext cx="264600" cy="126720"/>
                <a:chOff x="433080" y="2597040"/>
                <a:chExt cx="264600" cy="12672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433080" y="2597040"/>
                  <a:ext cx="26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97680" y="2597040"/>
                  <a:ext cx="0" cy="12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333360" y="2597040"/>
                <a:ext cx="104040" cy="323640"/>
                <a:chOff x="333360" y="2597040"/>
                <a:chExt cx="104040" cy="32364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37400" y="259704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333360" y="2920680"/>
                  <a:ext cx="10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176040" y="2468520"/>
                <a:ext cx="264240" cy="128160"/>
                <a:chOff x="176040" y="2468520"/>
                <a:chExt cx="264240" cy="128160"/>
              </a:xfrm>
            </p:grpSpPr>
            <p:sp>
              <p:nvSpPr>
                <p:cNvPr id="1290" name=""/>
                <p:cNvSpPr/>
                <p:nvPr/>
              </p:nvSpPr>
              <p:spPr>
                <a:xfrm flipH="1">
                  <a:off x="176040" y="2596680"/>
                  <a:ext cx="26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176040" y="2468520"/>
                  <a:ext cx="0" cy="1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437760" y="2286360"/>
                <a:ext cx="102600" cy="323640"/>
                <a:chOff x="437760" y="2286360"/>
                <a:chExt cx="102600" cy="323640"/>
              </a:xfrm>
            </p:grpSpPr>
            <p:sp>
              <p:nvSpPr>
                <p:cNvPr id="1293" name=""/>
                <p:cNvSpPr/>
                <p:nvPr/>
              </p:nvSpPr>
              <p:spPr>
                <a:xfrm flipV="1">
                  <a:off x="437760" y="228636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37760" y="228636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460800" y="2385360"/>
                <a:ext cx="277560" cy="187920"/>
                <a:chOff x="460800" y="2385360"/>
                <a:chExt cx="277560" cy="187920"/>
              </a:xfrm>
            </p:grpSpPr>
            <p:sp>
              <p:nvSpPr>
                <p:cNvPr id="1296" name=""/>
                <p:cNvSpPr/>
                <p:nvPr/>
              </p:nvSpPr>
              <p:spPr>
                <a:xfrm flipV="1">
                  <a:off x="460800" y="238536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48720" y="2385360"/>
                  <a:ext cx="89640" cy="8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216720" y="2297160"/>
                <a:ext cx="228960" cy="302400"/>
                <a:chOff x="216720" y="2297160"/>
                <a:chExt cx="228960" cy="302400"/>
              </a:xfrm>
            </p:grpSpPr>
            <p:sp>
              <p:nvSpPr>
                <p:cNvPr id="1299" name=""/>
                <p:cNvSpPr/>
                <p:nvPr/>
              </p:nvSpPr>
              <p:spPr>
                <a:xfrm flipH="1" flipV="1">
                  <a:off x="216720" y="2370600"/>
                  <a:ext cx="22896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216720" y="2297160"/>
                  <a:ext cx="73440" cy="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411480" y="2590560"/>
                <a:ext cx="228600" cy="301320"/>
                <a:chOff x="411480" y="2590560"/>
                <a:chExt cx="228600" cy="3013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411480" y="2590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567360" y="2819160"/>
                  <a:ext cx="7272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148680" y="2608200"/>
                <a:ext cx="277560" cy="187920"/>
                <a:chOff x="148680" y="2608200"/>
                <a:chExt cx="277560" cy="187920"/>
              </a:xfrm>
            </p:grpSpPr>
            <p:sp>
              <p:nvSpPr>
                <p:cNvPr id="1305" name=""/>
                <p:cNvSpPr/>
                <p:nvPr/>
              </p:nvSpPr>
              <p:spPr>
                <a:xfrm flipH="1">
                  <a:off x="238320" y="260820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 flipV="1">
                  <a:off x="148680" y="2706840"/>
                  <a:ext cx="89640" cy="8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7" name=""/>
            <p:cNvSpPr/>
            <p:nvPr/>
          </p:nvSpPr>
          <p:spPr>
            <a:xfrm flipV="1">
              <a:off x="299880" y="1814400"/>
              <a:ext cx="67356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629280" y="2707920"/>
              <a:ext cx="47160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6200000">
              <a:off x="-248040" y="3675600"/>
              <a:ext cx="1360440" cy="7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2680" y="302256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58640" y="30099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16200000">
              <a:off x="-243360" y="1401840"/>
              <a:ext cx="1360440" cy="7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5920" y="78732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61880" y="80028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609480" y="87624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1447920" y="1294920"/>
            <a:ext cx="38862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76320" y="3048120"/>
            <a:ext cx="1371600" cy="533160"/>
            <a:chOff x="76320" y="3048120"/>
            <a:chExt cx="1371600" cy="533160"/>
          </a:xfrm>
        </p:grpSpPr>
        <p:sp>
          <p:nvSpPr>
            <p:cNvPr id="1318" name=""/>
            <p:cNvSpPr/>
            <p:nvPr/>
          </p:nvSpPr>
          <p:spPr>
            <a:xfrm>
              <a:off x="76320" y="3048120"/>
              <a:ext cx="2286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219320" y="3048120"/>
              <a:ext cx="2286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4920" y="3124080"/>
              <a:ext cx="91440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4920" y="3276720"/>
              <a:ext cx="914400" cy="759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4920" y="3429000"/>
              <a:ext cx="914400" cy="763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1281240" y="3580920"/>
            <a:ext cx="1081080" cy="2539800"/>
            <a:chOff x="1281240" y="3580920"/>
            <a:chExt cx="1081080" cy="2539800"/>
          </a:xfrm>
        </p:grpSpPr>
        <p:sp>
          <p:nvSpPr>
            <p:cNvPr id="1324" name=""/>
            <p:cNvSpPr/>
            <p:nvPr/>
          </p:nvSpPr>
          <p:spPr>
            <a:xfrm flipV="1">
              <a:off x="1359000" y="358092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1282680" y="36064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281240" y="460836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248200" y="45968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2362320" y="4495320"/>
              <a:ext cx="0" cy="16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1358640" y="4495680"/>
              <a:ext cx="9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2209680" y="4495680"/>
            <a:ext cx="1524240" cy="114480"/>
            <a:chOff x="2209680" y="4495680"/>
            <a:chExt cx="1524240" cy="114480"/>
          </a:xfrm>
        </p:grpSpPr>
        <p:sp>
          <p:nvSpPr>
            <p:cNvPr id="1331" name=""/>
            <p:cNvSpPr/>
            <p:nvPr/>
          </p:nvSpPr>
          <p:spPr>
            <a:xfrm>
              <a:off x="2362320" y="4495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209680" y="461016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152280" y="3581280"/>
            <a:ext cx="1689120" cy="2565360"/>
            <a:chOff x="152280" y="3581280"/>
            <a:chExt cx="1689120" cy="2565360"/>
          </a:xfrm>
        </p:grpSpPr>
        <p:sp>
          <p:nvSpPr>
            <p:cNvPr id="1334" name=""/>
            <p:cNvSpPr/>
            <p:nvPr/>
          </p:nvSpPr>
          <p:spPr>
            <a:xfrm>
              <a:off x="996840" y="507996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22320" y="5156280"/>
              <a:ext cx="8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914400" y="373392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28600" y="3657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1003320" y="365760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5228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2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28600" y="35812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66680" y="4851360"/>
              <a:ext cx="53352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1131480" y="4924440"/>
              <a:ext cx="409680" cy="382320"/>
              <a:chOff x="1131480" y="4924440"/>
              <a:chExt cx="409680" cy="38232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1333440" y="5110200"/>
                <a:ext cx="193320" cy="76320"/>
                <a:chOff x="1333440" y="5110200"/>
                <a:chExt cx="193320" cy="7632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1333440" y="51102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526760" y="51102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1260000" y="5110200"/>
                <a:ext cx="75960" cy="193680"/>
                <a:chOff x="1260000" y="5110200"/>
                <a:chExt cx="75960" cy="1936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1335960" y="511020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>
                  <a:off x="1260000" y="530388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145520" y="5033880"/>
                <a:ext cx="193320" cy="76320"/>
                <a:chOff x="1145520" y="5033880"/>
                <a:chExt cx="193320" cy="76320"/>
              </a:xfrm>
            </p:grpSpPr>
            <p:sp>
              <p:nvSpPr>
                <p:cNvPr id="1351" name=""/>
                <p:cNvSpPr/>
                <p:nvPr/>
              </p:nvSpPr>
              <p:spPr>
                <a:xfrm flipH="1">
                  <a:off x="1145520" y="51102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1145520" y="50338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1336680" y="4924440"/>
                <a:ext cx="75600" cy="193680"/>
                <a:chOff x="1336680" y="4924440"/>
                <a:chExt cx="75600" cy="193680"/>
              </a:xfrm>
            </p:grpSpPr>
            <p:sp>
              <p:nvSpPr>
                <p:cNvPr id="1354" name=""/>
                <p:cNvSpPr/>
                <p:nvPr/>
              </p:nvSpPr>
              <p:spPr>
                <a:xfrm flipV="1">
                  <a:off x="1336680" y="49244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1336680" y="4924440"/>
                  <a:ext cx="7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1350720" y="4964040"/>
                <a:ext cx="190440" cy="136800"/>
                <a:chOff x="1350720" y="4964040"/>
                <a:chExt cx="190440" cy="136800"/>
              </a:xfrm>
            </p:grpSpPr>
            <p:sp>
              <p:nvSpPr>
                <p:cNvPr id="1357" name=""/>
                <p:cNvSpPr/>
                <p:nvPr/>
              </p:nvSpPr>
              <p:spPr>
                <a:xfrm flipV="1">
                  <a:off x="1350720" y="496404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1487160" y="496404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1190520" y="4926240"/>
                <a:ext cx="136800" cy="190080"/>
                <a:chOff x="1190520" y="4926240"/>
                <a:chExt cx="136800" cy="190080"/>
              </a:xfrm>
            </p:grpSpPr>
            <p:sp>
              <p:nvSpPr>
                <p:cNvPr id="1360" name=""/>
                <p:cNvSpPr/>
                <p:nvPr/>
              </p:nvSpPr>
              <p:spPr>
                <a:xfrm flipH="1" flipV="1">
                  <a:off x="1190520" y="49795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1190520" y="492624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1332720" y="5116680"/>
                <a:ext cx="136800" cy="190080"/>
                <a:chOff x="1332720" y="5116680"/>
                <a:chExt cx="136800" cy="1900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1332720" y="51166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1416240" y="525348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1131480" y="5127480"/>
                <a:ext cx="190440" cy="136800"/>
                <a:chOff x="1131480" y="5127480"/>
                <a:chExt cx="190440" cy="136800"/>
              </a:xfrm>
            </p:grpSpPr>
            <p:sp>
              <p:nvSpPr>
                <p:cNvPr id="1366" name=""/>
                <p:cNvSpPr/>
                <p:nvPr/>
              </p:nvSpPr>
              <p:spPr>
                <a:xfrm flipH="1">
                  <a:off x="1185480" y="512748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flipV="1">
                  <a:off x="1131480" y="52102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8" name=""/>
            <p:cNvSpPr/>
            <p:nvPr/>
          </p:nvSpPr>
          <p:spPr>
            <a:xfrm>
              <a:off x="1752480" y="51562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41400" y="50925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 flipH="1">
            <a:off x="1523880" y="2286000"/>
            <a:ext cx="3810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837720" y="2819520"/>
            <a:ext cx="4496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371240" y="5410080"/>
            <a:ext cx="3962880" cy="152640"/>
            <a:chOff x="1371240" y="5410080"/>
            <a:chExt cx="3962880" cy="152640"/>
          </a:xfrm>
        </p:grpSpPr>
        <p:sp>
          <p:nvSpPr>
            <p:cNvPr id="1373" name=""/>
            <p:cNvSpPr/>
            <p:nvPr/>
          </p:nvSpPr>
          <p:spPr>
            <a:xfrm flipH="1">
              <a:off x="1523880" y="556272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1371600" y="541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1371240" y="55627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6" name=""/>
          <p:cNvSpPr/>
          <p:nvPr/>
        </p:nvSpPr>
        <p:spPr>
          <a:xfrm flipH="1" flipV="1">
            <a:off x="4952520" y="54100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69480" y="76320"/>
            <a:ext cx="40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de refroidiss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1589040" y="4052880"/>
            <a:ext cx="1244520" cy="368280"/>
            <a:chOff x="1589040" y="4052880"/>
            <a:chExt cx="1244520" cy="368280"/>
          </a:xfrm>
        </p:grpSpPr>
        <p:sp>
          <p:nvSpPr>
            <p:cNvPr id="1382" name=""/>
            <p:cNvSpPr/>
            <p:nvPr/>
          </p:nvSpPr>
          <p:spPr>
            <a:xfrm>
              <a:off x="1665000" y="439596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589040" y="405288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u cha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446040" y="4038480"/>
            <a:ext cx="368280" cy="1142280"/>
            <a:chOff x="446040" y="4038480"/>
            <a:chExt cx="368280" cy="1142280"/>
          </a:xfrm>
        </p:grpSpPr>
        <p:sp>
          <p:nvSpPr>
            <p:cNvPr id="1385" name=""/>
            <p:cNvSpPr/>
            <p:nvPr/>
          </p:nvSpPr>
          <p:spPr>
            <a:xfrm flipV="1">
              <a:off x="801720" y="406404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6200000">
              <a:off x="59040" y="442548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u fro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76320" y="759960"/>
            <a:ext cx="5257800" cy="4726080"/>
            <a:chOff x="76320" y="759960"/>
            <a:chExt cx="5257800" cy="4726080"/>
          </a:xfrm>
        </p:grpSpPr>
        <p:grpSp>
          <p:nvGrpSpPr>
            <p:cNvPr id="1388" name=""/>
            <p:cNvGrpSpPr/>
            <p:nvPr/>
          </p:nvGrpSpPr>
          <p:grpSpPr>
            <a:xfrm>
              <a:off x="2286000" y="1905120"/>
              <a:ext cx="3048120" cy="3580920"/>
              <a:chOff x="2286000" y="1905120"/>
              <a:chExt cx="3048120" cy="35809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484720" y="4743360"/>
                <a:ext cx="2786040" cy="742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86000" y="4495680"/>
                <a:ext cx="3048120" cy="577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540160" y="4787640"/>
                <a:ext cx="2698560" cy="5331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514600" y="4533840"/>
                <a:ext cx="2743200" cy="532800"/>
              </a:xfrm>
              <a:custGeom>
                <a:avLst/>
                <a:gdLst/>
                <a:ahLst/>
                <a:rect l="l" t="t" r="r" b="b"/>
                <a:pathLst>
                  <a:path w="1728" h="336">
                    <a:moveTo>
                      <a:pt x="192" y="0"/>
                    </a:moveTo>
                    <a:lnTo>
                      <a:pt x="1536" y="0"/>
                    </a:lnTo>
                    <a:lnTo>
                      <a:pt x="1728" y="336"/>
                    </a:lnTo>
                    <a:lnTo>
                      <a:pt x="0" y="336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203720" y="530856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505320" y="530856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162600" y="528300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895840" y="523224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641680" y="5181480"/>
                <a:ext cx="7632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59400" y="5283000"/>
                <a:ext cx="7632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64320" y="523224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105520" y="516888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2514600" y="4533840"/>
                <a:ext cx="30492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flipV="1">
                <a:off x="4953240" y="4533840"/>
                <a:ext cx="3045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953240" y="4533840"/>
                <a:ext cx="18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711680" y="4635360"/>
                <a:ext cx="18756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4876920" y="4533840"/>
                <a:ext cx="76320" cy="76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609800" y="4647960"/>
                <a:ext cx="1112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4267080" y="4686120"/>
                <a:ext cx="7596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356360" y="4686120"/>
                <a:ext cx="25848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2666880" y="4533840"/>
                <a:ext cx="15228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2666880" y="4609800"/>
                <a:ext cx="22860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895840" y="4609800"/>
                <a:ext cx="396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124440" y="4686120"/>
                <a:ext cx="7596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429000" y="4686120"/>
                <a:ext cx="11916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3200040" y="4686120"/>
                <a:ext cx="2286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2908080" y="4660560"/>
                <a:ext cx="22860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6" name=""/>
              <p:cNvGrpSpPr/>
              <p:nvPr/>
            </p:nvGrpSpPr>
            <p:grpSpPr>
              <a:xfrm>
                <a:off x="2819520" y="1905120"/>
                <a:ext cx="2133720" cy="2793240"/>
                <a:chOff x="2819520" y="1905120"/>
                <a:chExt cx="2133720" cy="2793240"/>
              </a:xfrm>
            </p:grpSpPr>
            <p:grpSp>
              <p:nvGrpSpPr>
                <p:cNvPr id="1417" name=""/>
                <p:cNvGrpSpPr/>
                <p:nvPr/>
              </p:nvGrpSpPr>
              <p:grpSpPr>
                <a:xfrm>
                  <a:off x="2819520" y="1905120"/>
                  <a:ext cx="2133720" cy="2755080"/>
                  <a:chOff x="2819520" y="1905120"/>
                  <a:chExt cx="2133720" cy="275508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2819520" y="4431960"/>
                    <a:ext cx="2133720" cy="2282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2819520" y="2031840"/>
                    <a:ext cx="1066680" cy="251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584">
                        <a:moveTo>
                          <a:pt x="0" y="1584"/>
                        </a:moveTo>
                        <a:lnTo>
                          <a:pt x="192" y="1056"/>
                        </a:lnTo>
                        <a:lnTo>
                          <a:pt x="240" y="864"/>
                        </a:lnTo>
                        <a:lnTo>
                          <a:pt x="288" y="624"/>
                        </a:lnTo>
                        <a:lnTo>
                          <a:pt x="288" y="576"/>
                        </a:lnTo>
                        <a:lnTo>
                          <a:pt x="288" y="528"/>
                        </a:lnTo>
                        <a:lnTo>
                          <a:pt x="288" y="0"/>
                        </a:lnTo>
                        <a:lnTo>
                          <a:pt x="672" y="0"/>
                        </a:lnTo>
                        <a:lnTo>
                          <a:pt x="672" y="1584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H="1">
                    <a:off x="3886200" y="2031840"/>
                    <a:ext cx="1067040" cy="251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584">
                        <a:moveTo>
                          <a:pt x="0" y="1584"/>
                        </a:moveTo>
                        <a:lnTo>
                          <a:pt x="192" y="1056"/>
                        </a:lnTo>
                        <a:lnTo>
                          <a:pt x="240" y="864"/>
                        </a:lnTo>
                        <a:lnTo>
                          <a:pt x="288" y="624"/>
                        </a:lnTo>
                        <a:lnTo>
                          <a:pt x="288" y="576"/>
                        </a:lnTo>
                        <a:lnTo>
                          <a:pt x="288" y="528"/>
                        </a:lnTo>
                        <a:lnTo>
                          <a:pt x="288" y="0"/>
                        </a:lnTo>
                        <a:lnTo>
                          <a:pt x="672" y="0"/>
                        </a:lnTo>
                        <a:lnTo>
                          <a:pt x="672" y="1584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3276720" y="1905120"/>
                    <a:ext cx="1216080" cy="228240"/>
                  </a:xfrm>
                  <a:prstGeom prst="ellipse">
                    <a:avLst/>
                  </a:prstGeom>
                  <a:solidFill>
                    <a:srgbClr val="4d4d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721320" y="2158920"/>
                    <a:ext cx="304560" cy="236160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2857680" y="4546440"/>
                    <a:ext cx="2057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4" name=""/>
                <p:cNvSpPr/>
                <p:nvPr/>
              </p:nvSpPr>
              <p:spPr>
                <a:xfrm>
                  <a:off x="2819520" y="4431960"/>
                  <a:ext cx="2133720" cy="2282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819520" y="2044440"/>
                  <a:ext cx="106668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>
                  <a:off x="3886200" y="2044440"/>
                  <a:ext cx="106704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721320" y="2171520"/>
                  <a:ext cx="304560" cy="23619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857680" y="4559040"/>
                  <a:ext cx="205740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3429000" y="1993680"/>
                  <a:ext cx="990720" cy="266652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3276720" y="1917360"/>
                  <a:ext cx="1216080" cy="228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>
                  <a:off x="3809880" y="2145960"/>
                  <a:ext cx="22860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819520" y="4457520"/>
                  <a:ext cx="213372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3124440" y="4495680"/>
                  <a:ext cx="15588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908440" y="4520880"/>
                  <a:ext cx="1558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381480" y="4457520"/>
                  <a:ext cx="15588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819520" y="4546440"/>
                  <a:ext cx="109044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3951360" y="4444920"/>
                  <a:ext cx="92556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994120" y="2082600"/>
                  <a:ext cx="816120" cy="259056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2895840" y="2070000"/>
                  <a:ext cx="81576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845080" y="4356000"/>
                  <a:ext cx="457200" cy="304200"/>
                </a:xfrm>
                <a:custGeom>
                  <a:avLst/>
                  <a:gdLst/>
                  <a:ahLst/>
                  <a:rect l="l" t="t" r="r" b="b"/>
                  <a:pathLst>
                    <a:path w="288" h="192">
                      <a:moveTo>
                        <a:pt x="48" y="0"/>
                      </a:moveTo>
                      <a:lnTo>
                        <a:pt x="288" y="192"/>
                      </a:lnTo>
                      <a:lnTo>
                        <a:pt x="240" y="192"/>
                      </a:lnTo>
                      <a:lnTo>
                        <a:pt x="192" y="192"/>
                      </a:lnTo>
                      <a:lnTo>
                        <a:pt x="144" y="144"/>
                      </a:lnTo>
                      <a:lnTo>
                        <a:pt x="192" y="192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4023000" y="2070000"/>
                  <a:ext cx="81576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4063320" y="2070000"/>
                  <a:ext cx="81612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4496040" y="4356000"/>
                  <a:ext cx="457200" cy="304200"/>
                </a:xfrm>
                <a:custGeom>
                  <a:avLst/>
                  <a:gdLst/>
                  <a:ahLst/>
                  <a:rect l="l" t="t" r="r" b="b"/>
                  <a:pathLst>
                    <a:path w="288" h="192">
                      <a:moveTo>
                        <a:pt x="48" y="0"/>
                      </a:moveTo>
                      <a:lnTo>
                        <a:pt x="288" y="192"/>
                      </a:lnTo>
                      <a:lnTo>
                        <a:pt x="240" y="192"/>
                      </a:lnTo>
                      <a:lnTo>
                        <a:pt x="192" y="192"/>
                      </a:lnTo>
                      <a:lnTo>
                        <a:pt x="144" y="144"/>
                      </a:lnTo>
                      <a:lnTo>
                        <a:pt x="192" y="192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"/>
              <p:cNvSpPr/>
              <p:nvPr/>
            </p:nvSpPr>
            <p:spPr>
              <a:xfrm>
                <a:off x="3505320" y="4559040"/>
                <a:ext cx="76212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48" y="48"/>
                    </a:moveTo>
                    <a:lnTo>
                      <a:pt x="192" y="48"/>
                    </a:lnTo>
                    <a:lnTo>
                      <a:pt x="240" y="0"/>
                    </a:lnTo>
                    <a:lnTo>
                      <a:pt x="336" y="0"/>
                    </a:lnTo>
                    <a:lnTo>
                      <a:pt x="384" y="48"/>
                    </a:lnTo>
                    <a:lnTo>
                      <a:pt x="480" y="48"/>
                    </a:lnTo>
                    <a:lnTo>
                      <a:pt x="480" y="192"/>
                    </a:lnTo>
                    <a:lnTo>
                      <a:pt x="48" y="192"/>
                    </a:lnTo>
                    <a:lnTo>
                      <a:pt x="0" y="48"/>
                    </a:lnTo>
                    <a:lnTo>
                      <a:pt x="144" y="48"/>
                    </a:lnTo>
                    <a:lnTo>
                      <a:pt x="192" y="48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505320" y="4609800"/>
                <a:ext cx="76212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48" y="48"/>
                    </a:moveTo>
                    <a:lnTo>
                      <a:pt x="192" y="48"/>
                    </a:lnTo>
                    <a:lnTo>
                      <a:pt x="240" y="0"/>
                    </a:lnTo>
                    <a:lnTo>
                      <a:pt x="336" y="0"/>
                    </a:lnTo>
                    <a:lnTo>
                      <a:pt x="384" y="48"/>
                    </a:lnTo>
                    <a:lnTo>
                      <a:pt x="480" y="48"/>
                    </a:lnTo>
                    <a:lnTo>
                      <a:pt x="480" y="192"/>
                    </a:lnTo>
                    <a:lnTo>
                      <a:pt x="48" y="192"/>
                    </a:lnTo>
                    <a:lnTo>
                      <a:pt x="0" y="48"/>
                    </a:lnTo>
                    <a:lnTo>
                      <a:pt x="144" y="48"/>
                    </a:lnTo>
                    <a:lnTo>
                      <a:pt x="192" y="4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1752480" y="5079960"/>
              <a:ext cx="2133720" cy="76320"/>
              <a:chOff x="1752480" y="5079960"/>
              <a:chExt cx="2133720" cy="76320"/>
            </a:xfrm>
          </p:grpSpPr>
          <p:sp>
            <p:nvSpPr>
              <p:cNvPr id="1447" name=""/>
              <p:cNvSpPr/>
              <p:nvPr/>
            </p:nvSpPr>
            <p:spPr>
              <a:xfrm>
                <a:off x="1828800" y="507996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752480" y="515628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77760" y="759960"/>
              <a:ext cx="1320840" cy="3633840"/>
              <a:chOff x="77760" y="759960"/>
              <a:chExt cx="1320840" cy="3633840"/>
            </a:xfrm>
          </p:grpSpPr>
          <p:sp>
            <p:nvSpPr>
              <p:cNvPr id="1450" name=""/>
              <p:cNvSpPr/>
              <p:nvPr/>
            </p:nvSpPr>
            <p:spPr>
              <a:xfrm>
                <a:off x="77760" y="2133720"/>
                <a:ext cx="731880" cy="8935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66720" y="1828800"/>
                <a:ext cx="731880" cy="893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9922400">
                <a:off x="382680" y="1980720"/>
                <a:ext cx="761760" cy="841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7760" y="2128680"/>
                <a:ext cx="731880" cy="893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4" name=""/>
              <p:cNvGrpSpPr/>
              <p:nvPr/>
            </p:nvGrpSpPr>
            <p:grpSpPr>
              <a:xfrm>
                <a:off x="148680" y="2286360"/>
                <a:ext cx="589680" cy="634320"/>
                <a:chOff x="148680" y="2286360"/>
                <a:chExt cx="589680" cy="634320"/>
              </a:xfrm>
            </p:grpSpPr>
            <p:grpSp>
              <p:nvGrpSpPr>
                <p:cNvPr id="1455" name=""/>
                <p:cNvGrpSpPr/>
                <p:nvPr/>
              </p:nvGrpSpPr>
              <p:grpSpPr>
                <a:xfrm>
                  <a:off x="433080" y="2597040"/>
                  <a:ext cx="264600" cy="126720"/>
                  <a:chOff x="433080" y="2597040"/>
                  <a:chExt cx="264600" cy="12672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433080" y="2597040"/>
                    <a:ext cx="264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697680" y="259704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8" name=""/>
                <p:cNvGrpSpPr/>
                <p:nvPr/>
              </p:nvGrpSpPr>
              <p:grpSpPr>
                <a:xfrm>
                  <a:off x="333360" y="2597040"/>
                  <a:ext cx="104040" cy="323640"/>
                  <a:chOff x="333360" y="2597040"/>
                  <a:chExt cx="104040" cy="32364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>
                    <a:off x="437400" y="2597040"/>
                    <a:ext cx="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>
                    <a:off x="333360" y="2920680"/>
                    <a:ext cx="104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1" name=""/>
                <p:cNvGrpSpPr/>
                <p:nvPr/>
              </p:nvGrpSpPr>
              <p:grpSpPr>
                <a:xfrm>
                  <a:off x="176040" y="2468520"/>
                  <a:ext cx="264240" cy="128160"/>
                  <a:chOff x="176040" y="2468520"/>
                  <a:chExt cx="264240" cy="128160"/>
                </a:xfrm>
              </p:grpSpPr>
              <p:sp>
                <p:nvSpPr>
                  <p:cNvPr id="1462" name=""/>
                  <p:cNvSpPr/>
                  <p:nvPr/>
                </p:nvSpPr>
                <p:spPr>
                  <a:xfrm flipH="1">
                    <a:off x="176040" y="2596680"/>
                    <a:ext cx="264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V="1">
                    <a:off x="176040" y="2468520"/>
                    <a:ext cx="0" cy="128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4" name=""/>
                <p:cNvGrpSpPr/>
                <p:nvPr/>
              </p:nvGrpSpPr>
              <p:grpSpPr>
                <a:xfrm>
                  <a:off x="437760" y="2286360"/>
                  <a:ext cx="102600" cy="323640"/>
                  <a:chOff x="437760" y="2286360"/>
                  <a:chExt cx="102600" cy="323640"/>
                </a:xfrm>
              </p:grpSpPr>
              <p:sp>
                <p:nvSpPr>
                  <p:cNvPr id="1465" name=""/>
                  <p:cNvSpPr/>
                  <p:nvPr/>
                </p:nvSpPr>
                <p:spPr>
                  <a:xfrm flipV="1">
                    <a:off x="437760" y="2286360"/>
                    <a:ext cx="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437760" y="2286360"/>
                    <a:ext cx="102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7" name=""/>
                <p:cNvGrpSpPr/>
                <p:nvPr/>
              </p:nvGrpSpPr>
              <p:grpSpPr>
                <a:xfrm>
                  <a:off x="460800" y="2385360"/>
                  <a:ext cx="277560" cy="187920"/>
                  <a:chOff x="460800" y="2385360"/>
                  <a:chExt cx="277560" cy="18792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 flipV="1">
                    <a:off x="460800" y="2385360"/>
                    <a:ext cx="187920" cy="18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48720" y="2385360"/>
                    <a:ext cx="89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0" name=""/>
                <p:cNvGrpSpPr/>
                <p:nvPr/>
              </p:nvGrpSpPr>
              <p:grpSpPr>
                <a:xfrm>
                  <a:off x="216720" y="2297160"/>
                  <a:ext cx="228960" cy="302400"/>
                  <a:chOff x="216720" y="2297160"/>
                  <a:chExt cx="228960" cy="302400"/>
                </a:xfrm>
              </p:grpSpPr>
              <p:sp>
                <p:nvSpPr>
                  <p:cNvPr id="1471" name=""/>
                  <p:cNvSpPr/>
                  <p:nvPr/>
                </p:nvSpPr>
                <p:spPr>
                  <a:xfrm flipH="1" flipV="1">
                    <a:off x="216720" y="2370600"/>
                    <a:ext cx="228960" cy="228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216720" y="2297160"/>
                    <a:ext cx="73440" cy="7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3" name=""/>
                <p:cNvGrpSpPr/>
                <p:nvPr/>
              </p:nvGrpSpPr>
              <p:grpSpPr>
                <a:xfrm>
                  <a:off x="411480" y="2590560"/>
                  <a:ext cx="228600" cy="301320"/>
                  <a:chOff x="411480" y="2590560"/>
                  <a:chExt cx="228600" cy="301320"/>
                </a:xfrm>
              </p:grpSpPr>
              <p:sp>
                <p:nvSpPr>
                  <p:cNvPr id="1474" name=""/>
                  <p:cNvSpPr/>
                  <p:nvPr/>
                </p:nvSpPr>
                <p:spPr>
                  <a:xfrm>
                    <a:off x="411480" y="2590560"/>
                    <a:ext cx="22860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flipH="1">
                    <a:off x="567360" y="2819160"/>
                    <a:ext cx="72720" cy="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148680" y="2608200"/>
                  <a:ext cx="277560" cy="187920"/>
                  <a:chOff x="148680" y="2608200"/>
                  <a:chExt cx="277560" cy="18792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 flipH="1">
                    <a:off x="238320" y="2608200"/>
                    <a:ext cx="187920" cy="18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H="1" flipV="1">
                    <a:off x="148680" y="2706840"/>
                    <a:ext cx="89640" cy="8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79" name=""/>
              <p:cNvSpPr/>
              <p:nvPr/>
            </p:nvSpPr>
            <p:spPr>
              <a:xfrm flipV="1">
                <a:off x="299880" y="1814400"/>
                <a:ext cx="673560" cy="35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29280" y="2707920"/>
                <a:ext cx="471600" cy="24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16200000">
                <a:off x="-248040" y="3675600"/>
                <a:ext cx="1360440" cy="75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2680" y="3022560"/>
                <a:ext cx="0" cy="13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58640" y="3009960"/>
                <a:ext cx="0" cy="13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6200000">
                <a:off x="-243360" y="1401840"/>
                <a:ext cx="1360440" cy="76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85920" y="787320"/>
                <a:ext cx="0" cy="13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1880" y="800280"/>
                <a:ext cx="0" cy="13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76320" y="3048120"/>
              <a:ext cx="1371600" cy="533160"/>
              <a:chOff x="76320" y="3048120"/>
              <a:chExt cx="1371600" cy="533160"/>
            </a:xfrm>
          </p:grpSpPr>
          <p:sp>
            <p:nvSpPr>
              <p:cNvPr id="1488" name=""/>
              <p:cNvSpPr/>
              <p:nvPr/>
            </p:nvSpPr>
            <p:spPr>
              <a:xfrm>
                <a:off x="76320" y="3048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219320" y="3048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04920" y="312408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04920" y="3276720"/>
                <a:ext cx="914400" cy="75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04920" y="342900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 flipV="1">
              <a:off x="1359000" y="3581280"/>
              <a:ext cx="0" cy="9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282680" y="3606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81240" y="460836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1358640" y="4495680"/>
              <a:ext cx="9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2209680" y="4495680"/>
              <a:ext cx="1524240" cy="114480"/>
              <a:chOff x="2209680" y="4495680"/>
              <a:chExt cx="1524240" cy="114480"/>
            </a:xfrm>
          </p:grpSpPr>
          <p:sp>
            <p:nvSpPr>
              <p:cNvPr id="1498" name=""/>
              <p:cNvSpPr/>
              <p:nvPr/>
            </p:nvSpPr>
            <p:spPr>
              <a:xfrm>
                <a:off x="2362320" y="449568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209680" y="461016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996840" y="5079960"/>
              <a:ext cx="83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922320" y="5156280"/>
              <a:ext cx="8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914400" y="373392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8600" y="3657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990720" y="365760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52280" y="3733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5228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8600" y="35812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66680" y="4851360"/>
              <a:ext cx="533520" cy="5335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969840" y="5081760"/>
            <a:ext cx="84780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rot="5400000">
            <a:off x="232920" y="4386240"/>
            <a:ext cx="146520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87200" y="3657600"/>
            <a:ext cx="81756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rot="5400000">
            <a:off x="112320" y="3619440"/>
            <a:ext cx="154080" cy="74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284120" y="4495680"/>
            <a:ext cx="2449800" cy="112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rot="5400000">
            <a:off x="827280" y="4039200"/>
            <a:ext cx="99072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600200" y="5092560"/>
            <a:ext cx="2274840" cy="8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055520" y="4838760"/>
            <a:ext cx="533520" cy="53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1120320" y="4915080"/>
            <a:ext cx="409680" cy="382320"/>
            <a:chOff x="1120320" y="4915080"/>
            <a:chExt cx="409680" cy="382320"/>
          </a:xfrm>
        </p:grpSpPr>
        <p:grpSp>
          <p:nvGrpSpPr>
            <p:cNvPr id="1518" name=""/>
            <p:cNvGrpSpPr/>
            <p:nvPr/>
          </p:nvGrpSpPr>
          <p:grpSpPr>
            <a:xfrm>
              <a:off x="1322280" y="5100840"/>
              <a:ext cx="193320" cy="76320"/>
              <a:chOff x="1322280" y="5100840"/>
              <a:chExt cx="193320" cy="76320"/>
            </a:xfrm>
          </p:grpSpPr>
          <p:sp>
            <p:nvSpPr>
              <p:cNvPr id="1519" name=""/>
              <p:cNvSpPr/>
              <p:nvPr/>
            </p:nvSpPr>
            <p:spPr>
              <a:xfrm>
                <a:off x="1322280" y="51008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515600" y="51008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1248840" y="5100840"/>
              <a:ext cx="75960" cy="193680"/>
              <a:chOff x="1248840" y="5100840"/>
              <a:chExt cx="75960" cy="193680"/>
            </a:xfrm>
          </p:grpSpPr>
          <p:sp>
            <p:nvSpPr>
              <p:cNvPr id="1522" name=""/>
              <p:cNvSpPr/>
              <p:nvPr/>
            </p:nvSpPr>
            <p:spPr>
              <a:xfrm>
                <a:off x="1324800" y="51008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1248840" y="529452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1134360" y="5024520"/>
              <a:ext cx="193320" cy="76320"/>
              <a:chOff x="1134360" y="5024520"/>
              <a:chExt cx="193320" cy="76320"/>
            </a:xfrm>
          </p:grpSpPr>
          <p:sp>
            <p:nvSpPr>
              <p:cNvPr id="1525" name=""/>
              <p:cNvSpPr/>
              <p:nvPr/>
            </p:nvSpPr>
            <p:spPr>
              <a:xfrm flipH="1">
                <a:off x="1134360" y="51008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134360" y="50245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1325520" y="4915080"/>
              <a:ext cx="75600" cy="193680"/>
              <a:chOff x="1325520" y="4915080"/>
              <a:chExt cx="75600" cy="193680"/>
            </a:xfrm>
          </p:grpSpPr>
          <p:sp>
            <p:nvSpPr>
              <p:cNvPr id="1528" name=""/>
              <p:cNvSpPr/>
              <p:nvPr/>
            </p:nvSpPr>
            <p:spPr>
              <a:xfrm flipV="1">
                <a:off x="1325520" y="49150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25520" y="491508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1339560" y="4954680"/>
              <a:ext cx="190440" cy="136800"/>
              <a:chOff x="1339560" y="4954680"/>
              <a:chExt cx="190440" cy="136800"/>
            </a:xfrm>
          </p:grpSpPr>
          <p:sp>
            <p:nvSpPr>
              <p:cNvPr id="1531" name=""/>
              <p:cNvSpPr/>
              <p:nvPr/>
            </p:nvSpPr>
            <p:spPr>
              <a:xfrm flipV="1">
                <a:off x="1339560" y="495468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476000" y="49546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1179360" y="4916880"/>
              <a:ext cx="136800" cy="190080"/>
              <a:chOff x="1179360" y="4916880"/>
              <a:chExt cx="136800" cy="190080"/>
            </a:xfrm>
          </p:grpSpPr>
          <p:sp>
            <p:nvSpPr>
              <p:cNvPr id="1534" name=""/>
              <p:cNvSpPr/>
              <p:nvPr/>
            </p:nvSpPr>
            <p:spPr>
              <a:xfrm flipH="1" flipV="1">
                <a:off x="1179360" y="497016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1179360" y="491688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321560" y="5107320"/>
              <a:ext cx="136800" cy="190080"/>
              <a:chOff x="1321560" y="5107320"/>
              <a:chExt cx="136800" cy="190080"/>
            </a:xfrm>
          </p:grpSpPr>
          <p:sp>
            <p:nvSpPr>
              <p:cNvPr id="1537" name=""/>
              <p:cNvSpPr/>
              <p:nvPr/>
            </p:nvSpPr>
            <p:spPr>
              <a:xfrm>
                <a:off x="1321560" y="51073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1405080" y="524412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120320" y="5118120"/>
              <a:ext cx="190440" cy="136800"/>
              <a:chOff x="1120320" y="5118120"/>
              <a:chExt cx="190440" cy="136800"/>
            </a:xfrm>
          </p:grpSpPr>
          <p:sp>
            <p:nvSpPr>
              <p:cNvPr id="1540" name=""/>
              <p:cNvSpPr/>
              <p:nvPr/>
            </p:nvSpPr>
            <p:spPr>
              <a:xfrm flipH="1">
                <a:off x="1174320" y="511812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 flipV="1">
                <a:off x="1120320" y="520092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2" name=""/>
          <p:cNvGrpSpPr/>
          <p:nvPr/>
        </p:nvGrpSpPr>
        <p:grpSpPr>
          <a:xfrm>
            <a:off x="3733920" y="914400"/>
            <a:ext cx="380880" cy="3655080"/>
            <a:chOff x="3733920" y="914400"/>
            <a:chExt cx="380880" cy="3655080"/>
          </a:xfrm>
        </p:grpSpPr>
        <p:sp>
          <p:nvSpPr>
            <p:cNvPr id="1543" name=""/>
            <p:cNvSpPr/>
            <p:nvPr/>
          </p:nvSpPr>
          <p:spPr>
            <a:xfrm>
              <a:off x="3733920" y="914400"/>
              <a:ext cx="45360" cy="365508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45520" y="914400"/>
              <a:ext cx="45360" cy="365508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57120" y="914400"/>
              <a:ext cx="45360" cy="365508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069440" y="914400"/>
              <a:ext cx="45360" cy="365508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5185800" y="4619160"/>
            <a:ext cx="1609560" cy="903600"/>
            <a:chOff x="5185800" y="4619160"/>
            <a:chExt cx="1609560" cy="903600"/>
          </a:xfrm>
        </p:grpSpPr>
        <p:sp>
          <p:nvSpPr>
            <p:cNvPr id="1548" name=""/>
            <p:cNvSpPr/>
            <p:nvPr/>
          </p:nvSpPr>
          <p:spPr>
            <a:xfrm rot="17086200">
              <a:off x="5977800" y="4562640"/>
              <a:ext cx="30456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7086200">
              <a:off x="5012280" y="490212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144"/>
                  </a:moveTo>
                  <a:lnTo>
                    <a:pt x="480" y="144"/>
                  </a:lnTo>
                  <a:lnTo>
                    <a:pt x="24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6946200" y="51814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nt d 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953880" y="13644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 d ’un fleuve à débit trop fa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561920" y="822240"/>
            <a:ext cx="459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) L ’eau froide, située, au bas de la 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st pompée et se réchauffe en passant d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e condens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637160" y="1812960"/>
            <a:ext cx="455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2) L ’eau chaude sortant du condenseur 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amenée à la base de la tour et ruiss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ur des plaques ajour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637520" y="2819520"/>
            <a:ext cx="396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L ’eau est refroidie au contac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ant d ’air qui monte dans la t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04480" y="5851440"/>
            <a:ext cx="870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e système de tour de refroidissement permet de prélever 20 à 30 fois moins d 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ns le fleu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 ’eau tiède peut être récupérée et utilisée pour chauffer des serres, bâtiment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124080" y="533520"/>
            <a:ext cx="761760" cy="1523880"/>
            <a:chOff x="3124080" y="533520"/>
            <a:chExt cx="761760" cy="1523880"/>
          </a:xfrm>
        </p:grpSpPr>
        <p:sp>
          <p:nvSpPr>
            <p:cNvPr id="1557" name=""/>
            <p:cNvSpPr/>
            <p:nvPr/>
          </p:nvSpPr>
          <p:spPr>
            <a:xfrm>
              <a:off x="3352680" y="762120"/>
              <a:ext cx="30456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24080" y="533520"/>
              <a:ext cx="761760" cy="228600"/>
            </a:xfrm>
            <a:custGeom>
              <a:avLst/>
              <a:gdLst/>
              <a:ahLst/>
              <a:rect l="l" t="t" r="r" b="b"/>
              <a:pathLst>
                <a:path w="480" h="144">
                  <a:moveTo>
                    <a:pt x="0" y="144"/>
                  </a:moveTo>
                  <a:lnTo>
                    <a:pt x="480" y="144"/>
                  </a:lnTo>
                  <a:lnTo>
                    <a:pt x="24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>
            <a:hlinkClick r:id="" action="ppaction://hlinkshowjump?jump=nextslide"/>
          </p:cNvPr>
          <p:cNvSpPr/>
          <p:nvPr/>
        </p:nvSpPr>
        <p:spPr>
          <a:xfrm>
            <a:off x="891540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firstslide"/>
          </p:cNvPr>
          <p:cNvSpPr/>
          <p:nvPr/>
        </p:nvSpPr>
        <p:spPr>
          <a:xfrm>
            <a:off x="845820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70560" y="76320"/>
            <a:ext cx="41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 trois circuits indépend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52280" y="838080"/>
            <a:ext cx="9068040" cy="5790960"/>
            <a:chOff x="152280" y="838080"/>
            <a:chExt cx="9068040" cy="5790960"/>
          </a:xfrm>
        </p:grpSpPr>
        <p:grpSp>
          <p:nvGrpSpPr>
            <p:cNvPr id="1564" name=""/>
            <p:cNvGrpSpPr/>
            <p:nvPr/>
          </p:nvGrpSpPr>
          <p:grpSpPr>
            <a:xfrm>
              <a:off x="459000" y="2133720"/>
              <a:ext cx="1426680" cy="3276000"/>
              <a:chOff x="459000" y="2133720"/>
              <a:chExt cx="1426680" cy="3276000"/>
            </a:xfrm>
          </p:grpSpPr>
          <p:sp>
            <p:nvSpPr>
              <p:cNvPr id="1565" name=""/>
              <p:cNvSpPr/>
              <p:nvPr/>
            </p:nvSpPr>
            <p:spPr>
              <a:xfrm>
                <a:off x="459000" y="2133720"/>
                <a:ext cx="1426680" cy="1182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59000" y="4226760"/>
                <a:ext cx="1426680" cy="1182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59000" y="2615040"/>
                <a:ext cx="1426680" cy="2248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750960" y="2565360"/>
              <a:ext cx="10666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50960" y="4317840"/>
              <a:ext cx="10666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50960" y="2968560"/>
              <a:ext cx="1066680" cy="188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63560" y="2959200"/>
              <a:ext cx="1025640" cy="19047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0960" y="3035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5096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63560" y="3276720"/>
              <a:ext cx="1028880" cy="12189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59000" y="3035160"/>
              <a:ext cx="1400040" cy="3175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85720" y="3048120"/>
              <a:ext cx="15264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59000" y="3048120"/>
              <a:ext cx="1522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68360" y="4406760"/>
              <a:ext cx="1400040" cy="3175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59000" y="4356000"/>
              <a:ext cx="152280" cy="381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5720" y="4343400"/>
              <a:ext cx="15264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828800" y="2971800"/>
              <a:ext cx="396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28800" y="4343400"/>
              <a:ext cx="396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50960" y="4419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817640" y="4406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817640" y="3073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5096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1284480" y="256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156384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992160" y="2641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1563840" y="46987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1284480" y="47242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992160" y="471168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538280" y="3327480"/>
              <a:ext cx="54000" cy="1244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268280" y="3352680"/>
              <a:ext cx="54000" cy="124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63720" y="3352680"/>
              <a:ext cx="54000" cy="124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1284480" y="1600200"/>
              <a:ext cx="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563840" y="1600200"/>
              <a:ext cx="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992160" y="16002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725400" y="159984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0" name=""/>
            <p:cNvGrpSpPr/>
            <p:nvPr/>
          </p:nvGrpSpPr>
          <p:grpSpPr>
            <a:xfrm>
              <a:off x="1525680" y="1397160"/>
              <a:ext cx="76320" cy="202680"/>
              <a:chOff x="1525680" y="1397160"/>
              <a:chExt cx="76320" cy="202680"/>
            </a:xfrm>
          </p:grpSpPr>
          <p:sp>
            <p:nvSpPr>
              <p:cNvPr id="1601" name=""/>
              <p:cNvSpPr/>
              <p:nvPr/>
            </p:nvSpPr>
            <p:spPr>
              <a:xfrm>
                <a:off x="1525680" y="1397160"/>
                <a:ext cx="7632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525680" y="1523880"/>
                <a:ext cx="7632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525680" y="1460520"/>
                <a:ext cx="76320" cy="1011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60200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52568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1246320" y="1397160"/>
              <a:ext cx="75960" cy="202680"/>
              <a:chOff x="1246320" y="1397160"/>
              <a:chExt cx="75960" cy="202680"/>
            </a:xfrm>
          </p:grpSpPr>
          <p:sp>
            <p:nvSpPr>
              <p:cNvPr id="1607" name=""/>
              <p:cNvSpPr/>
              <p:nvPr/>
            </p:nvSpPr>
            <p:spPr>
              <a:xfrm>
                <a:off x="1246320" y="1397160"/>
                <a:ext cx="7596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46320" y="1523880"/>
                <a:ext cx="7596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46320" y="1460520"/>
                <a:ext cx="75960" cy="1011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32228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24632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954000" y="1397160"/>
              <a:ext cx="76320" cy="202680"/>
              <a:chOff x="954000" y="1397160"/>
              <a:chExt cx="76320" cy="202680"/>
            </a:xfrm>
          </p:grpSpPr>
          <p:sp>
            <p:nvSpPr>
              <p:cNvPr id="1613" name=""/>
              <p:cNvSpPr/>
              <p:nvPr/>
            </p:nvSpPr>
            <p:spPr>
              <a:xfrm>
                <a:off x="954000" y="1397160"/>
                <a:ext cx="7632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954000" y="1523880"/>
                <a:ext cx="7632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954000" y="1460520"/>
                <a:ext cx="76320" cy="1011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03032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95400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687600" y="1397160"/>
              <a:ext cx="75960" cy="202680"/>
              <a:chOff x="687600" y="1397160"/>
              <a:chExt cx="75960" cy="202680"/>
            </a:xfrm>
          </p:grpSpPr>
          <p:sp>
            <p:nvSpPr>
              <p:cNvPr id="1619" name=""/>
              <p:cNvSpPr/>
              <p:nvPr/>
            </p:nvSpPr>
            <p:spPr>
              <a:xfrm>
                <a:off x="687600" y="1397160"/>
                <a:ext cx="7596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87600" y="1523880"/>
                <a:ext cx="75960" cy="7596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87600" y="1460520"/>
                <a:ext cx="75960" cy="10116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356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87600" y="142236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230400" y="547380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4080" y="5575320"/>
              <a:ext cx="30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2280" y="4138560"/>
              <a:ext cx="0" cy="14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38320" y="422424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54080" y="414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30400" y="421632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478240" y="410220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30600" y="410220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30600" y="4203720"/>
              <a:ext cx="11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478240" y="3962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89320" y="3962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2249640" y="2809800"/>
              <a:ext cx="360360" cy="1152360"/>
              <a:chOff x="2249640" y="2809800"/>
              <a:chExt cx="360360" cy="1152360"/>
            </a:xfrm>
          </p:grpSpPr>
          <p:sp>
            <p:nvSpPr>
              <p:cNvPr id="1636" name=""/>
              <p:cNvSpPr/>
              <p:nvPr/>
            </p:nvSpPr>
            <p:spPr>
              <a:xfrm>
                <a:off x="2249640" y="2809800"/>
                <a:ext cx="352080" cy="3524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252520" y="3609720"/>
                <a:ext cx="352440" cy="3524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251080" y="3006720"/>
                <a:ext cx="353880" cy="828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249640" y="2992320"/>
                <a:ext cx="360360" cy="843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249640" y="304776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604960" y="29588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2249640" y="29462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2249640" y="2809800"/>
              <a:ext cx="355320" cy="1152720"/>
              <a:chOff x="2249640" y="2809800"/>
              <a:chExt cx="355320" cy="1152720"/>
            </a:xfrm>
          </p:grpSpPr>
          <p:sp>
            <p:nvSpPr>
              <p:cNvPr id="1644" name=""/>
              <p:cNvSpPr/>
              <p:nvPr/>
            </p:nvSpPr>
            <p:spPr>
              <a:xfrm>
                <a:off x="2249640" y="2809800"/>
                <a:ext cx="35208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252520" y="3610080"/>
                <a:ext cx="35208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250720" y="3006720"/>
                <a:ext cx="353880" cy="8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249640" y="2992320"/>
                <a:ext cx="337680" cy="843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249640" y="3048120"/>
                <a:ext cx="0" cy="799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604960" y="2959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249640" y="294624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1" name=""/>
            <p:cNvSpPr/>
            <p:nvPr/>
          </p:nvSpPr>
          <p:spPr>
            <a:xfrm>
              <a:off x="2325600" y="5257800"/>
              <a:ext cx="533520" cy="533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2390400" y="5330880"/>
              <a:ext cx="409680" cy="382320"/>
              <a:chOff x="2390400" y="5330880"/>
              <a:chExt cx="409680" cy="382320"/>
            </a:xfrm>
          </p:grpSpPr>
          <p:grpSp>
            <p:nvGrpSpPr>
              <p:cNvPr id="1653" name=""/>
              <p:cNvGrpSpPr/>
              <p:nvPr/>
            </p:nvGrpSpPr>
            <p:grpSpPr>
              <a:xfrm>
                <a:off x="2592360" y="5516640"/>
                <a:ext cx="193320" cy="76320"/>
                <a:chOff x="2592360" y="5516640"/>
                <a:chExt cx="193320" cy="763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2592360" y="551664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2785680" y="551664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2518920" y="5516640"/>
                <a:ext cx="75960" cy="193680"/>
                <a:chOff x="2518920" y="5516640"/>
                <a:chExt cx="75960" cy="19368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2594880" y="55166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>
                  <a:off x="2518920" y="571032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2404440" y="5440320"/>
                <a:ext cx="193320" cy="76320"/>
                <a:chOff x="2404440" y="5440320"/>
                <a:chExt cx="193320" cy="76320"/>
              </a:xfrm>
            </p:grpSpPr>
            <p:sp>
              <p:nvSpPr>
                <p:cNvPr id="1660" name=""/>
                <p:cNvSpPr/>
                <p:nvPr/>
              </p:nvSpPr>
              <p:spPr>
                <a:xfrm flipH="1">
                  <a:off x="2404440" y="551664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V="1">
                  <a:off x="2404440" y="544032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2595600" y="5330880"/>
                <a:ext cx="75600" cy="193680"/>
                <a:chOff x="2595600" y="5330880"/>
                <a:chExt cx="75600" cy="193680"/>
              </a:xfrm>
            </p:grpSpPr>
            <p:sp>
              <p:nvSpPr>
                <p:cNvPr id="1663" name=""/>
                <p:cNvSpPr/>
                <p:nvPr/>
              </p:nvSpPr>
              <p:spPr>
                <a:xfrm flipV="1">
                  <a:off x="2595600" y="533088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2595600" y="5330880"/>
                  <a:ext cx="7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2609640" y="5370480"/>
                <a:ext cx="190440" cy="136800"/>
                <a:chOff x="2609640" y="5370480"/>
                <a:chExt cx="190440" cy="136800"/>
              </a:xfrm>
            </p:grpSpPr>
            <p:sp>
              <p:nvSpPr>
                <p:cNvPr id="1666" name=""/>
                <p:cNvSpPr/>
                <p:nvPr/>
              </p:nvSpPr>
              <p:spPr>
                <a:xfrm flipV="1">
                  <a:off x="2609640" y="537048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2746080" y="53704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2449440" y="5332680"/>
                <a:ext cx="136800" cy="190080"/>
                <a:chOff x="2449440" y="5332680"/>
                <a:chExt cx="136800" cy="190080"/>
              </a:xfrm>
            </p:grpSpPr>
            <p:sp>
              <p:nvSpPr>
                <p:cNvPr id="1669" name=""/>
                <p:cNvSpPr/>
                <p:nvPr/>
              </p:nvSpPr>
              <p:spPr>
                <a:xfrm flipH="1" flipV="1">
                  <a:off x="2449440" y="538596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V="1">
                  <a:off x="2449440" y="533268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2591640" y="5523120"/>
                <a:ext cx="136800" cy="190080"/>
                <a:chOff x="2591640" y="5523120"/>
                <a:chExt cx="136800" cy="19008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2591640" y="55231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>
                  <a:off x="2675160" y="565992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2390400" y="5533920"/>
                <a:ext cx="190440" cy="136800"/>
                <a:chOff x="2390400" y="5533920"/>
                <a:chExt cx="190440" cy="136800"/>
              </a:xfrm>
            </p:grpSpPr>
            <p:sp>
              <p:nvSpPr>
                <p:cNvPr id="1675" name=""/>
                <p:cNvSpPr/>
                <p:nvPr/>
              </p:nvSpPr>
              <p:spPr>
                <a:xfrm flipH="1">
                  <a:off x="2444400" y="553392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flipV="1">
                  <a:off x="2390400" y="561672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7" name=""/>
            <p:cNvSpPr/>
            <p:nvPr/>
          </p:nvSpPr>
          <p:spPr>
            <a:xfrm>
              <a:off x="3598920" y="551196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24400" y="5613480"/>
              <a:ext cx="10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751200" y="5295960"/>
              <a:ext cx="533520" cy="533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3816000" y="5369040"/>
              <a:ext cx="409680" cy="382320"/>
              <a:chOff x="3816000" y="5369040"/>
              <a:chExt cx="409680" cy="38232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4017960" y="5554800"/>
                <a:ext cx="193320" cy="76320"/>
                <a:chOff x="4017960" y="5554800"/>
                <a:chExt cx="193320" cy="7632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4017960" y="55548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211280" y="55548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3944520" y="5554800"/>
                <a:ext cx="75960" cy="193680"/>
                <a:chOff x="3944520" y="5554800"/>
                <a:chExt cx="75960" cy="19368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4020480" y="555480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H="1">
                  <a:off x="3944520" y="574848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7" name=""/>
              <p:cNvGrpSpPr/>
              <p:nvPr/>
            </p:nvGrpSpPr>
            <p:grpSpPr>
              <a:xfrm>
                <a:off x="3830040" y="5478480"/>
                <a:ext cx="193320" cy="76320"/>
                <a:chOff x="3830040" y="5478480"/>
                <a:chExt cx="193320" cy="7632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>
                  <a:off x="3830040" y="55548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V="1">
                  <a:off x="3830040" y="54784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0" name=""/>
              <p:cNvGrpSpPr/>
              <p:nvPr/>
            </p:nvGrpSpPr>
            <p:grpSpPr>
              <a:xfrm>
                <a:off x="4021200" y="5369040"/>
                <a:ext cx="75600" cy="193680"/>
                <a:chOff x="4021200" y="5369040"/>
                <a:chExt cx="75600" cy="193680"/>
              </a:xfrm>
            </p:grpSpPr>
            <p:sp>
              <p:nvSpPr>
                <p:cNvPr id="1691" name=""/>
                <p:cNvSpPr/>
                <p:nvPr/>
              </p:nvSpPr>
              <p:spPr>
                <a:xfrm flipV="1">
                  <a:off x="4021200" y="53690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021200" y="5369040"/>
                  <a:ext cx="7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4035240" y="5408640"/>
                <a:ext cx="190440" cy="136800"/>
                <a:chOff x="4035240" y="5408640"/>
                <a:chExt cx="190440" cy="136800"/>
              </a:xfrm>
            </p:grpSpPr>
            <p:sp>
              <p:nvSpPr>
                <p:cNvPr id="1694" name=""/>
                <p:cNvSpPr/>
                <p:nvPr/>
              </p:nvSpPr>
              <p:spPr>
                <a:xfrm flipV="1">
                  <a:off x="4035240" y="540864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4171680" y="540864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3875040" y="5370840"/>
                <a:ext cx="136800" cy="190080"/>
                <a:chOff x="3875040" y="5370840"/>
                <a:chExt cx="136800" cy="190080"/>
              </a:xfrm>
            </p:grpSpPr>
            <p:sp>
              <p:nvSpPr>
                <p:cNvPr id="1697" name=""/>
                <p:cNvSpPr/>
                <p:nvPr/>
              </p:nvSpPr>
              <p:spPr>
                <a:xfrm flipH="1" flipV="1">
                  <a:off x="3875040" y="54241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3875040" y="537084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4017240" y="5561280"/>
                <a:ext cx="136800" cy="190080"/>
                <a:chOff x="4017240" y="5561280"/>
                <a:chExt cx="136800" cy="190080"/>
              </a:xfrm>
            </p:grpSpPr>
            <p:sp>
              <p:nvSpPr>
                <p:cNvPr id="1700" name=""/>
                <p:cNvSpPr/>
                <p:nvPr/>
              </p:nvSpPr>
              <p:spPr>
                <a:xfrm>
                  <a:off x="4017240" y="55612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4100760" y="569808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3816000" y="5572080"/>
                <a:ext cx="190440" cy="136800"/>
                <a:chOff x="3816000" y="5572080"/>
                <a:chExt cx="190440" cy="136800"/>
              </a:xfrm>
            </p:grpSpPr>
            <p:sp>
              <p:nvSpPr>
                <p:cNvPr id="1703" name=""/>
                <p:cNvSpPr/>
                <p:nvPr/>
              </p:nvSpPr>
              <p:spPr>
                <a:xfrm flipH="1">
                  <a:off x="3870000" y="557208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 flipV="1">
                  <a:off x="3816000" y="56548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5" name=""/>
            <p:cNvSpPr/>
            <p:nvPr/>
          </p:nvSpPr>
          <p:spPr>
            <a:xfrm>
              <a:off x="2935440" y="3124080"/>
              <a:ext cx="19368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9098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397320" y="303516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56080" y="312408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05240" y="1536840"/>
              <a:ext cx="0" cy="13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643120" y="2882880"/>
              <a:ext cx="762120" cy="36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43120" y="1600200"/>
              <a:ext cx="762120" cy="1523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43120" y="151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43120" y="1384200"/>
              <a:ext cx="762120" cy="36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2808360" y="2120760"/>
              <a:ext cx="431640" cy="1152360"/>
              <a:chOff x="2808360" y="2120760"/>
              <a:chExt cx="431640" cy="1152360"/>
            </a:xfrm>
          </p:grpSpPr>
          <p:sp>
            <p:nvSpPr>
              <p:cNvPr id="1715" name=""/>
              <p:cNvSpPr/>
              <p:nvPr/>
            </p:nvSpPr>
            <p:spPr>
              <a:xfrm>
                <a:off x="2808360" y="2120760"/>
                <a:ext cx="428760" cy="352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11600" y="2920680"/>
                <a:ext cx="428400" cy="3524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809800" y="2317320"/>
                <a:ext cx="430200" cy="8287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808360" y="2303280"/>
                <a:ext cx="411120" cy="842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808360" y="235872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240000" y="2269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808360" y="22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2922480" y="2257560"/>
              <a:ext cx="203040" cy="914400"/>
              <a:chOff x="2922480" y="2257560"/>
              <a:chExt cx="203040" cy="914400"/>
            </a:xfrm>
          </p:grpSpPr>
          <p:sp>
            <p:nvSpPr>
              <p:cNvPr id="1723" name=""/>
              <p:cNvSpPr/>
              <p:nvPr/>
            </p:nvSpPr>
            <p:spPr>
              <a:xfrm>
                <a:off x="2922480" y="2257560"/>
                <a:ext cx="201600" cy="27936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923920" y="2892600"/>
                <a:ext cx="201600" cy="27936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23920" y="2413080"/>
                <a:ext cx="201600" cy="6588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922480" y="2401920"/>
                <a:ext cx="193680" cy="6699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922480" y="2446560"/>
                <a:ext cx="0" cy="63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125520" y="23767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922480" y="236556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0" name=""/>
            <p:cNvSpPr/>
            <p:nvPr/>
          </p:nvSpPr>
          <p:spPr>
            <a:xfrm>
              <a:off x="2808360" y="3048120"/>
              <a:ext cx="457200" cy="3808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3240000" y="297144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2922480" y="29084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808360" y="280620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5880" y="303516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2922480" y="2257560"/>
              <a:ext cx="203040" cy="1094760"/>
              <a:chOff x="2922480" y="2257560"/>
              <a:chExt cx="203040" cy="1094760"/>
            </a:xfrm>
          </p:grpSpPr>
          <p:sp>
            <p:nvSpPr>
              <p:cNvPr id="1736" name=""/>
              <p:cNvSpPr/>
              <p:nvPr/>
            </p:nvSpPr>
            <p:spPr>
              <a:xfrm>
                <a:off x="2922480" y="225756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923920" y="301788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923920" y="2443680"/>
                <a:ext cx="201600" cy="788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922480" y="2430360"/>
                <a:ext cx="193680" cy="802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2922480" y="2483640"/>
                <a:ext cx="0" cy="76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125520" y="240012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922480" y="238680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3" name=""/>
            <p:cNvSpPr/>
            <p:nvPr/>
          </p:nvSpPr>
          <p:spPr>
            <a:xfrm>
              <a:off x="2948040" y="3251160"/>
              <a:ext cx="1872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935440" y="326376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3611520" y="292104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522600" y="302256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397320" y="293364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973600" y="838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49560" y="914400"/>
              <a:ext cx="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973600" y="838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49560" y="927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3800" y="838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97480" y="927000"/>
              <a:ext cx="0" cy="23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92560" y="3276720"/>
              <a:ext cx="731880" cy="8935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781520" y="297180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9922400">
              <a:off x="4497480" y="3123720"/>
              <a:ext cx="762120" cy="841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192560" y="327168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263480" y="3429360"/>
              <a:ext cx="589680" cy="634320"/>
              <a:chOff x="4263480" y="3429360"/>
              <a:chExt cx="589680" cy="634320"/>
            </a:xfrm>
          </p:grpSpPr>
          <p:grpSp>
            <p:nvGrpSpPr>
              <p:cNvPr id="1759" name=""/>
              <p:cNvGrpSpPr/>
              <p:nvPr/>
            </p:nvGrpSpPr>
            <p:grpSpPr>
              <a:xfrm>
                <a:off x="4547880" y="3740040"/>
                <a:ext cx="264600" cy="126720"/>
                <a:chOff x="4547880" y="3740040"/>
                <a:chExt cx="264600" cy="12672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4547880" y="3740040"/>
                  <a:ext cx="26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812480" y="3740040"/>
                  <a:ext cx="0" cy="12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4448160" y="3740040"/>
                <a:ext cx="104040" cy="323640"/>
                <a:chOff x="4448160" y="3740040"/>
                <a:chExt cx="104040" cy="32364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4552200" y="374004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>
                  <a:off x="4448160" y="4063680"/>
                  <a:ext cx="10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4290840" y="3611520"/>
                <a:ext cx="264240" cy="128160"/>
                <a:chOff x="4290840" y="3611520"/>
                <a:chExt cx="264240" cy="128160"/>
              </a:xfrm>
            </p:grpSpPr>
            <p:sp>
              <p:nvSpPr>
                <p:cNvPr id="1766" name=""/>
                <p:cNvSpPr/>
                <p:nvPr/>
              </p:nvSpPr>
              <p:spPr>
                <a:xfrm flipH="1">
                  <a:off x="4290840" y="3739680"/>
                  <a:ext cx="26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V="1">
                  <a:off x="4290840" y="3611520"/>
                  <a:ext cx="0" cy="1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8" name=""/>
              <p:cNvGrpSpPr/>
              <p:nvPr/>
            </p:nvGrpSpPr>
            <p:grpSpPr>
              <a:xfrm>
                <a:off x="4552560" y="3429360"/>
                <a:ext cx="102600" cy="323640"/>
                <a:chOff x="4552560" y="3429360"/>
                <a:chExt cx="102600" cy="323640"/>
              </a:xfrm>
            </p:grpSpPr>
            <p:sp>
              <p:nvSpPr>
                <p:cNvPr id="1769" name=""/>
                <p:cNvSpPr/>
                <p:nvPr/>
              </p:nvSpPr>
              <p:spPr>
                <a:xfrm flipV="1">
                  <a:off x="4552560" y="342936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552560" y="342936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"/>
              <p:cNvGrpSpPr/>
              <p:nvPr/>
            </p:nvGrpSpPr>
            <p:grpSpPr>
              <a:xfrm>
                <a:off x="4575600" y="3528360"/>
                <a:ext cx="277560" cy="187920"/>
                <a:chOff x="4575600" y="3528360"/>
                <a:chExt cx="277560" cy="187920"/>
              </a:xfrm>
            </p:grpSpPr>
            <p:sp>
              <p:nvSpPr>
                <p:cNvPr id="1772" name=""/>
                <p:cNvSpPr/>
                <p:nvPr/>
              </p:nvSpPr>
              <p:spPr>
                <a:xfrm flipV="1">
                  <a:off x="4575600" y="352836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763520" y="3528360"/>
                  <a:ext cx="89640" cy="8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4331520" y="3440160"/>
                <a:ext cx="228960" cy="302400"/>
                <a:chOff x="4331520" y="3440160"/>
                <a:chExt cx="228960" cy="30240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 flipV="1">
                  <a:off x="4331520" y="3513600"/>
                  <a:ext cx="22896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V="1">
                  <a:off x="4331520" y="3440160"/>
                  <a:ext cx="73440" cy="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4526280" y="3733560"/>
                <a:ext cx="228600" cy="301320"/>
                <a:chOff x="4526280" y="3733560"/>
                <a:chExt cx="228600" cy="30132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4526280" y="3733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4682160" y="3962160"/>
                  <a:ext cx="7272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4263480" y="3751200"/>
                <a:ext cx="277560" cy="187920"/>
                <a:chOff x="4263480" y="3751200"/>
                <a:chExt cx="277560" cy="1879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4353120" y="375120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 flipV="1">
                  <a:off x="4263480" y="3849840"/>
                  <a:ext cx="89640" cy="8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3" name=""/>
            <p:cNvSpPr/>
            <p:nvPr/>
          </p:nvSpPr>
          <p:spPr>
            <a:xfrm flipV="1">
              <a:off x="4414680" y="2957400"/>
              <a:ext cx="67356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744440" y="3850920"/>
              <a:ext cx="4712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"/>
            <p:cNvGrpSpPr/>
            <p:nvPr/>
          </p:nvGrpSpPr>
          <p:grpSpPr>
            <a:xfrm>
              <a:off x="5640480" y="2133720"/>
              <a:ext cx="1358640" cy="1236240"/>
              <a:chOff x="5640480" y="2133720"/>
              <a:chExt cx="1358640" cy="1236240"/>
            </a:xfrm>
          </p:grpSpPr>
          <p:sp>
            <p:nvSpPr>
              <p:cNvPr id="1786" name=""/>
              <p:cNvSpPr/>
              <p:nvPr/>
            </p:nvSpPr>
            <p:spPr>
              <a:xfrm>
                <a:off x="5640480" y="2476440"/>
                <a:ext cx="731880" cy="8935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67600" y="2133720"/>
                <a:ext cx="731520" cy="8935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9922400">
                <a:off x="5945040" y="2323800"/>
                <a:ext cx="762120" cy="8409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640480" y="2471760"/>
                <a:ext cx="731880" cy="8931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862600" y="2144520"/>
                <a:ext cx="673200" cy="35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6204960" y="3025080"/>
                <a:ext cx="47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2" name=""/>
            <p:cNvSpPr/>
            <p:nvPr/>
          </p:nvSpPr>
          <p:spPr>
            <a:xfrm rot="19920000">
              <a:off x="5437080" y="3034800"/>
              <a:ext cx="5335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3" name=""/>
            <p:cNvGrpSpPr/>
            <p:nvPr/>
          </p:nvGrpSpPr>
          <p:grpSpPr>
            <a:xfrm>
              <a:off x="6172200" y="3048120"/>
              <a:ext cx="3048120" cy="3580920"/>
              <a:chOff x="6172200" y="3048120"/>
              <a:chExt cx="3048120" cy="3580920"/>
            </a:xfrm>
          </p:grpSpPr>
          <p:sp>
            <p:nvSpPr>
              <p:cNvPr id="1794" name=""/>
              <p:cNvSpPr/>
              <p:nvPr/>
            </p:nvSpPr>
            <p:spPr>
              <a:xfrm>
                <a:off x="6370920" y="5886360"/>
                <a:ext cx="2786040" cy="7426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172200" y="5638680"/>
                <a:ext cx="3048120" cy="57744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26360" y="5930640"/>
                <a:ext cx="2698560" cy="53316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00800" y="5676840"/>
                <a:ext cx="2743200" cy="532800"/>
              </a:xfrm>
              <a:custGeom>
                <a:avLst/>
                <a:gdLst/>
                <a:ahLst/>
                <a:rect l="l" t="t" r="r" b="b"/>
                <a:pathLst>
                  <a:path w="1728" h="336">
                    <a:moveTo>
                      <a:pt x="192" y="0"/>
                    </a:moveTo>
                    <a:lnTo>
                      <a:pt x="1536" y="0"/>
                    </a:lnTo>
                    <a:lnTo>
                      <a:pt x="1728" y="336"/>
                    </a:lnTo>
                    <a:lnTo>
                      <a:pt x="0" y="336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089920" y="645156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391520" y="645156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048800" y="642600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782040" y="637524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527880" y="6324480"/>
                <a:ext cx="7632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445600" y="6426000"/>
                <a:ext cx="7632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8750520" y="6375240"/>
                <a:ext cx="7596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991720" y="6311880"/>
                <a:ext cx="76320" cy="75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400800" y="5676840"/>
                <a:ext cx="30492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 flipV="1">
                <a:off x="8839440" y="5676840"/>
                <a:ext cx="30456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839440" y="5676840"/>
                <a:ext cx="1872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597880" y="5778360"/>
                <a:ext cx="18756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8763120" y="5676840"/>
                <a:ext cx="76320" cy="76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8496000" y="5790960"/>
                <a:ext cx="1112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8153280" y="5829120"/>
                <a:ext cx="7596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242560" y="5829120"/>
                <a:ext cx="25848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6553080" y="5676840"/>
                <a:ext cx="15228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6553080" y="5752800"/>
                <a:ext cx="22860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782040" y="5752800"/>
                <a:ext cx="3960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010640" y="5829120"/>
                <a:ext cx="7596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315200" y="5829120"/>
                <a:ext cx="119160" cy="65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7086240" y="5829120"/>
                <a:ext cx="22860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6794280" y="5803560"/>
                <a:ext cx="22860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1" name=""/>
              <p:cNvGrpSpPr/>
              <p:nvPr/>
            </p:nvGrpSpPr>
            <p:grpSpPr>
              <a:xfrm>
                <a:off x="6705720" y="3048120"/>
                <a:ext cx="2133720" cy="2793240"/>
                <a:chOff x="6705720" y="3048120"/>
                <a:chExt cx="2133720" cy="2793240"/>
              </a:xfrm>
            </p:grpSpPr>
            <p:grpSp>
              <p:nvGrpSpPr>
                <p:cNvPr id="1822" name=""/>
                <p:cNvGrpSpPr/>
                <p:nvPr/>
              </p:nvGrpSpPr>
              <p:grpSpPr>
                <a:xfrm>
                  <a:off x="6705720" y="3048120"/>
                  <a:ext cx="2133720" cy="2755080"/>
                  <a:chOff x="6705720" y="3048120"/>
                  <a:chExt cx="2133720" cy="275508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>
                    <a:off x="6705720" y="5574960"/>
                    <a:ext cx="2133720" cy="2282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6705720" y="3174840"/>
                    <a:ext cx="1066680" cy="251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584">
                        <a:moveTo>
                          <a:pt x="0" y="1584"/>
                        </a:moveTo>
                        <a:lnTo>
                          <a:pt x="192" y="1056"/>
                        </a:lnTo>
                        <a:lnTo>
                          <a:pt x="240" y="864"/>
                        </a:lnTo>
                        <a:lnTo>
                          <a:pt x="288" y="624"/>
                        </a:lnTo>
                        <a:lnTo>
                          <a:pt x="288" y="576"/>
                        </a:lnTo>
                        <a:lnTo>
                          <a:pt x="288" y="528"/>
                        </a:lnTo>
                        <a:lnTo>
                          <a:pt x="288" y="0"/>
                        </a:lnTo>
                        <a:lnTo>
                          <a:pt x="672" y="0"/>
                        </a:lnTo>
                        <a:lnTo>
                          <a:pt x="672" y="1584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H="1">
                    <a:off x="7772400" y="3174840"/>
                    <a:ext cx="1067040" cy="2514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1584">
                        <a:moveTo>
                          <a:pt x="0" y="1584"/>
                        </a:moveTo>
                        <a:lnTo>
                          <a:pt x="192" y="1056"/>
                        </a:lnTo>
                        <a:lnTo>
                          <a:pt x="240" y="864"/>
                        </a:lnTo>
                        <a:lnTo>
                          <a:pt x="288" y="624"/>
                        </a:lnTo>
                        <a:lnTo>
                          <a:pt x="288" y="576"/>
                        </a:lnTo>
                        <a:lnTo>
                          <a:pt x="288" y="528"/>
                        </a:lnTo>
                        <a:lnTo>
                          <a:pt x="288" y="0"/>
                        </a:lnTo>
                        <a:lnTo>
                          <a:pt x="672" y="0"/>
                        </a:lnTo>
                        <a:lnTo>
                          <a:pt x="672" y="1584"/>
                        </a:lnTo>
                        <a:lnTo>
                          <a:pt x="0" y="158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7162920" y="3048120"/>
                    <a:ext cx="1216080" cy="228240"/>
                  </a:xfrm>
                  <a:prstGeom prst="ellipse">
                    <a:avLst/>
                  </a:prstGeom>
                  <a:solidFill>
                    <a:srgbClr val="4d4d4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607520" y="3301920"/>
                    <a:ext cx="304560" cy="236160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6743880" y="5689440"/>
                    <a:ext cx="2057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9" name=""/>
                <p:cNvSpPr/>
                <p:nvPr/>
              </p:nvSpPr>
              <p:spPr>
                <a:xfrm>
                  <a:off x="6705720" y="5574960"/>
                  <a:ext cx="2133720" cy="228240"/>
                </a:xfrm>
                <a:prstGeom prst="ellips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6705720" y="3187440"/>
                  <a:ext cx="106668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>
                  <a:off x="7772400" y="3187440"/>
                  <a:ext cx="1067040" cy="2514240"/>
                </a:xfrm>
                <a:custGeom>
                  <a:avLst/>
                  <a:gdLst/>
                  <a:ahLst/>
                  <a:rect l="l" t="t" r="r" b="b"/>
                  <a:pathLst>
                    <a:path w="672" h="1584">
                      <a:moveTo>
                        <a:pt x="0" y="1584"/>
                      </a:moveTo>
                      <a:lnTo>
                        <a:pt x="192" y="1056"/>
                      </a:lnTo>
                      <a:lnTo>
                        <a:pt x="240" y="864"/>
                      </a:lnTo>
                      <a:lnTo>
                        <a:pt x="288" y="624"/>
                      </a:lnTo>
                      <a:lnTo>
                        <a:pt x="288" y="576"/>
                      </a:lnTo>
                      <a:lnTo>
                        <a:pt x="288" y="528"/>
                      </a:lnTo>
                      <a:lnTo>
                        <a:pt x="288" y="0"/>
                      </a:lnTo>
                      <a:lnTo>
                        <a:pt x="672" y="0"/>
                      </a:lnTo>
                      <a:lnTo>
                        <a:pt x="672" y="1584"/>
                      </a:lnTo>
                      <a:lnTo>
                        <a:pt x="0" y="158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607520" y="3314520"/>
                  <a:ext cx="304560" cy="23619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6743880" y="5702040"/>
                  <a:ext cx="205740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7315200" y="3136680"/>
                  <a:ext cx="990720" cy="266652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7162920" y="3060360"/>
                  <a:ext cx="1216080" cy="228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7696080" y="3288960"/>
                  <a:ext cx="22860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05720" y="5600520"/>
                  <a:ext cx="213372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010640" y="5638680"/>
                  <a:ext cx="15588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6794640" y="5663880"/>
                  <a:ext cx="1558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267680" y="5600520"/>
                  <a:ext cx="155880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705720" y="5689440"/>
                  <a:ext cx="109044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837560" y="5587920"/>
                  <a:ext cx="92556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6880320" y="3225600"/>
                  <a:ext cx="816120" cy="259056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6782040" y="3213000"/>
                  <a:ext cx="81576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6731280" y="5499000"/>
                  <a:ext cx="457200" cy="304200"/>
                </a:xfrm>
                <a:custGeom>
                  <a:avLst/>
                  <a:gdLst/>
                  <a:ahLst/>
                  <a:rect l="l" t="t" r="r" b="b"/>
                  <a:pathLst>
                    <a:path w="288" h="192">
                      <a:moveTo>
                        <a:pt x="48" y="0"/>
                      </a:moveTo>
                      <a:lnTo>
                        <a:pt x="288" y="192"/>
                      </a:lnTo>
                      <a:lnTo>
                        <a:pt x="240" y="192"/>
                      </a:lnTo>
                      <a:lnTo>
                        <a:pt x="192" y="192"/>
                      </a:lnTo>
                      <a:lnTo>
                        <a:pt x="144" y="144"/>
                      </a:lnTo>
                      <a:lnTo>
                        <a:pt x="192" y="192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>
                  <a:off x="7909200" y="3213000"/>
                  <a:ext cx="81576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7949520" y="3213000"/>
                  <a:ext cx="816120" cy="2590200"/>
                </a:xfrm>
                <a:custGeom>
                  <a:avLst/>
                  <a:gdLst/>
                  <a:ahLst/>
                  <a:rect l="l" t="t" r="r" b="b"/>
                  <a:pathLst>
                    <a:path w="514" h="1632">
                      <a:moveTo>
                        <a:pt x="506" y="37"/>
                      </a:moveTo>
                      <a:cubicBezTo>
                        <a:pt x="514" y="316"/>
                        <a:pt x="514" y="221"/>
                        <a:pt x="514" y="321"/>
                      </a:cubicBezTo>
                      <a:lnTo>
                        <a:pt x="480" y="528"/>
                      </a:lnTo>
                      <a:lnTo>
                        <a:pt x="432" y="672"/>
                      </a:lnTo>
                      <a:lnTo>
                        <a:pt x="336" y="960"/>
                      </a:lnTo>
                      <a:lnTo>
                        <a:pt x="384" y="1152"/>
                      </a:lnTo>
                      <a:lnTo>
                        <a:pt x="336" y="1200"/>
                      </a:lnTo>
                      <a:lnTo>
                        <a:pt x="336" y="1632"/>
                      </a:lnTo>
                      <a:lnTo>
                        <a:pt x="240" y="1632"/>
                      </a:lnTo>
                      <a:lnTo>
                        <a:pt x="0" y="1440"/>
                      </a:lnTo>
                      <a:lnTo>
                        <a:pt x="48" y="1296"/>
                      </a:lnTo>
                      <a:lnTo>
                        <a:pt x="144" y="1056"/>
                      </a:lnTo>
                      <a:lnTo>
                        <a:pt x="192" y="816"/>
                      </a:lnTo>
                      <a:lnTo>
                        <a:pt x="240" y="624"/>
                      </a:lnTo>
                      <a:lnTo>
                        <a:pt x="240" y="0"/>
                      </a:lnTo>
                      <a:lnTo>
                        <a:pt x="506" y="37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8382240" y="5499000"/>
                  <a:ext cx="457200" cy="304200"/>
                </a:xfrm>
                <a:custGeom>
                  <a:avLst/>
                  <a:gdLst/>
                  <a:ahLst/>
                  <a:rect l="l" t="t" r="r" b="b"/>
                  <a:pathLst>
                    <a:path w="288" h="192">
                      <a:moveTo>
                        <a:pt x="48" y="0"/>
                      </a:moveTo>
                      <a:lnTo>
                        <a:pt x="288" y="192"/>
                      </a:lnTo>
                      <a:lnTo>
                        <a:pt x="240" y="192"/>
                      </a:lnTo>
                      <a:lnTo>
                        <a:pt x="192" y="192"/>
                      </a:lnTo>
                      <a:lnTo>
                        <a:pt x="144" y="144"/>
                      </a:lnTo>
                      <a:lnTo>
                        <a:pt x="192" y="192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9" name=""/>
              <p:cNvSpPr/>
              <p:nvPr/>
            </p:nvSpPr>
            <p:spPr>
              <a:xfrm>
                <a:off x="7391520" y="5702040"/>
                <a:ext cx="76212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48" y="48"/>
                    </a:moveTo>
                    <a:lnTo>
                      <a:pt x="192" y="48"/>
                    </a:lnTo>
                    <a:lnTo>
                      <a:pt x="240" y="0"/>
                    </a:lnTo>
                    <a:lnTo>
                      <a:pt x="336" y="0"/>
                    </a:lnTo>
                    <a:lnTo>
                      <a:pt x="384" y="48"/>
                    </a:lnTo>
                    <a:lnTo>
                      <a:pt x="480" y="48"/>
                    </a:lnTo>
                    <a:lnTo>
                      <a:pt x="480" y="192"/>
                    </a:lnTo>
                    <a:lnTo>
                      <a:pt x="48" y="192"/>
                    </a:lnTo>
                    <a:lnTo>
                      <a:pt x="0" y="48"/>
                    </a:lnTo>
                    <a:lnTo>
                      <a:pt x="144" y="48"/>
                    </a:lnTo>
                    <a:lnTo>
                      <a:pt x="192" y="48"/>
                    </a:ln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391520" y="5752800"/>
                <a:ext cx="76212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48" y="48"/>
                    </a:moveTo>
                    <a:lnTo>
                      <a:pt x="192" y="48"/>
                    </a:lnTo>
                    <a:lnTo>
                      <a:pt x="240" y="0"/>
                    </a:lnTo>
                    <a:lnTo>
                      <a:pt x="336" y="0"/>
                    </a:lnTo>
                    <a:lnTo>
                      <a:pt x="384" y="48"/>
                    </a:lnTo>
                    <a:lnTo>
                      <a:pt x="480" y="48"/>
                    </a:lnTo>
                    <a:lnTo>
                      <a:pt x="480" y="192"/>
                    </a:lnTo>
                    <a:lnTo>
                      <a:pt x="48" y="192"/>
                    </a:lnTo>
                    <a:lnTo>
                      <a:pt x="0" y="48"/>
                    </a:lnTo>
                    <a:lnTo>
                      <a:pt x="144" y="48"/>
                    </a:lnTo>
                    <a:lnTo>
                      <a:pt x="192" y="4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3962520" y="4191120"/>
              <a:ext cx="1371600" cy="533160"/>
              <a:chOff x="3962520" y="4191120"/>
              <a:chExt cx="1371600" cy="533160"/>
            </a:xfrm>
          </p:grpSpPr>
          <p:sp>
            <p:nvSpPr>
              <p:cNvPr id="1852" name=""/>
              <p:cNvSpPr/>
              <p:nvPr/>
            </p:nvSpPr>
            <p:spPr>
              <a:xfrm>
                <a:off x="3962520" y="4191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105520" y="4191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191120" y="426708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191120" y="4419720"/>
                <a:ext cx="914400" cy="75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191120" y="457200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4497480" y="416556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573800" y="4152960"/>
              <a:ext cx="0" cy="14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883040" y="6222960"/>
              <a:ext cx="28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808520" y="6299280"/>
              <a:ext cx="29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3517920" y="302256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4800600" y="487692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1148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4881600" y="4800600"/>
              <a:ext cx="0" cy="14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038480" y="48769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114800" y="47242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257800" y="5613480"/>
              <a:ext cx="258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81480" y="5715000"/>
              <a:ext cx="265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5257800" y="4698720"/>
              <a:ext cx="0" cy="9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5181480" y="4724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033880" y="6006960"/>
              <a:ext cx="533520" cy="53352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3" name=""/>
            <p:cNvGrpSpPr/>
            <p:nvPr/>
          </p:nvGrpSpPr>
          <p:grpSpPr>
            <a:xfrm>
              <a:off x="5100480" y="6080040"/>
              <a:ext cx="410040" cy="382680"/>
              <a:chOff x="5100480" y="6080040"/>
              <a:chExt cx="410040" cy="382680"/>
            </a:xfrm>
          </p:grpSpPr>
          <p:grpSp>
            <p:nvGrpSpPr>
              <p:cNvPr id="1874" name=""/>
              <p:cNvGrpSpPr/>
              <p:nvPr/>
            </p:nvGrpSpPr>
            <p:grpSpPr>
              <a:xfrm>
                <a:off x="5302440" y="6265800"/>
                <a:ext cx="193680" cy="76320"/>
                <a:chOff x="5302440" y="6265800"/>
                <a:chExt cx="193680" cy="76320"/>
              </a:xfrm>
            </p:grpSpPr>
            <p:sp>
              <p:nvSpPr>
                <p:cNvPr id="1875" name=""/>
                <p:cNvSpPr/>
                <p:nvPr/>
              </p:nvSpPr>
              <p:spPr>
                <a:xfrm>
                  <a:off x="5302440" y="62658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496120" y="62658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5229360" y="6265800"/>
                <a:ext cx="76320" cy="193680"/>
                <a:chOff x="5229360" y="6265800"/>
                <a:chExt cx="76320" cy="19368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305680" y="626580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H="1">
                  <a:off x="5229360" y="6459480"/>
                  <a:ext cx="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0" name=""/>
              <p:cNvGrpSpPr/>
              <p:nvPr/>
            </p:nvGrpSpPr>
            <p:grpSpPr>
              <a:xfrm>
                <a:off x="5114880" y="6189480"/>
                <a:ext cx="193680" cy="76320"/>
                <a:chOff x="5114880" y="6189480"/>
                <a:chExt cx="193680" cy="76320"/>
              </a:xfrm>
            </p:grpSpPr>
            <p:sp>
              <p:nvSpPr>
                <p:cNvPr id="1881" name=""/>
                <p:cNvSpPr/>
                <p:nvPr/>
              </p:nvSpPr>
              <p:spPr>
                <a:xfrm flipH="1">
                  <a:off x="5114880" y="62658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flipV="1">
                  <a:off x="5114880" y="61894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5305680" y="6080040"/>
                <a:ext cx="75960" cy="193680"/>
                <a:chOff x="5305680" y="6080040"/>
                <a:chExt cx="75960" cy="193680"/>
              </a:xfrm>
            </p:grpSpPr>
            <p:sp>
              <p:nvSpPr>
                <p:cNvPr id="1884" name=""/>
                <p:cNvSpPr/>
                <p:nvPr/>
              </p:nvSpPr>
              <p:spPr>
                <a:xfrm flipV="1">
                  <a:off x="5305680" y="60800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5305680" y="608004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6" name=""/>
              <p:cNvGrpSpPr/>
              <p:nvPr/>
            </p:nvGrpSpPr>
            <p:grpSpPr>
              <a:xfrm>
                <a:off x="5319720" y="6119640"/>
                <a:ext cx="190800" cy="136800"/>
                <a:chOff x="5319720" y="6119640"/>
                <a:chExt cx="190800" cy="136800"/>
              </a:xfrm>
            </p:grpSpPr>
            <p:sp>
              <p:nvSpPr>
                <p:cNvPr id="1887" name=""/>
                <p:cNvSpPr/>
                <p:nvPr/>
              </p:nvSpPr>
              <p:spPr>
                <a:xfrm flipV="1">
                  <a:off x="5319720" y="611964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456520" y="611964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"/>
              <p:cNvGrpSpPr/>
              <p:nvPr/>
            </p:nvGrpSpPr>
            <p:grpSpPr>
              <a:xfrm>
                <a:off x="5159520" y="6081480"/>
                <a:ext cx="136800" cy="190440"/>
                <a:chOff x="5159520" y="6081480"/>
                <a:chExt cx="136800" cy="190440"/>
              </a:xfrm>
            </p:grpSpPr>
            <p:sp>
              <p:nvSpPr>
                <p:cNvPr id="1890" name=""/>
                <p:cNvSpPr/>
                <p:nvPr/>
              </p:nvSpPr>
              <p:spPr>
                <a:xfrm flipH="1" flipV="1">
                  <a:off x="5159520" y="61351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flipV="1">
                  <a:off x="5159520" y="6081480"/>
                  <a:ext cx="53640" cy="5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5301720" y="6272280"/>
                <a:ext cx="136800" cy="190440"/>
                <a:chOff x="5301720" y="6272280"/>
                <a:chExt cx="136800" cy="19044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5301720" y="62722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H="1">
                  <a:off x="5384880" y="6409080"/>
                  <a:ext cx="53640" cy="5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5" name=""/>
              <p:cNvGrpSpPr/>
              <p:nvPr/>
            </p:nvGrpSpPr>
            <p:grpSpPr>
              <a:xfrm>
                <a:off x="5100480" y="6283080"/>
                <a:ext cx="190800" cy="136800"/>
                <a:chOff x="5100480" y="6283080"/>
                <a:chExt cx="190800" cy="136800"/>
              </a:xfrm>
            </p:grpSpPr>
            <p:sp>
              <p:nvSpPr>
                <p:cNvPr id="1896" name=""/>
                <p:cNvSpPr/>
                <p:nvPr/>
              </p:nvSpPr>
              <p:spPr>
                <a:xfrm flipH="1">
                  <a:off x="5154480" y="62830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 flipH="1" flipV="1">
                  <a:off x="5100480" y="63658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98" name=""/>
          <p:cNvSpPr/>
          <p:nvPr/>
        </p:nvSpPr>
        <p:spPr>
          <a:xfrm>
            <a:off x="166680" y="5486400"/>
            <a:ext cx="3051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893960" y="4114800"/>
            <a:ext cx="9270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rot="5400000">
            <a:off x="-501120" y="4807800"/>
            <a:ext cx="138420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4840" y="4140360"/>
            <a:ext cx="46980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rot="5400000">
            <a:off x="2286360" y="4001400"/>
            <a:ext cx="30492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325600" y="5257800"/>
            <a:ext cx="533520" cy="53352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325600" y="5257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2390400" y="5330880"/>
            <a:ext cx="409680" cy="382320"/>
            <a:chOff x="2390400" y="5330880"/>
            <a:chExt cx="409680" cy="382320"/>
          </a:xfrm>
        </p:grpSpPr>
        <p:grpSp>
          <p:nvGrpSpPr>
            <p:cNvPr id="1906" name=""/>
            <p:cNvGrpSpPr/>
            <p:nvPr/>
          </p:nvGrpSpPr>
          <p:grpSpPr>
            <a:xfrm>
              <a:off x="2592360" y="5516640"/>
              <a:ext cx="193320" cy="76320"/>
              <a:chOff x="2592360" y="5516640"/>
              <a:chExt cx="193320" cy="76320"/>
            </a:xfrm>
          </p:grpSpPr>
          <p:sp>
            <p:nvSpPr>
              <p:cNvPr id="1907" name=""/>
              <p:cNvSpPr/>
              <p:nvPr/>
            </p:nvSpPr>
            <p:spPr>
              <a:xfrm>
                <a:off x="2592360" y="55166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785680" y="55166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2518920" y="5516640"/>
              <a:ext cx="75960" cy="193680"/>
              <a:chOff x="2518920" y="5516640"/>
              <a:chExt cx="75960" cy="193680"/>
            </a:xfrm>
          </p:grpSpPr>
          <p:sp>
            <p:nvSpPr>
              <p:cNvPr id="1910" name=""/>
              <p:cNvSpPr/>
              <p:nvPr/>
            </p:nvSpPr>
            <p:spPr>
              <a:xfrm>
                <a:off x="2594880" y="55166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2518920" y="571032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2404440" y="5440320"/>
              <a:ext cx="193320" cy="76320"/>
              <a:chOff x="2404440" y="5440320"/>
              <a:chExt cx="193320" cy="76320"/>
            </a:xfrm>
          </p:grpSpPr>
          <p:sp>
            <p:nvSpPr>
              <p:cNvPr id="1913" name=""/>
              <p:cNvSpPr/>
              <p:nvPr/>
            </p:nvSpPr>
            <p:spPr>
              <a:xfrm flipH="1">
                <a:off x="2404440" y="55166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2404440" y="54403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2595600" y="5330880"/>
              <a:ext cx="75600" cy="193680"/>
              <a:chOff x="2595600" y="5330880"/>
              <a:chExt cx="75600" cy="193680"/>
            </a:xfrm>
          </p:grpSpPr>
          <p:sp>
            <p:nvSpPr>
              <p:cNvPr id="1916" name=""/>
              <p:cNvSpPr/>
              <p:nvPr/>
            </p:nvSpPr>
            <p:spPr>
              <a:xfrm flipV="1">
                <a:off x="2595600" y="53308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2595600" y="533088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"/>
            <p:cNvGrpSpPr/>
            <p:nvPr/>
          </p:nvGrpSpPr>
          <p:grpSpPr>
            <a:xfrm>
              <a:off x="2609640" y="5370480"/>
              <a:ext cx="190440" cy="136800"/>
              <a:chOff x="2609640" y="5370480"/>
              <a:chExt cx="190440" cy="136800"/>
            </a:xfrm>
          </p:grpSpPr>
          <p:sp>
            <p:nvSpPr>
              <p:cNvPr id="1919" name=""/>
              <p:cNvSpPr/>
              <p:nvPr/>
            </p:nvSpPr>
            <p:spPr>
              <a:xfrm flipV="1">
                <a:off x="2609640" y="537048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2746080" y="53704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2449440" y="5332680"/>
              <a:ext cx="136800" cy="190080"/>
              <a:chOff x="2449440" y="5332680"/>
              <a:chExt cx="136800" cy="190080"/>
            </a:xfrm>
          </p:grpSpPr>
          <p:sp>
            <p:nvSpPr>
              <p:cNvPr id="1922" name=""/>
              <p:cNvSpPr/>
              <p:nvPr/>
            </p:nvSpPr>
            <p:spPr>
              <a:xfrm flipH="1" flipV="1">
                <a:off x="2449440" y="538596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2449440" y="533268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2591640" y="5523120"/>
              <a:ext cx="136800" cy="190080"/>
              <a:chOff x="2591640" y="5523120"/>
              <a:chExt cx="136800" cy="190080"/>
            </a:xfrm>
          </p:grpSpPr>
          <p:sp>
            <p:nvSpPr>
              <p:cNvPr id="1925" name=""/>
              <p:cNvSpPr/>
              <p:nvPr/>
            </p:nvSpPr>
            <p:spPr>
              <a:xfrm>
                <a:off x="2591640" y="55231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2675160" y="565992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7" name=""/>
            <p:cNvGrpSpPr/>
            <p:nvPr/>
          </p:nvGrpSpPr>
          <p:grpSpPr>
            <a:xfrm>
              <a:off x="2390400" y="5533920"/>
              <a:ext cx="190440" cy="136800"/>
              <a:chOff x="2390400" y="5533920"/>
              <a:chExt cx="190440" cy="136800"/>
            </a:xfrm>
          </p:grpSpPr>
          <p:sp>
            <p:nvSpPr>
              <p:cNvPr id="1928" name=""/>
              <p:cNvSpPr/>
              <p:nvPr/>
            </p:nvSpPr>
            <p:spPr>
              <a:xfrm flipH="1">
                <a:off x="2444400" y="553392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 flipV="1">
                <a:off x="2390400" y="561672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0" name=""/>
          <p:cNvSpPr/>
          <p:nvPr/>
        </p:nvSpPr>
        <p:spPr>
          <a:xfrm>
            <a:off x="3583080" y="5524560"/>
            <a:ext cx="1000080" cy="76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3751200" y="5295960"/>
            <a:ext cx="533520" cy="53352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751200" y="5308560"/>
            <a:ext cx="533520" cy="533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3816000" y="5369040"/>
            <a:ext cx="409680" cy="382320"/>
            <a:chOff x="3816000" y="5369040"/>
            <a:chExt cx="409680" cy="382320"/>
          </a:xfrm>
        </p:grpSpPr>
        <p:grpSp>
          <p:nvGrpSpPr>
            <p:cNvPr id="1934" name=""/>
            <p:cNvGrpSpPr/>
            <p:nvPr/>
          </p:nvGrpSpPr>
          <p:grpSpPr>
            <a:xfrm>
              <a:off x="4017960" y="5554800"/>
              <a:ext cx="193320" cy="76320"/>
              <a:chOff x="4017960" y="5554800"/>
              <a:chExt cx="193320" cy="76320"/>
            </a:xfrm>
          </p:grpSpPr>
          <p:sp>
            <p:nvSpPr>
              <p:cNvPr id="1935" name=""/>
              <p:cNvSpPr/>
              <p:nvPr/>
            </p:nvSpPr>
            <p:spPr>
              <a:xfrm>
                <a:off x="4017960" y="555480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211280" y="55548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3944520" y="5554800"/>
              <a:ext cx="75960" cy="193680"/>
              <a:chOff x="3944520" y="5554800"/>
              <a:chExt cx="75960" cy="193680"/>
            </a:xfrm>
          </p:grpSpPr>
          <p:sp>
            <p:nvSpPr>
              <p:cNvPr id="1938" name=""/>
              <p:cNvSpPr/>
              <p:nvPr/>
            </p:nvSpPr>
            <p:spPr>
              <a:xfrm>
                <a:off x="4020480" y="555480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3944520" y="57484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0" name=""/>
            <p:cNvGrpSpPr/>
            <p:nvPr/>
          </p:nvGrpSpPr>
          <p:grpSpPr>
            <a:xfrm>
              <a:off x="3830040" y="5478480"/>
              <a:ext cx="193320" cy="76320"/>
              <a:chOff x="3830040" y="5478480"/>
              <a:chExt cx="193320" cy="76320"/>
            </a:xfrm>
          </p:grpSpPr>
          <p:sp>
            <p:nvSpPr>
              <p:cNvPr id="1941" name=""/>
              <p:cNvSpPr/>
              <p:nvPr/>
            </p:nvSpPr>
            <p:spPr>
              <a:xfrm flipH="1">
                <a:off x="3830040" y="555480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V="1">
                <a:off x="3830040" y="54784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021200" y="5369040"/>
              <a:ext cx="75600" cy="193680"/>
              <a:chOff x="4021200" y="5369040"/>
              <a:chExt cx="75600" cy="19368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4021200" y="53690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021200" y="536904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"/>
            <p:cNvGrpSpPr/>
            <p:nvPr/>
          </p:nvGrpSpPr>
          <p:grpSpPr>
            <a:xfrm>
              <a:off x="4035240" y="5408640"/>
              <a:ext cx="190440" cy="136800"/>
              <a:chOff x="4035240" y="5408640"/>
              <a:chExt cx="190440" cy="136800"/>
            </a:xfrm>
          </p:grpSpPr>
          <p:sp>
            <p:nvSpPr>
              <p:cNvPr id="1947" name=""/>
              <p:cNvSpPr/>
              <p:nvPr/>
            </p:nvSpPr>
            <p:spPr>
              <a:xfrm flipV="1">
                <a:off x="4035240" y="540864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171680" y="540864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3875040" y="5370840"/>
              <a:ext cx="136800" cy="190080"/>
              <a:chOff x="3875040" y="5370840"/>
              <a:chExt cx="136800" cy="190080"/>
            </a:xfrm>
          </p:grpSpPr>
          <p:sp>
            <p:nvSpPr>
              <p:cNvPr id="1950" name=""/>
              <p:cNvSpPr/>
              <p:nvPr/>
            </p:nvSpPr>
            <p:spPr>
              <a:xfrm flipH="1" flipV="1">
                <a:off x="3875040" y="54241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V="1">
                <a:off x="3875040" y="537084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4017240" y="5561280"/>
              <a:ext cx="136800" cy="190080"/>
              <a:chOff x="4017240" y="5561280"/>
              <a:chExt cx="136800" cy="190080"/>
            </a:xfrm>
          </p:grpSpPr>
          <p:sp>
            <p:nvSpPr>
              <p:cNvPr id="1953" name=""/>
              <p:cNvSpPr/>
              <p:nvPr/>
            </p:nvSpPr>
            <p:spPr>
              <a:xfrm>
                <a:off x="4017240" y="556128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4100760" y="569808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3816000" y="5572080"/>
              <a:ext cx="190440" cy="136800"/>
              <a:chOff x="3816000" y="5572080"/>
              <a:chExt cx="190440" cy="136800"/>
            </a:xfrm>
          </p:grpSpPr>
          <p:sp>
            <p:nvSpPr>
              <p:cNvPr id="1956" name=""/>
              <p:cNvSpPr/>
              <p:nvPr/>
            </p:nvSpPr>
            <p:spPr>
              <a:xfrm flipH="1">
                <a:off x="3870000" y="557208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 flipV="1">
                <a:off x="3816000" y="56548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8" name=""/>
          <p:cNvGrpSpPr/>
          <p:nvPr/>
        </p:nvGrpSpPr>
        <p:grpSpPr>
          <a:xfrm>
            <a:off x="2808360" y="2120760"/>
            <a:ext cx="457200" cy="1359000"/>
            <a:chOff x="2808360" y="2120760"/>
            <a:chExt cx="457200" cy="1359000"/>
          </a:xfrm>
        </p:grpSpPr>
        <p:sp>
          <p:nvSpPr>
            <p:cNvPr id="1959" name=""/>
            <p:cNvSpPr/>
            <p:nvPr/>
          </p:nvSpPr>
          <p:spPr>
            <a:xfrm>
              <a:off x="2935440" y="3124080"/>
              <a:ext cx="19368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0988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1" name=""/>
            <p:cNvGrpSpPr/>
            <p:nvPr/>
          </p:nvGrpSpPr>
          <p:grpSpPr>
            <a:xfrm>
              <a:off x="2808360" y="2120760"/>
              <a:ext cx="431640" cy="1152360"/>
              <a:chOff x="2808360" y="2120760"/>
              <a:chExt cx="431640" cy="1152360"/>
            </a:xfrm>
          </p:grpSpPr>
          <p:sp>
            <p:nvSpPr>
              <p:cNvPr id="1962" name=""/>
              <p:cNvSpPr/>
              <p:nvPr/>
            </p:nvSpPr>
            <p:spPr>
              <a:xfrm>
                <a:off x="2808360" y="2120760"/>
                <a:ext cx="428760" cy="352440"/>
              </a:xfrm>
              <a:prstGeom prst="ellips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811600" y="2920680"/>
                <a:ext cx="428400" cy="35244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809800" y="2317320"/>
                <a:ext cx="430200" cy="8287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808360" y="2303280"/>
                <a:ext cx="411120" cy="8427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808360" y="235872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240000" y="2269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808360" y="22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9" name=""/>
            <p:cNvGrpSpPr/>
            <p:nvPr/>
          </p:nvGrpSpPr>
          <p:grpSpPr>
            <a:xfrm>
              <a:off x="2808360" y="2120760"/>
              <a:ext cx="431280" cy="1152720"/>
              <a:chOff x="2808360" y="2120760"/>
              <a:chExt cx="431280" cy="1152720"/>
            </a:xfrm>
          </p:grpSpPr>
          <p:sp>
            <p:nvSpPr>
              <p:cNvPr id="1970" name=""/>
              <p:cNvSpPr/>
              <p:nvPr/>
            </p:nvSpPr>
            <p:spPr>
              <a:xfrm>
                <a:off x="2808360" y="2120760"/>
                <a:ext cx="42732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811960" y="2921040"/>
                <a:ext cx="42732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09800" y="2317680"/>
                <a:ext cx="429480" cy="8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808360" y="2303280"/>
                <a:ext cx="410040" cy="843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808360" y="2359080"/>
                <a:ext cx="0" cy="799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239640" y="22701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08360" y="22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922480" y="2257560"/>
              <a:ext cx="203040" cy="914400"/>
              <a:chOff x="2922480" y="2257560"/>
              <a:chExt cx="203040" cy="914400"/>
            </a:xfrm>
          </p:grpSpPr>
          <p:sp>
            <p:nvSpPr>
              <p:cNvPr id="1978" name=""/>
              <p:cNvSpPr/>
              <p:nvPr/>
            </p:nvSpPr>
            <p:spPr>
              <a:xfrm>
                <a:off x="2922480" y="2257560"/>
                <a:ext cx="201600" cy="279360"/>
              </a:xfrm>
              <a:prstGeom prst="ellips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3920" y="2892600"/>
                <a:ext cx="201600" cy="27936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923920" y="2413080"/>
                <a:ext cx="201600" cy="6588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22480" y="2401920"/>
                <a:ext cx="193680" cy="669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922480" y="2446560"/>
                <a:ext cx="0" cy="63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125520" y="23767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22480" y="236556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2808360" y="3048120"/>
              <a:ext cx="457200" cy="38088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2922480" y="2257560"/>
              <a:ext cx="203040" cy="1094760"/>
              <a:chOff x="2922480" y="2257560"/>
              <a:chExt cx="203040" cy="1094760"/>
            </a:xfrm>
          </p:grpSpPr>
          <p:sp>
            <p:nvSpPr>
              <p:cNvPr id="1987" name=""/>
              <p:cNvSpPr/>
              <p:nvPr/>
            </p:nvSpPr>
            <p:spPr>
              <a:xfrm>
                <a:off x="2922480" y="225756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923920" y="301788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923920" y="2443680"/>
                <a:ext cx="201600" cy="788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922480" y="2430360"/>
                <a:ext cx="193680" cy="802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922480" y="2483640"/>
                <a:ext cx="0" cy="76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125520" y="240012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922480" y="238680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4" name=""/>
            <p:cNvSpPr/>
            <p:nvPr/>
          </p:nvSpPr>
          <p:spPr>
            <a:xfrm>
              <a:off x="2908440" y="3251160"/>
              <a:ext cx="1872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935440" y="326376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6" name=""/>
          <p:cNvSpPr/>
          <p:nvPr/>
        </p:nvSpPr>
        <p:spPr>
          <a:xfrm rot="16200000">
            <a:off x="2240640" y="4231440"/>
            <a:ext cx="2656080" cy="76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392640" y="2946240"/>
            <a:ext cx="136440" cy="76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rot="16200000">
            <a:off x="2666160" y="1156320"/>
            <a:ext cx="712800" cy="7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022560" y="851040"/>
            <a:ext cx="1505160" cy="7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rot="16200000">
            <a:off x="3328920" y="2035080"/>
            <a:ext cx="2403360" cy="7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7620120" y="2666880"/>
            <a:ext cx="304200" cy="2817720"/>
            <a:chOff x="7620120" y="2666880"/>
            <a:chExt cx="304200" cy="2817720"/>
          </a:xfrm>
        </p:grpSpPr>
        <p:sp>
          <p:nvSpPr>
            <p:cNvPr id="2002" name=""/>
            <p:cNvSpPr/>
            <p:nvPr/>
          </p:nvSpPr>
          <p:spPr>
            <a:xfrm>
              <a:off x="7620120" y="2666880"/>
              <a:ext cx="36000" cy="281772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709400" y="2666880"/>
              <a:ext cx="36000" cy="281772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798680" y="2666880"/>
              <a:ext cx="36000" cy="281772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88320" y="2666880"/>
              <a:ext cx="36000" cy="281772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 rot="16200000">
            <a:off x="3866400" y="4818600"/>
            <a:ext cx="1360440" cy="75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867200" y="6224760"/>
            <a:ext cx="290520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035680" y="6006960"/>
            <a:ext cx="533160" cy="53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5100480" y="6080040"/>
            <a:ext cx="410040" cy="382680"/>
            <a:chOff x="5100480" y="6080040"/>
            <a:chExt cx="410040" cy="382680"/>
          </a:xfrm>
        </p:grpSpPr>
        <p:grpSp>
          <p:nvGrpSpPr>
            <p:cNvPr id="2010" name=""/>
            <p:cNvGrpSpPr/>
            <p:nvPr/>
          </p:nvGrpSpPr>
          <p:grpSpPr>
            <a:xfrm>
              <a:off x="5302440" y="6265800"/>
              <a:ext cx="193680" cy="76320"/>
              <a:chOff x="5302440" y="6265800"/>
              <a:chExt cx="193680" cy="76320"/>
            </a:xfrm>
          </p:grpSpPr>
          <p:sp>
            <p:nvSpPr>
              <p:cNvPr id="2011" name=""/>
              <p:cNvSpPr/>
              <p:nvPr/>
            </p:nvSpPr>
            <p:spPr>
              <a:xfrm>
                <a:off x="5302440" y="626580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6120" y="62658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3" name=""/>
            <p:cNvGrpSpPr/>
            <p:nvPr/>
          </p:nvGrpSpPr>
          <p:grpSpPr>
            <a:xfrm>
              <a:off x="5229360" y="6265800"/>
              <a:ext cx="76320" cy="193680"/>
              <a:chOff x="5229360" y="6265800"/>
              <a:chExt cx="76320" cy="193680"/>
            </a:xfrm>
          </p:grpSpPr>
          <p:sp>
            <p:nvSpPr>
              <p:cNvPr id="2014" name=""/>
              <p:cNvSpPr/>
              <p:nvPr/>
            </p:nvSpPr>
            <p:spPr>
              <a:xfrm>
                <a:off x="5305680" y="626580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5229360" y="645948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5114880" y="6189480"/>
              <a:ext cx="193680" cy="76320"/>
              <a:chOff x="5114880" y="6189480"/>
              <a:chExt cx="193680" cy="76320"/>
            </a:xfrm>
          </p:grpSpPr>
          <p:sp>
            <p:nvSpPr>
              <p:cNvPr id="2017" name=""/>
              <p:cNvSpPr/>
              <p:nvPr/>
            </p:nvSpPr>
            <p:spPr>
              <a:xfrm flipH="1">
                <a:off x="5114880" y="626580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114880" y="61894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9" name=""/>
            <p:cNvGrpSpPr/>
            <p:nvPr/>
          </p:nvGrpSpPr>
          <p:grpSpPr>
            <a:xfrm>
              <a:off x="5305680" y="6080040"/>
              <a:ext cx="75960" cy="193680"/>
              <a:chOff x="5305680" y="6080040"/>
              <a:chExt cx="75960" cy="193680"/>
            </a:xfrm>
          </p:grpSpPr>
          <p:sp>
            <p:nvSpPr>
              <p:cNvPr id="2020" name=""/>
              <p:cNvSpPr/>
              <p:nvPr/>
            </p:nvSpPr>
            <p:spPr>
              <a:xfrm flipV="1">
                <a:off x="5305680" y="60800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305680" y="608004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"/>
            <p:cNvGrpSpPr/>
            <p:nvPr/>
          </p:nvGrpSpPr>
          <p:grpSpPr>
            <a:xfrm>
              <a:off x="5319720" y="6119640"/>
              <a:ext cx="190800" cy="136800"/>
              <a:chOff x="5319720" y="6119640"/>
              <a:chExt cx="190800" cy="136800"/>
            </a:xfrm>
          </p:grpSpPr>
          <p:sp>
            <p:nvSpPr>
              <p:cNvPr id="2023" name=""/>
              <p:cNvSpPr/>
              <p:nvPr/>
            </p:nvSpPr>
            <p:spPr>
              <a:xfrm flipV="1">
                <a:off x="5319720" y="611964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456520" y="611964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5159520" y="6081480"/>
              <a:ext cx="136800" cy="190440"/>
              <a:chOff x="5159520" y="6081480"/>
              <a:chExt cx="136800" cy="190440"/>
            </a:xfrm>
          </p:grpSpPr>
          <p:sp>
            <p:nvSpPr>
              <p:cNvPr id="2026" name=""/>
              <p:cNvSpPr/>
              <p:nvPr/>
            </p:nvSpPr>
            <p:spPr>
              <a:xfrm flipH="1" flipV="1">
                <a:off x="5159520" y="61351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159520" y="6081480"/>
                <a:ext cx="5364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8" name=""/>
            <p:cNvGrpSpPr/>
            <p:nvPr/>
          </p:nvGrpSpPr>
          <p:grpSpPr>
            <a:xfrm>
              <a:off x="5301720" y="6272280"/>
              <a:ext cx="136800" cy="190440"/>
              <a:chOff x="5301720" y="6272280"/>
              <a:chExt cx="136800" cy="190440"/>
            </a:xfrm>
          </p:grpSpPr>
          <p:sp>
            <p:nvSpPr>
              <p:cNvPr id="2029" name=""/>
              <p:cNvSpPr/>
              <p:nvPr/>
            </p:nvSpPr>
            <p:spPr>
              <a:xfrm>
                <a:off x="5301720" y="627228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5384880" y="6409080"/>
                <a:ext cx="5364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1" name=""/>
            <p:cNvGrpSpPr/>
            <p:nvPr/>
          </p:nvGrpSpPr>
          <p:grpSpPr>
            <a:xfrm>
              <a:off x="5100480" y="6283080"/>
              <a:ext cx="190800" cy="136800"/>
              <a:chOff x="5100480" y="6283080"/>
              <a:chExt cx="190800" cy="136800"/>
            </a:xfrm>
          </p:grpSpPr>
          <p:sp>
            <p:nvSpPr>
              <p:cNvPr id="2032" name=""/>
              <p:cNvSpPr/>
              <p:nvPr/>
            </p:nvSpPr>
            <p:spPr>
              <a:xfrm flipH="1">
                <a:off x="5154480" y="628308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5100480" y="63658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4" name=""/>
          <p:cNvSpPr/>
          <p:nvPr/>
        </p:nvSpPr>
        <p:spPr>
          <a:xfrm rot="5400000">
            <a:off x="4118040" y="5529240"/>
            <a:ext cx="1465200" cy="74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071960" y="4800600"/>
            <a:ext cx="81756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rot="5400000">
            <a:off x="4009320" y="4762440"/>
            <a:ext cx="154080" cy="74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257800" y="5627520"/>
            <a:ext cx="2506680" cy="87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rot="5400000">
            <a:off x="4724640" y="5182200"/>
            <a:ext cx="99072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-720" y="583236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Circuit primair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2819520" y="1557360"/>
            <a:ext cx="519120" cy="500040"/>
            <a:chOff x="2819520" y="1557360"/>
            <a:chExt cx="519120" cy="500040"/>
          </a:xfrm>
        </p:grpSpPr>
        <p:sp>
          <p:nvSpPr>
            <p:cNvPr id="2041" name=""/>
            <p:cNvSpPr/>
            <p:nvPr/>
          </p:nvSpPr>
          <p:spPr>
            <a:xfrm>
              <a:off x="281952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97180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12408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27672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 rot="5400000">
            <a:off x="2296800" y="3573360"/>
            <a:ext cx="1137960" cy="87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rot="5400000">
            <a:off x="1946160" y="4227480"/>
            <a:ext cx="2468520" cy="8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650480" y="320760"/>
            <a:ext cx="26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Circuit secondair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réation de vap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6781680" y="1272600"/>
            <a:ext cx="2159280" cy="1483200"/>
            <a:chOff x="6781680" y="1272600"/>
            <a:chExt cx="2159280" cy="1483200"/>
          </a:xfrm>
        </p:grpSpPr>
        <p:sp>
          <p:nvSpPr>
            <p:cNvPr id="2049" name=""/>
            <p:cNvSpPr/>
            <p:nvPr/>
          </p:nvSpPr>
          <p:spPr>
            <a:xfrm>
              <a:off x="6781680" y="1427040"/>
              <a:ext cx="981360" cy="77004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858000" y="1592280"/>
              <a:ext cx="981000" cy="77004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810560" y="1612800"/>
              <a:ext cx="76320" cy="11430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3784800">
              <a:off x="7454880" y="1625400"/>
              <a:ext cx="838440" cy="763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934320" y="1820880"/>
              <a:ext cx="981000" cy="77004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721640" y="1460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848720" y="1638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920000" y="182880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6781680" y="1447920"/>
            <a:ext cx="1130400" cy="1150920"/>
            <a:chOff x="6781680" y="1447920"/>
            <a:chExt cx="1130400" cy="1150920"/>
          </a:xfrm>
        </p:grpSpPr>
        <p:sp>
          <p:nvSpPr>
            <p:cNvPr id="2058" name=""/>
            <p:cNvSpPr/>
            <p:nvPr/>
          </p:nvSpPr>
          <p:spPr>
            <a:xfrm>
              <a:off x="6781680" y="1447920"/>
              <a:ext cx="981360" cy="76968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858000" y="1600200"/>
              <a:ext cx="981000" cy="77004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931080" y="1828800"/>
              <a:ext cx="981000" cy="770040"/>
            </a:xfrm>
            <a:custGeom>
              <a:avLst/>
              <a:gdLst/>
              <a:ahLst/>
              <a:rect l="l" t="t" r="r" b="b"/>
              <a:pathLst>
                <a:path w="618" h="485">
                  <a:moveTo>
                    <a:pt x="0" y="485"/>
                  </a:moveTo>
                  <a:lnTo>
                    <a:pt x="204" y="390"/>
                  </a:lnTo>
                  <a:lnTo>
                    <a:pt x="326" y="300"/>
                  </a:lnTo>
                  <a:lnTo>
                    <a:pt x="480" y="179"/>
                  </a:lnTo>
                  <a:lnTo>
                    <a:pt x="618" y="0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7721640" y="1455840"/>
            <a:ext cx="1219320" cy="368280"/>
            <a:chOff x="7721640" y="1455840"/>
            <a:chExt cx="1219320" cy="368280"/>
          </a:xfrm>
        </p:grpSpPr>
        <p:sp>
          <p:nvSpPr>
            <p:cNvPr id="2062" name=""/>
            <p:cNvSpPr/>
            <p:nvPr/>
          </p:nvSpPr>
          <p:spPr>
            <a:xfrm>
              <a:off x="7721640" y="14558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848720" y="1633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920000" y="1824120"/>
              <a:ext cx="9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721640" y="1455840"/>
              <a:ext cx="12193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848720" y="1633680"/>
              <a:ext cx="10666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924680" y="1824120"/>
              <a:ext cx="9954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8" name=""/>
          <p:cNvSpPr/>
          <p:nvPr/>
        </p:nvSpPr>
        <p:spPr>
          <a:xfrm>
            <a:off x="5040720" y="335268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ircuit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froidi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1640" y="7632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lques chiffres impor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989720" y="1009800"/>
            <a:ext cx="49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urée de vie: plus d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0 ans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312200" y="1859040"/>
            <a:ext cx="68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L ’arrêt d ’une centrale: 40 à 50 j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-25560" y="2820960"/>
            <a:ext cx="8955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 arrêt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tous les ans ou 18 mo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        </a:t>
            </a: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renouveler le combustible nuclé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1000 personnes pour 4000 à 5000 intervention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        </a:t>
            </a: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Coût # 10 millions d ’eur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                    </a:t>
            </a:r>
            <a:r>
              <a:rPr b="0" lang="fr-FR" sz="3200" spc="-1" strike="noStrike">
                <a:solidFill>
                  <a:srgbClr val="00cc66"/>
                </a:solidFill>
                <a:latin typeface="Times New Roman"/>
              </a:rPr>
              <a:t>causé par l ’immobilisation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"/>
          <p:cNvSpPr/>
          <p:nvPr/>
        </p:nvSpPr>
        <p:spPr>
          <a:xfrm>
            <a:off x="71640" y="7632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lques chiffres impor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05200" y="12492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centrale est composée de tran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8240" y="1935000"/>
            <a:ext cx="86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Tranche = chaudière; turboalternateur, et auxili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18040" y="2698920"/>
            <a:ext cx="55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éacteurs existant: tranche de 9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ranche de 13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ranche de 145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3440" y="4114800"/>
            <a:ext cx="68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Chaque centrale nucléaire est composé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imes New Roman"/>
              </a:rPr>
              <a:t>de 2; 4 ou 6 tran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10120" y="5410080"/>
            <a:ext cx="624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ur toute la France, 54 tranch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posent le parc nucléaire franç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51560" y="552600"/>
            <a:ext cx="19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 Fr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carte_des_sites_seule" descr=""/>
          <p:cNvPicPr/>
          <p:nvPr/>
        </p:nvPicPr>
        <p:blipFill>
          <a:blip r:embed="rId2"/>
          <a:stretch/>
        </p:blipFill>
        <p:spPr>
          <a:xfrm>
            <a:off x="2209680" y="-380880"/>
            <a:ext cx="5216760" cy="78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71640" y="7632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lques chiffres import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7160" y="68580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ance / M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04120" y="1390680"/>
            <a:ext cx="65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38 réacteurs en service dans le m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10960" y="2057400"/>
            <a:ext cx="76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201 réacteurs sont de technologie R.E.P. soit 189 0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944640" y="28954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France en 199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433240" y="342900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uissance totale nucléaire installée : 58 34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899080" y="40384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34 tranches R.E.P. 900 MW: 30 77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20 tranches R.E.P. 1300 MW: 26 37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1 tranche N.R.N. 1200 MW (Creys-Malv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77640" y="57150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Les tranches 1450 MW ont été mises en service vers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800" y="-22320"/>
            <a:ext cx="38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ntrales nuclé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" y="9144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aison du nucléai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0800" y="914400"/>
            <a:ext cx="466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ire: Crise du pétrole en 197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oin d ’indépendance énergétiq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84200" y="5029200"/>
            <a:ext cx="583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ctuellement, 80% de l ’éne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duite est issue du nucléa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880" y="2174760"/>
            <a:ext cx="86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 France développe alors un parc homogène de centrales nuclé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200" y="25909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 ’est la filière R.E.P. qui est préconis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680" y="320040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.E.P.:Réacteurs à Eau Pressuris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9320" y="3581280"/>
            <a:ext cx="68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la vapeur haute pression entraîne en rotati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bo_alterna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1640" y="7632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ncipe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6600" y="1717560"/>
            <a:ext cx="2571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1360" y="2809800"/>
            <a:ext cx="433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éation de vapeur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20" y="3876840"/>
            <a:ext cx="474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e en rotation du turbo_altern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43520"/>
            <a:ext cx="3134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d ’électri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25680" y="2200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25680" y="3267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25680" y="4334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08840" y="137160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288" y="240"/>
                </a:moveTo>
                <a:lnTo>
                  <a:pt x="384" y="0"/>
                </a:lnTo>
                <a:lnTo>
                  <a:pt x="480" y="240"/>
                </a:lnTo>
                <a:lnTo>
                  <a:pt x="672" y="96"/>
                </a:lnTo>
                <a:lnTo>
                  <a:pt x="624" y="288"/>
                </a:lnTo>
                <a:lnTo>
                  <a:pt x="816" y="384"/>
                </a:lnTo>
                <a:lnTo>
                  <a:pt x="624" y="432"/>
                </a:lnTo>
                <a:lnTo>
                  <a:pt x="576" y="576"/>
                </a:lnTo>
                <a:lnTo>
                  <a:pt x="480" y="432"/>
                </a:lnTo>
                <a:lnTo>
                  <a:pt x="432" y="672"/>
                </a:lnTo>
                <a:lnTo>
                  <a:pt x="288" y="432"/>
                </a:lnTo>
                <a:lnTo>
                  <a:pt x="192" y="576"/>
                </a:lnTo>
                <a:lnTo>
                  <a:pt x="144" y="432"/>
                </a:lnTo>
                <a:lnTo>
                  <a:pt x="0" y="336"/>
                </a:lnTo>
                <a:lnTo>
                  <a:pt x="192" y="336"/>
                </a:lnTo>
                <a:lnTo>
                  <a:pt x="96" y="144"/>
                </a:lnTo>
                <a:lnTo>
                  <a:pt x="288" y="2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26360" y="1765440"/>
            <a:ext cx="609480" cy="304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1790640"/>
            <a:ext cx="381240" cy="254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491160" y="2776680"/>
            <a:ext cx="519120" cy="500040"/>
            <a:chOff x="6491160" y="2776680"/>
            <a:chExt cx="519120" cy="500040"/>
          </a:xfrm>
        </p:grpSpPr>
        <p:sp>
          <p:nvSpPr>
            <p:cNvPr id="81" name=""/>
            <p:cNvSpPr/>
            <p:nvPr/>
          </p:nvSpPr>
          <p:spPr>
            <a:xfrm>
              <a:off x="6491160" y="277668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43440" y="277668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95720" y="277668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277668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598800" y="3959280"/>
            <a:ext cx="409680" cy="382320"/>
            <a:chOff x="6598800" y="3959280"/>
            <a:chExt cx="409680" cy="382320"/>
          </a:xfrm>
        </p:grpSpPr>
        <p:grpSp>
          <p:nvGrpSpPr>
            <p:cNvPr id="86" name=""/>
            <p:cNvGrpSpPr/>
            <p:nvPr/>
          </p:nvGrpSpPr>
          <p:grpSpPr>
            <a:xfrm>
              <a:off x="6800760" y="4145040"/>
              <a:ext cx="193320" cy="76320"/>
              <a:chOff x="6800760" y="4145040"/>
              <a:chExt cx="193320" cy="76320"/>
            </a:xfrm>
          </p:grpSpPr>
          <p:sp>
            <p:nvSpPr>
              <p:cNvPr id="87" name=""/>
              <p:cNvSpPr/>
              <p:nvPr/>
            </p:nvSpPr>
            <p:spPr>
              <a:xfrm>
                <a:off x="6800760" y="41450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94080" y="4145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727320" y="4145040"/>
              <a:ext cx="75960" cy="193680"/>
              <a:chOff x="6727320" y="4145040"/>
              <a:chExt cx="75960" cy="193680"/>
            </a:xfrm>
          </p:grpSpPr>
          <p:sp>
            <p:nvSpPr>
              <p:cNvPr id="90" name=""/>
              <p:cNvSpPr/>
              <p:nvPr/>
            </p:nvSpPr>
            <p:spPr>
              <a:xfrm>
                <a:off x="6803280" y="41450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727320" y="433872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612840" y="4068720"/>
              <a:ext cx="193320" cy="76320"/>
              <a:chOff x="6612840" y="4068720"/>
              <a:chExt cx="193320" cy="7632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6612840" y="41450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612840" y="40687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804000" y="3959280"/>
              <a:ext cx="75600" cy="193680"/>
              <a:chOff x="6804000" y="3959280"/>
              <a:chExt cx="75600" cy="193680"/>
            </a:xfrm>
          </p:grpSpPr>
          <p:sp>
            <p:nvSpPr>
              <p:cNvPr id="96" name=""/>
              <p:cNvSpPr/>
              <p:nvPr/>
            </p:nvSpPr>
            <p:spPr>
              <a:xfrm flipV="1">
                <a:off x="6804000" y="39592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04000" y="395928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818040" y="3998880"/>
              <a:ext cx="190440" cy="136800"/>
              <a:chOff x="6818040" y="3998880"/>
              <a:chExt cx="190440" cy="13680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18040" y="399888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54480" y="39988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657840" y="3961080"/>
              <a:ext cx="136800" cy="190080"/>
              <a:chOff x="6657840" y="3961080"/>
              <a:chExt cx="136800" cy="190080"/>
            </a:xfrm>
          </p:grpSpPr>
          <p:sp>
            <p:nvSpPr>
              <p:cNvPr id="102" name=""/>
              <p:cNvSpPr/>
              <p:nvPr/>
            </p:nvSpPr>
            <p:spPr>
              <a:xfrm flipH="1" flipV="1">
                <a:off x="6657840" y="401436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657840" y="396108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800040" y="4151520"/>
              <a:ext cx="136800" cy="190080"/>
              <a:chOff x="6800040" y="4151520"/>
              <a:chExt cx="136800" cy="1900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00040" y="41515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883560" y="428832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598800" y="4162320"/>
              <a:ext cx="190440" cy="136800"/>
              <a:chOff x="6598800" y="4162320"/>
              <a:chExt cx="190440" cy="13680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6652800" y="416232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6598800" y="424512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5867280" y="4876560"/>
            <a:ext cx="1397160" cy="686160"/>
            <a:chOff x="5867280" y="4876560"/>
            <a:chExt cx="1397160" cy="686160"/>
          </a:xfrm>
        </p:grpSpPr>
        <p:sp>
          <p:nvSpPr>
            <p:cNvPr id="111" name=""/>
            <p:cNvSpPr/>
            <p:nvPr/>
          </p:nvSpPr>
          <p:spPr>
            <a:xfrm>
              <a:off x="5867280" y="5029200"/>
              <a:ext cx="38124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058080" y="48765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05808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12160" y="5029200"/>
              <a:ext cx="1522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8080" y="48769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188120" y="48765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188120" y="5410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58080" y="5562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V="1">
            <a:off x="6058080" y="487656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58080" y="5410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87692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188120" y="4876560"/>
            <a:ext cx="0" cy="152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188120" y="5410080"/>
            <a:ext cx="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58080" y="5562720"/>
            <a:ext cx="114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27880" y="388620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3800" y="763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880" y="60948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uranium 235 est constitué d ’atomes dits fis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400" y="1157400"/>
            <a:ext cx="88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d un neutron entre en collision avec un noyau d ’uranium il se passe la réaction suiv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0920" y="2209680"/>
            <a:ext cx="838080" cy="990720"/>
            <a:chOff x="2590920" y="2209680"/>
            <a:chExt cx="838080" cy="990720"/>
          </a:xfrm>
        </p:grpSpPr>
        <p:grpSp>
          <p:nvGrpSpPr>
            <p:cNvPr id="133" name=""/>
            <p:cNvGrpSpPr/>
            <p:nvPr/>
          </p:nvGrpSpPr>
          <p:grpSpPr>
            <a:xfrm>
              <a:off x="2590920" y="2209680"/>
              <a:ext cx="838080" cy="533520"/>
              <a:chOff x="2590920" y="2209680"/>
              <a:chExt cx="838080" cy="533520"/>
            </a:xfrm>
          </p:grpSpPr>
          <p:sp>
            <p:nvSpPr>
              <p:cNvPr id="134" name=""/>
              <p:cNvSpPr/>
              <p:nvPr/>
            </p:nvSpPr>
            <p:spPr>
              <a:xfrm>
                <a:off x="2666880" y="2438280"/>
                <a:ext cx="2286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66880" y="25146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25909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90920" y="2514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971800" y="2286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2286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23623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00400" y="2514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8120" y="2514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9520" y="25909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95480" y="243828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95480" y="220968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95480" y="236232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43200" y="23623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19520" y="243828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24080" y="243828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25909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76720" y="243828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24080" y="259092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8120" y="23623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76720" y="25909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1800" y="243828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25146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3623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0920" y="25909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590920" y="2666880"/>
              <a:ext cx="838080" cy="533520"/>
              <a:chOff x="2590920" y="2666880"/>
              <a:chExt cx="838080" cy="53352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124080" y="2819160"/>
                <a:ext cx="22860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3200400" y="274284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124080" y="2666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276360" y="274284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2895480" y="297144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3047760" y="297144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3047760" y="28951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2666880" y="274284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 flipV="1">
                <a:off x="2819160" y="274284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3047760" y="2666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2971800" y="28191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2971800" y="304776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2971800" y="289512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3124080" y="28951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3047760" y="281916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>
                <a:off x="2743200" y="2819160"/>
                <a:ext cx="15264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895480" y="2666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590560" y="281916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2743200" y="266652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2819160" y="28951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2590560" y="2666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2895480" y="2819160"/>
                <a:ext cx="152280" cy="1526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2971800" y="274284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2666880" y="28951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3276360" y="2666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838080" y="2743200"/>
            <a:ext cx="14479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647960" y="2590560"/>
            <a:ext cx="787320" cy="469800"/>
            <a:chOff x="4647960" y="2590560"/>
            <a:chExt cx="787320" cy="469800"/>
          </a:xfrm>
        </p:grpSpPr>
        <p:grpSp>
          <p:nvGrpSpPr>
            <p:cNvPr id="187" name=""/>
            <p:cNvGrpSpPr/>
            <p:nvPr/>
          </p:nvGrpSpPr>
          <p:grpSpPr>
            <a:xfrm>
              <a:off x="5105160" y="2590560"/>
              <a:ext cx="330120" cy="469800"/>
              <a:chOff x="5105160" y="2590560"/>
              <a:chExt cx="330120" cy="469800"/>
            </a:xfrm>
          </p:grpSpPr>
          <p:sp>
            <p:nvSpPr>
              <p:cNvPr id="188" name=""/>
              <p:cNvSpPr/>
              <p:nvPr/>
            </p:nvSpPr>
            <p:spPr>
              <a:xfrm flipH="1" flipV="1">
                <a:off x="5181120" y="2590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5282640" y="28695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5282640" y="26409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5257800" y="2781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5118120" y="27939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5104800" y="2666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5207040" y="27432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5193720" y="29077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47960" y="2590560"/>
              <a:ext cx="330120" cy="469800"/>
              <a:chOff x="4647960" y="2590560"/>
              <a:chExt cx="330120" cy="469800"/>
            </a:xfrm>
          </p:grpSpPr>
          <p:sp>
            <p:nvSpPr>
              <p:cNvPr id="197" name=""/>
              <p:cNvSpPr/>
              <p:nvPr/>
            </p:nvSpPr>
            <p:spPr>
              <a:xfrm flipH="1" flipV="1">
                <a:off x="4723920" y="25902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4825440" y="28695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4825440" y="264096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800600" y="2781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60920" y="27939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4647600" y="26665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4749840" y="27432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4736520" y="290772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 flipV="1">
            <a:off x="4800600" y="1904760"/>
            <a:ext cx="762120" cy="43956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0" y="171756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yonnement bé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2960" y="2378160"/>
            <a:ext cx="33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its de fission en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actif: donc à sto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6560" y="35053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ons lib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648320" y="3657600"/>
            <a:ext cx="761760" cy="152280"/>
            <a:chOff x="4648320" y="3657600"/>
            <a:chExt cx="761760" cy="152280"/>
          </a:xfrm>
        </p:grpSpPr>
        <p:sp>
          <p:nvSpPr>
            <p:cNvPr id="210" name=""/>
            <p:cNvSpPr/>
            <p:nvPr/>
          </p:nvSpPr>
          <p:spPr>
            <a:xfrm>
              <a:off x="4648320" y="36576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2880" y="36576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7800" y="36576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62320" y="213372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288" y="240"/>
                </a:moveTo>
                <a:lnTo>
                  <a:pt x="384" y="0"/>
                </a:lnTo>
                <a:lnTo>
                  <a:pt x="480" y="240"/>
                </a:lnTo>
                <a:lnTo>
                  <a:pt x="672" y="96"/>
                </a:lnTo>
                <a:lnTo>
                  <a:pt x="624" y="288"/>
                </a:lnTo>
                <a:lnTo>
                  <a:pt x="816" y="384"/>
                </a:lnTo>
                <a:lnTo>
                  <a:pt x="624" y="432"/>
                </a:lnTo>
                <a:lnTo>
                  <a:pt x="576" y="576"/>
                </a:lnTo>
                <a:lnTo>
                  <a:pt x="480" y="432"/>
                </a:lnTo>
                <a:lnTo>
                  <a:pt x="432" y="672"/>
                </a:lnTo>
                <a:lnTo>
                  <a:pt x="288" y="432"/>
                </a:lnTo>
                <a:lnTo>
                  <a:pt x="192" y="576"/>
                </a:lnTo>
                <a:lnTo>
                  <a:pt x="144" y="432"/>
                </a:lnTo>
                <a:lnTo>
                  <a:pt x="0" y="336"/>
                </a:lnTo>
                <a:lnTo>
                  <a:pt x="192" y="336"/>
                </a:lnTo>
                <a:lnTo>
                  <a:pt x="96" y="144"/>
                </a:lnTo>
                <a:lnTo>
                  <a:pt x="288" y="2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92440" y="2527200"/>
            <a:ext cx="609480" cy="304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552760"/>
            <a:ext cx="380880" cy="253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80" y="2666880"/>
            <a:ext cx="1180440" cy="536040"/>
            <a:chOff x="1080" y="2666880"/>
            <a:chExt cx="1180440" cy="536040"/>
          </a:xfrm>
        </p:grpSpPr>
        <p:sp>
          <p:nvSpPr>
            <p:cNvPr id="217" name=""/>
            <p:cNvSpPr/>
            <p:nvPr/>
          </p:nvSpPr>
          <p:spPr>
            <a:xfrm>
              <a:off x="457200" y="26668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80" y="274320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ut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23920" y="4191120"/>
            <a:ext cx="553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Dégagement de chaleur considéra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 ’est l ’énergie nucléaire qui est dégag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8880" y="5105520"/>
            <a:ext cx="88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) Les neutrons libérés entretiennent sans interruption la ré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aque neutron peut à son tour entrer en collision avec un au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ome d ’uranium: on parle de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éaction en chaîn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800" y="763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85880" y="763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ôle de la ré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3240" y="685800"/>
            <a:ext cx="82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Utilisation de barres de contrôle situées au dessus du réact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9000" y="121932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s barres de contrôle absorbent les neutrons, et freinent do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éaction en chaî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1880" y="202248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hute totale des barres dans le réacteur entraîne son arrê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5440" y="2971800"/>
            <a:ext cx="1655640" cy="3124080"/>
            <a:chOff x="325440" y="2971800"/>
            <a:chExt cx="1655640" cy="3124080"/>
          </a:xfrm>
        </p:grpSpPr>
        <p:sp>
          <p:nvSpPr>
            <p:cNvPr id="230" name=""/>
            <p:cNvSpPr/>
            <p:nvPr/>
          </p:nvSpPr>
          <p:spPr>
            <a:xfrm>
              <a:off x="325440" y="5116680"/>
              <a:ext cx="249120" cy="5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5720" y="3544920"/>
              <a:ext cx="1395360" cy="92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5720" y="5175360"/>
              <a:ext cx="1395360" cy="920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5720" y="3919680"/>
              <a:ext cx="1395360" cy="175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1560" y="388152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71560" y="524520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1560" y="4195800"/>
              <a:ext cx="1042920" cy="1465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4160" y="4187880"/>
              <a:ext cx="1001880" cy="1482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71560" y="424656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560" y="520524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0120" y="4435560"/>
              <a:ext cx="1041120" cy="949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720" y="4246560"/>
              <a:ext cx="1368360" cy="2476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560" y="4257720"/>
              <a:ext cx="14940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5720" y="4257720"/>
              <a:ext cx="14940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440" y="5315040"/>
              <a:ext cx="1368360" cy="247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720" y="5275440"/>
              <a:ext cx="149400" cy="29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9560" y="5265720"/>
              <a:ext cx="14940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25640" y="419724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25640" y="526572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7156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480" y="531504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4480" y="4276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1560" y="42577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392120" y="3881520"/>
              <a:ext cx="0" cy="47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666800" y="393048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108080" y="393984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641600" y="4266720"/>
              <a:ext cx="0" cy="147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392120" y="556272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108080" y="55512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392120" y="3130560"/>
              <a:ext cx="0" cy="41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666800" y="3130200"/>
              <a:ext cx="0" cy="50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108080" y="3130200"/>
              <a:ext cx="0" cy="44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846000" y="3130200"/>
              <a:ext cx="0" cy="50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616040" y="2971800"/>
              <a:ext cx="74520" cy="158400"/>
              <a:chOff x="1616040" y="2971800"/>
              <a:chExt cx="74520" cy="158400"/>
            </a:xfrm>
          </p:grpSpPr>
          <p:sp>
            <p:nvSpPr>
              <p:cNvPr id="264" name=""/>
              <p:cNvSpPr/>
              <p:nvPr/>
            </p:nvSpPr>
            <p:spPr>
              <a:xfrm>
                <a:off x="161604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61604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1604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905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60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343160" y="2971800"/>
              <a:ext cx="74520" cy="158400"/>
              <a:chOff x="1343160" y="2971800"/>
              <a:chExt cx="74520" cy="158400"/>
            </a:xfrm>
          </p:grpSpPr>
          <p:sp>
            <p:nvSpPr>
              <p:cNvPr id="270" name=""/>
              <p:cNvSpPr/>
              <p:nvPr/>
            </p:nvSpPr>
            <p:spPr>
              <a:xfrm>
                <a:off x="134316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4316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4316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1768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431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069920" y="2971800"/>
              <a:ext cx="74520" cy="158400"/>
              <a:chOff x="1069920" y="2971800"/>
              <a:chExt cx="74520" cy="158400"/>
            </a:xfrm>
          </p:grpSpPr>
          <p:sp>
            <p:nvSpPr>
              <p:cNvPr id="276" name=""/>
              <p:cNvSpPr/>
              <p:nvPr/>
            </p:nvSpPr>
            <p:spPr>
              <a:xfrm>
                <a:off x="106992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6992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992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444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992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809640" y="2971800"/>
              <a:ext cx="74520" cy="158400"/>
              <a:chOff x="809640" y="2971800"/>
              <a:chExt cx="74520" cy="158400"/>
            </a:xfrm>
          </p:grpSpPr>
          <p:sp>
            <p:nvSpPr>
              <p:cNvPr id="282" name=""/>
              <p:cNvSpPr/>
              <p:nvPr/>
            </p:nvSpPr>
            <p:spPr>
              <a:xfrm>
                <a:off x="80964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964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0964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841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096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91916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384200" y="42418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1104840" y="42544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20920" y="2971800"/>
            <a:ext cx="1656000" cy="3124080"/>
            <a:chOff x="3220920" y="2971800"/>
            <a:chExt cx="1656000" cy="3124080"/>
          </a:xfrm>
        </p:grpSpPr>
        <p:sp>
          <p:nvSpPr>
            <p:cNvPr id="291" name=""/>
            <p:cNvSpPr/>
            <p:nvPr/>
          </p:nvSpPr>
          <p:spPr>
            <a:xfrm>
              <a:off x="3220920" y="5116680"/>
              <a:ext cx="249480" cy="56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81560" y="3544920"/>
              <a:ext cx="1395360" cy="92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560" y="5175360"/>
              <a:ext cx="1395360" cy="920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560" y="3919680"/>
              <a:ext cx="1395360" cy="175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67040" y="388152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67040" y="524520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67040" y="4195800"/>
              <a:ext cx="1042920" cy="1465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80000" y="4187880"/>
              <a:ext cx="1001520" cy="1482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67040" y="424656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67040" y="520524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65600" y="4435560"/>
              <a:ext cx="1041480" cy="949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81560" y="4246560"/>
              <a:ext cx="1368360" cy="2476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05040" y="4257720"/>
              <a:ext cx="14940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81560" y="4257720"/>
              <a:ext cx="14904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90920" y="5315040"/>
              <a:ext cx="1368360" cy="247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81560" y="5275440"/>
              <a:ext cx="149040" cy="29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05040" y="5265720"/>
              <a:ext cx="14940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21120" y="419724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21120" y="526572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6704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09960" y="531504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9960" y="4276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67040" y="42577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287960" y="3881520"/>
              <a:ext cx="0" cy="10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562640" y="3930480"/>
              <a:ext cx="0" cy="102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03560" y="3939840"/>
              <a:ext cx="0" cy="1012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537080" y="4266720"/>
              <a:ext cx="0" cy="147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287960" y="556272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003560" y="55512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287960" y="3130560"/>
              <a:ext cx="0" cy="41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562640" y="3130200"/>
              <a:ext cx="0" cy="50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003560" y="3130200"/>
              <a:ext cx="0" cy="44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741840" y="3130200"/>
              <a:ext cx="0" cy="50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511520" y="2971800"/>
              <a:ext cx="74880" cy="158400"/>
              <a:chOff x="4511520" y="2971800"/>
              <a:chExt cx="74880" cy="158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511520" y="2971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11520" y="3070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11520" y="3021480"/>
                <a:ext cx="7488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8640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1152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4238640" y="2971800"/>
              <a:ext cx="74520" cy="158400"/>
              <a:chOff x="4238640" y="2971800"/>
              <a:chExt cx="74520" cy="158400"/>
            </a:xfrm>
          </p:grpSpPr>
          <p:sp>
            <p:nvSpPr>
              <p:cNvPr id="331" name=""/>
              <p:cNvSpPr/>
              <p:nvPr/>
            </p:nvSpPr>
            <p:spPr>
              <a:xfrm>
                <a:off x="423864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3864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23864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131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386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3965400" y="2971800"/>
              <a:ext cx="74880" cy="158400"/>
              <a:chOff x="3965400" y="2971800"/>
              <a:chExt cx="74880" cy="158400"/>
            </a:xfrm>
          </p:grpSpPr>
          <p:sp>
            <p:nvSpPr>
              <p:cNvPr id="337" name=""/>
              <p:cNvSpPr/>
              <p:nvPr/>
            </p:nvSpPr>
            <p:spPr>
              <a:xfrm>
                <a:off x="3965400" y="2971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65400" y="3070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65400" y="3021480"/>
                <a:ext cx="7488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4028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540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705120" y="2971800"/>
              <a:ext cx="74880" cy="158400"/>
              <a:chOff x="3705120" y="2971800"/>
              <a:chExt cx="74880" cy="158400"/>
            </a:xfrm>
          </p:grpSpPr>
          <p:sp>
            <p:nvSpPr>
              <p:cNvPr id="343" name=""/>
              <p:cNvSpPr/>
              <p:nvPr/>
            </p:nvSpPr>
            <p:spPr>
              <a:xfrm>
                <a:off x="3705120" y="2971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05120" y="3070800"/>
                <a:ext cx="7488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05120" y="3021480"/>
                <a:ext cx="7488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8000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0512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81500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4280040" y="42418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000680" y="42544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69040" y="5116680"/>
            <a:ext cx="249120" cy="56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529320" y="2971800"/>
            <a:ext cx="1395360" cy="3124080"/>
            <a:chOff x="6529320" y="2971800"/>
            <a:chExt cx="1395360" cy="3124080"/>
          </a:xfrm>
        </p:grpSpPr>
        <p:sp>
          <p:nvSpPr>
            <p:cNvPr id="353" name=""/>
            <p:cNvSpPr/>
            <p:nvPr/>
          </p:nvSpPr>
          <p:spPr>
            <a:xfrm>
              <a:off x="6529320" y="3544920"/>
              <a:ext cx="1395360" cy="92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29320" y="5175360"/>
              <a:ext cx="1395360" cy="920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29320" y="3919680"/>
              <a:ext cx="1395360" cy="175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15160" y="388152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15160" y="5245200"/>
              <a:ext cx="1042920" cy="771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15160" y="4195800"/>
              <a:ext cx="1042920" cy="1465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27760" y="4187880"/>
              <a:ext cx="1001880" cy="1482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15160" y="424656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15160" y="5205240"/>
              <a:ext cx="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13720" y="4435560"/>
              <a:ext cx="1041120" cy="949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29320" y="4246560"/>
              <a:ext cx="1368360" cy="2476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53160" y="4257720"/>
              <a:ext cx="14940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29320" y="4257720"/>
              <a:ext cx="149400" cy="295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39040" y="5315040"/>
              <a:ext cx="1368360" cy="247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29320" y="5275440"/>
              <a:ext cx="149400" cy="29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53160" y="5265720"/>
              <a:ext cx="14940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69240" y="419724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69240" y="5265720"/>
              <a:ext cx="38160" cy="297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1516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531504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58080" y="42768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15160" y="425772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335720" y="3881520"/>
              <a:ext cx="0" cy="168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610400" y="3930480"/>
              <a:ext cx="0" cy="163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51680" y="3939840"/>
              <a:ext cx="0" cy="162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585200" y="4266720"/>
              <a:ext cx="0" cy="147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35720" y="556272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051680" y="55512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35720" y="3130560"/>
              <a:ext cx="0" cy="41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610400" y="3130200"/>
              <a:ext cx="0" cy="50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051680" y="3130200"/>
              <a:ext cx="0" cy="44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789600" y="3130200"/>
              <a:ext cx="0" cy="50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559640" y="2971800"/>
              <a:ext cx="74520" cy="158400"/>
              <a:chOff x="7559640" y="2971800"/>
              <a:chExt cx="74520" cy="158400"/>
            </a:xfrm>
          </p:grpSpPr>
          <p:sp>
            <p:nvSpPr>
              <p:cNvPr id="386" name=""/>
              <p:cNvSpPr/>
              <p:nvPr/>
            </p:nvSpPr>
            <p:spPr>
              <a:xfrm>
                <a:off x="755964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5964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5964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341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596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286760" y="2971800"/>
              <a:ext cx="74520" cy="158400"/>
              <a:chOff x="7286760" y="2971800"/>
              <a:chExt cx="74520" cy="158400"/>
            </a:xfrm>
          </p:grpSpPr>
          <p:sp>
            <p:nvSpPr>
              <p:cNvPr id="392" name=""/>
              <p:cNvSpPr/>
              <p:nvPr/>
            </p:nvSpPr>
            <p:spPr>
              <a:xfrm>
                <a:off x="728676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28676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8676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6128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867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13520" y="2971800"/>
              <a:ext cx="74520" cy="158400"/>
              <a:chOff x="7013520" y="2971800"/>
              <a:chExt cx="74520" cy="158400"/>
            </a:xfrm>
          </p:grpSpPr>
          <p:sp>
            <p:nvSpPr>
              <p:cNvPr id="398" name=""/>
              <p:cNvSpPr/>
              <p:nvPr/>
            </p:nvSpPr>
            <p:spPr>
              <a:xfrm>
                <a:off x="701352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1352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01352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880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01352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753240" y="2971800"/>
              <a:ext cx="74520" cy="158400"/>
              <a:chOff x="6753240" y="2971800"/>
              <a:chExt cx="74520" cy="158400"/>
            </a:xfrm>
          </p:grpSpPr>
          <p:sp>
            <p:nvSpPr>
              <p:cNvPr id="404" name=""/>
              <p:cNvSpPr/>
              <p:nvPr/>
            </p:nvSpPr>
            <p:spPr>
              <a:xfrm>
                <a:off x="6753240" y="2971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53240" y="3070800"/>
                <a:ext cx="74520" cy="5940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53240" y="3021480"/>
                <a:ext cx="74520" cy="7920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2776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53240" y="299160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862760" y="4197240"/>
              <a:ext cx="0" cy="13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27800" y="42418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048440" y="42544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03840" y="61722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ine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15200" y="617220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issance interméd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69880" y="6172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éacteur" descr=""/>
          <p:cNvPicPr/>
          <p:nvPr/>
        </p:nvPicPr>
        <p:blipFill>
          <a:blip r:embed="rId2"/>
          <a:stretch/>
        </p:blipFill>
        <p:spPr>
          <a:xfrm>
            <a:off x="220680" y="1362240"/>
            <a:ext cx="3589200" cy="480996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800" y="763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58400" y="3276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us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59840" y="37846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34280" y="423216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ve du réacteur en acier épaisse de 2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4480" y="466416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einte de confinement en bé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paisse de 9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228600" y="762120"/>
            <a:ext cx="3581280" cy="5104800"/>
            <a:chOff x="228600" y="762120"/>
            <a:chExt cx="3581280" cy="5104800"/>
          </a:xfrm>
        </p:grpSpPr>
        <p:sp>
          <p:nvSpPr>
            <p:cNvPr id="428" name=""/>
            <p:cNvSpPr/>
            <p:nvPr/>
          </p:nvSpPr>
          <p:spPr>
            <a:xfrm>
              <a:off x="228600" y="762120"/>
              <a:ext cx="3581280" cy="18561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8600" y="1690200"/>
              <a:ext cx="3581280" cy="4176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-5400" y="0"/>
            <a:ext cx="27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prima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828800" y="10663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793960" y="1219320"/>
            <a:ext cx="762120" cy="2412720"/>
            <a:chOff x="2793960" y="1219320"/>
            <a:chExt cx="762120" cy="2412720"/>
          </a:xfrm>
        </p:grpSpPr>
        <p:grpSp>
          <p:nvGrpSpPr>
            <p:cNvPr id="433" name=""/>
            <p:cNvGrpSpPr/>
            <p:nvPr/>
          </p:nvGrpSpPr>
          <p:grpSpPr>
            <a:xfrm>
              <a:off x="2793960" y="1219320"/>
              <a:ext cx="762120" cy="2095560"/>
              <a:chOff x="2793960" y="1219320"/>
              <a:chExt cx="762120" cy="2095560"/>
            </a:xfrm>
          </p:grpSpPr>
          <p:sp>
            <p:nvSpPr>
              <p:cNvPr id="434" name=""/>
              <p:cNvSpPr/>
              <p:nvPr/>
            </p:nvSpPr>
            <p:spPr>
              <a:xfrm>
                <a:off x="3073320" y="311148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8120" y="3086280"/>
                <a:ext cx="22356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48120" y="2959200"/>
                <a:ext cx="1936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997360" y="295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56080" y="137160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793960" y="2717640"/>
                <a:ext cx="762120" cy="368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93960" y="1434960"/>
                <a:ext cx="762120" cy="1524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93960" y="1346040"/>
                <a:ext cx="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793960" y="1219320"/>
                <a:ext cx="762120" cy="36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8120" y="309888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3073320" y="2092320"/>
                <a:ext cx="212400" cy="1104480"/>
                <a:chOff x="3073320" y="2092320"/>
                <a:chExt cx="212400" cy="1104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073320" y="2092320"/>
                  <a:ext cx="210960" cy="337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74760" y="2859480"/>
                  <a:ext cx="210960" cy="337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74760" y="2279880"/>
                  <a:ext cx="210960" cy="7956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73320" y="2266560"/>
                  <a:ext cx="202680" cy="8092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73320" y="2320560"/>
                  <a:ext cx="0" cy="767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285720" y="2235960"/>
                  <a:ext cx="0" cy="87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73320" y="2222640"/>
                  <a:ext cx="0" cy="87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3098880" y="3098880"/>
                <a:ext cx="15228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3073320" y="2870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flipH="1">
            <a:off x="355608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04812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143000" y="5410080"/>
            <a:ext cx="2819160" cy="533520"/>
            <a:chOff x="1143000" y="5410080"/>
            <a:chExt cx="2819160" cy="533520"/>
          </a:xfrm>
        </p:grpSpPr>
        <p:sp>
          <p:nvSpPr>
            <p:cNvPr id="457" name=""/>
            <p:cNvSpPr/>
            <p:nvPr/>
          </p:nvSpPr>
          <p:spPr>
            <a:xfrm flipV="1">
              <a:off x="1143000" y="5410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3000" y="59436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578320" y="-76320"/>
            <a:ext cx="553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l contient de l ’eau sous pression en contact avec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mbustible nucléaire. C ’est l ’eau qui cond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a chaleur, on dit que l ’eau est le fluide calopor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838080" y="5866920"/>
            <a:ext cx="3124080" cy="609840"/>
            <a:chOff x="838080" y="5866920"/>
            <a:chExt cx="3124080" cy="609840"/>
          </a:xfrm>
        </p:grpSpPr>
        <p:sp>
          <p:nvSpPr>
            <p:cNvPr id="461" name=""/>
            <p:cNvSpPr/>
            <p:nvPr/>
          </p:nvSpPr>
          <p:spPr>
            <a:xfrm>
              <a:off x="838080" y="64767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838080" y="5866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879360" y="6286680"/>
            <a:ext cx="49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einte de confinement en béton épaisse de 90 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79360" y="4305240"/>
            <a:ext cx="53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cuve: en acier d ’épaisseur supérieure à 20c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m de diamètre et plus de 13m de hauteur.C ’est da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tte cuve que sont enfermées les barres de combust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4760" y="40132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res de combustibles ou cray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09480" y="1244520"/>
            <a:ext cx="1427040" cy="4013280"/>
            <a:chOff x="609480" y="1244520"/>
            <a:chExt cx="1427040" cy="4013280"/>
          </a:xfrm>
        </p:grpSpPr>
        <p:sp>
          <p:nvSpPr>
            <p:cNvPr id="467" name=""/>
            <p:cNvSpPr/>
            <p:nvPr/>
          </p:nvSpPr>
          <p:spPr>
            <a:xfrm>
              <a:off x="609480" y="1981080"/>
              <a:ext cx="1427040" cy="1182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9480" y="4075200"/>
              <a:ext cx="1427040" cy="1182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9480" y="2462040"/>
              <a:ext cx="1427040" cy="2249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01440" y="2413080"/>
              <a:ext cx="1067040" cy="99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01440" y="4165560"/>
              <a:ext cx="106704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01440" y="2816280"/>
              <a:ext cx="1067040" cy="1882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14040" y="2806560"/>
              <a:ext cx="1025640" cy="1905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1440" y="2882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144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0000" y="3124080"/>
              <a:ext cx="1065240" cy="1219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2882880"/>
              <a:ext cx="1400040" cy="3175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36560" y="2895480"/>
              <a:ext cx="152280" cy="381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2895480"/>
              <a:ext cx="152280" cy="381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8840" y="4254480"/>
              <a:ext cx="1400400" cy="3175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4203720"/>
              <a:ext cx="1522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6560" y="4191120"/>
              <a:ext cx="15228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79280" y="2819520"/>
              <a:ext cx="39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79280" y="4191120"/>
              <a:ext cx="3996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1440" y="28195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68480" y="425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68480" y="2921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144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34960" y="24127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1714320" y="24764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42640" y="248904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714320" y="4546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1434960" y="457200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1142640" y="455904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1434960" y="1447920"/>
              <a:ext cx="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1714320" y="1447920"/>
              <a:ext cx="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1142640" y="14475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876240" y="144756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676160" y="1244520"/>
              <a:ext cx="76320" cy="203400"/>
              <a:chOff x="1676160" y="1244520"/>
              <a:chExt cx="76320" cy="203400"/>
            </a:xfrm>
          </p:grpSpPr>
          <p:sp>
            <p:nvSpPr>
              <p:cNvPr id="500" name=""/>
              <p:cNvSpPr/>
              <p:nvPr/>
            </p:nvSpPr>
            <p:spPr>
              <a:xfrm>
                <a:off x="1676160" y="1244520"/>
                <a:ext cx="7632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76160" y="1371600"/>
                <a:ext cx="7632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76160" y="1308240"/>
                <a:ext cx="76320" cy="1015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75248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7616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396800" y="1244520"/>
              <a:ext cx="76320" cy="203400"/>
              <a:chOff x="1396800" y="1244520"/>
              <a:chExt cx="76320" cy="203400"/>
            </a:xfrm>
          </p:grpSpPr>
          <p:sp>
            <p:nvSpPr>
              <p:cNvPr id="506" name=""/>
              <p:cNvSpPr/>
              <p:nvPr/>
            </p:nvSpPr>
            <p:spPr>
              <a:xfrm>
                <a:off x="1396800" y="1244520"/>
                <a:ext cx="7632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96800" y="1371600"/>
                <a:ext cx="7632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96800" y="1308240"/>
                <a:ext cx="76320" cy="1015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47312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9680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1104840" y="1244520"/>
              <a:ext cx="75960" cy="203400"/>
              <a:chOff x="1104840" y="1244520"/>
              <a:chExt cx="75960" cy="203400"/>
            </a:xfrm>
          </p:grpSpPr>
          <p:sp>
            <p:nvSpPr>
              <p:cNvPr id="512" name=""/>
              <p:cNvSpPr/>
              <p:nvPr/>
            </p:nvSpPr>
            <p:spPr>
              <a:xfrm>
                <a:off x="1104840" y="1244520"/>
                <a:ext cx="7596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104840" y="1371600"/>
                <a:ext cx="7596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104840" y="1308240"/>
                <a:ext cx="75960" cy="1015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8080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10484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838080" y="1244520"/>
              <a:ext cx="75960" cy="203400"/>
              <a:chOff x="838080" y="1244520"/>
              <a:chExt cx="75960" cy="203400"/>
            </a:xfrm>
          </p:grpSpPr>
          <p:sp>
            <p:nvSpPr>
              <p:cNvPr id="518" name=""/>
              <p:cNvSpPr/>
              <p:nvPr/>
            </p:nvSpPr>
            <p:spPr>
              <a:xfrm>
                <a:off x="838080" y="1244520"/>
                <a:ext cx="7596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8080" y="1371600"/>
                <a:ext cx="75960" cy="7632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38080" y="1308240"/>
                <a:ext cx="75960" cy="101520"/>
              </a:xfrm>
              <a:prstGeom prst="rect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1404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8080" y="1270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1973160" y="28195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103400" y="3187800"/>
            <a:ext cx="628200" cy="1270080"/>
            <a:chOff x="1103400" y="3187800"/>
            <a:chExt cx="628200" cy="1270080"/>
          </a:xfrm>
        </p:grpSpPr>
        <p:sp>
          <p:nvSpPr>
            <p:cNvPr id="525" name=""/>
            <p:cNvSpPr/>
            <p:nvPr/>
          </p:nvSpPr>
          <p:spPr>
            <a:xfrm>
              <a:off x="1677960" y="3187800"/>
              <a:ext cx="53640" cy="1244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07960" y="3213000"/>
              <a:ext cx="53640" cy="124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03400" y="3213000"/>
              <a:ext cx="53640" cy="1244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885480" y="86364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rres de contrô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03120" y="1968480"/>
            <a:ext cx="3112920" cy="3670200"/>
            <a:chOff x="303120" y="1968480"/>
            <a:chExt cx="3112920" cy="3670200"/>
          </a:xfrm>
        </p:grpSpPr>
        <p:sp>
          <p:nvSpPr>
            <p:cNvPr id="530" name=""/>
            <p:cNvSpPr/>
            <p:nvPr/>
          </p:nvSpPr>
          <p:spPr>
            <a:xfrm>
              <a:off x="380880" y="532116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560" y="5422680"/>
              <a:ext cx="30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120" y="3985920"/>
              <a:ext cx="0" cy="14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8800" y="407196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560" y="3987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40640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28720" y="3949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94956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81080" y="4051080"/>
              <a:ext cx="11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28720" y="3809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39800" y="3809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400120" y="2657520"/>
              <a:ext cx="360360" cy="1152360"/>
              <a:chOff x="2400120" y="2657520"/>
              <a:chExt cx="360360" cy="1152360"/>
            </a:xfrm>
          </p:grpSpPr>
          <p:sp>
            <p:nvSpPr>
              <p:cNvPr id="542" name=""/>
              <p:cNvSpPr/>
              <p:nvPr/>
            </p:nvSpPr>
            <p:spPr>
              <a:xfrm>
                <a:off x="2400120" y="2657520"/>
                <a:ext cx="352080" cy="3524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403000" y="3457440"/>
                <a:ext cx="352440" cy="35244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01560" y="2854440"/>
                <a:ext cx="353880" cy="8287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400120" y="2840040"/>
                <a:ext cx="360360" cy="843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400120" y="289548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55440" y="2806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400120" y="2793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476440" y="5105160"/>
              <a:ext cx="533160" cy="5335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2540880" y="5178240"/>
              <a:ext cx="409680" cy="382320"/>
              <a:chOff x="2540880" y="5178240"/>
              <a:chExt cx="409680" cy="38232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2742840" y="5364000"/>
                <a:ext cx="193320" cy="76320"/>
                <a:chOff x="2742840" y="5364000"/>
                <a:chExt cx="193320" cy="76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742840" y="53640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936160" y="53640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2669400" y="5364000"/>
                <a:ext cx="75960" cy="193680"/>
                <a:chOff x="2669400" y="5364000"/>
                <a:chExt cx="75960" cy="1936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745360" y="536400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>
                  <a:off x="2669400" y="555768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554920" y="5287680"/>
                <a:ext cx="193320" cy="76320"/>
                <a:chOff x="2554920" y="5287680"/>
                <a:chExt cx="193320" cy="76320"/>
              </a:xfrm>
            </p:grpSpPr>
            <p:sp>
              <p:nvSpPr>
                <p:cNvPr id="558" name=""/>
                <p:cNvSpPr/>
                <p:nvPr/>
              </p:nvSpPr>
              <p:spPr>
                <a:xfrm flipH="1">
                  <a:off x="2554920" y="5364000"/>
                  <a:ext cx="193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2554920" y="52876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2746080" y="5178240"/>
                <a:ext cx="75600" cy="193680"/>
                <a:chOff x="2746080" y="5178240"/>
                <a:chExt cx="75600" cy="193680"/>
              </a:xfrm>
            </p:grpSpPr>
            <p:sp>
              <p:nvSpPr>
                <p:cNvPr id="561" name=""/>
                <p:cNvSpPr/>
                <p:nvPr/>
              </p:nvSpPr>
              <p:spPr>
                <a:xfrm flipV="1">
                  <a:off x="2746080" y="51782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46080" y="5178240"/>
                  <a:ext cx="7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760120" y="5217840"/>
                <a:ext cx="190440" cy="136800"/>
                <a:chOff x="2760120" y="5217840"/>
                <a:chExt cx="190440" cy="136800"/>
              </a:xfrm>
            </p:grpSpPr>
            <p:sp>
              <p:nvSpPr>
                <p:cNvPr id="564" name=""/>
                <p:cNvSpPr/>
                <p:nvPr/>
              </p:nvSpPr>
              <p:spPr>
                <a:xfrm flipV="1">
                  <a:off x="2760120" y="521784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896560" y="521784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2599920" y="5180040"/>
                <a:ext cx="136800" cy="190080"/>
                <a:chOff x="2599920" y="5180040"/>
                <a:chExt cx="136800" cy="190080"/>
              </a:xfrm>
            </p:grpSpPr>
            <p:sp>
              <p:nvSpPr>
                <p:cNvPr id="567" name=""/>
                <p:cNvSpPr/>
                <p:nvPr/>
              </p:nvSpPr>
              <p:spPr>
                <a:xfrm flipH="1" flipV="1">
                  <a:off x="2599920" y="52333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2599920" y="518004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2742120" y="5370480"/>
                <a:ext cx="136800" cy="190080"/>
                <a:chOff x="2742120" y="5370480"/>
                <a:chExt cx="136800" cy="1900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742120" y="53704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2825640" y="5507280"/>
                  <a:ext cx="5328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2540880" y="5381280"/>
                <a:ext cx="190440" cy="136800"/>
                <a:chOff x="2540880" y="5381280"/>
                <a:chExt cx="190440" cy="136800"/>
              </a:xfrm>
            </p:grpSpPr>
            <p:sp>
              <p:nvSpPr>
                <p:cNvPr id="573" name=""/>
                <p:cNvSpPr/>
                <p:nvPr/>
              </p:nvSpPr>
              <p:spPr>
                <a:xfrm flipH="1">
                  <a:off x="2594880" y="5381280"/>
                  <a:ext cx="13644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flipV="1">
                  <a:off x="2540880" y="54640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5" name=""/>
            <p:cNvSpPr/>
            <p:nvPr/>
          </p:nvSpPr>
          <p:spPr>
            <a:xfrm>
              <a:off x="3085920" y="2971800"/>
              <a:ext cx="19368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60360" y="2971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2958840" y="1968480"/>
              <a:ext cx="431640" cy="1152360"/>
              <a:chOff x="2958840" y="1968480"/>
              <a:chExt cx="431640" cy="1152360"/>
            </a:xfrm>
          </p:grpSpPr>
          <p:sp>
            <p:nvSpPr>
              <p:cNvPr id="578" name=""/>
              <p:cNvSpPr/>
              <p:nvPr/>
            </p:nvSpPr>
            <p:spPr>
              <a:xfrm>
                <a:off x="2958840" y="1968480"/>
                <a:ext cx="428760" cy="35244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62080" y="2768400"/>
                <a:ext cx="428400" cy="35244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60280" y="2165040"/>
                <a:ext cx="430200" cy="8287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58840" y="2151000"/>
                <a:ext cx="411120" cy="842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58840" y="220644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90480" y="21175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58840" y="2104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073320" y="2104920"/>
              <a:ext cx="203040" cy="914400"/>
              <a:chOff x="3073320" y="2104920"/>
              <a:chExt cx="203040" cy="914400"/>
            </a:xfrm>
          </p:grpSpPr>
          <p:sp>
            <p:nvSpPr>
              <p:cNvPr id="586" name=""/>
              <p:cNvSpPr/>
              <p:nvPr/>
            </p:nvSpPr>
            <p:spPr>
              <a:xfrm>
                <a:off x="3073320" y="2104920"/>
                <a:ext cx="201600" cy="279360"/>
              </a:xfrm>
              <a:prstGeom prst="ellipse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074760" y="2739960"/>
                <a:ext cx="201600" cy="279360"/>
              </a:xfrm>
              <a:prstGeom prst="ellipse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74760" y="2260440"/>
                <a:ext cx="201600" cy="6588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73320" y="2249280"/>
                <a:ext cx="193680" cy="66996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73320" y="2293920"/>
                <a:ext cx="0" cy="63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76360" y="222408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73320" y="22129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2958840" y="2895480"/>
              <a:ext cx="457200" cy="3808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390840" y="28188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073320" y="27558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958840" y="26542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3276360" y="288288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0120" y="5332320"/>
              <a:ext cx="3051000" cy="763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57040" y="3960720"/>
              <a:ext cx="927360" cy="763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5400000">
              <a:off x="-337320" y="4653360"/>
              <a:ext cx="1384200" cy="748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7920" y="3998880"/>
              <a:ext cx="255600" cy="74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5400000">
              <a:off x="2449800" y="3847320"/>
              <a:ext cx="304920" cy="745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89040" y="5103720"/>
              <a:ext cx="533520" cy="53352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5400000">
              <a:off x="2460240" y="3419280"/>
              <a:ext cx="1137960" cy="874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5400000">
              <a:off x="2108880" y="4073400"/>
              <a:ext cx="2468520" cy="874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880" y="406404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41320" y="38098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76200" y="2104920"/>
              <a:ext cx="201600" cy="3348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78000" y="2865240"/>
              <a:ext cx="201600" cy="3351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78000" y="2290680"/>
              <a:ext cx="201600" cy="79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76200" y="2278080"/>
              <a:ext cx="193680" cy="803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76200" y="2332080"/>
              <a:ext cx="0" cy="760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79600" y="2247840"/>
              <a:ext cx="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76200" y="223344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76200" y="3085920"/>
              <a:ext cx="223920" cy="22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71520" y="3047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74920" y="3085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71520" y="3187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2040" y="532116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74640" y="5105160"/>
              <a:ext cx="533520" cy="5335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9080" y="4076640"/>
              <a:ext cx="23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541240" y="5181480"/>
            <a:ext cx="409680" cy="382320"/>
            <a:chOff x="2541240" y="5181480"/>
            <a:chExt cx="409680" cy="382320"/>
          </a:xfrm>
        </p:grpSpPr>
        <p:grpSp>
          <p:nvGrpSpPr>
            <p:cNvPr id="623" name=""/>
            <p:cNvGrpSpPr/>
            <p:nvPr/>
          </p:nvGrpSpPr>
          <p:grpSpPr>
            <a:xfrm>
              <a:off x="2743200" y="5367240"/>
              <a:ext cx="193320" cy="76320"/>
              <a:chOff x="2743200" y="5367240"/>
              <a:chExt cx="193320" cy="76320"/>
            </a:xfrm>
          </p:grpSpPr>
          <p:sp>
            <p:nvSpPr>
              <p:cNvPr id="624" name=""/>
              <p:cNvSpPr/>
              <p:nvPr/>
            </p:nvSpPr>
            <p:spPr>
              <a:xfrm>
                <a:off x="2743200" y="53672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936520" y="5367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2669760" y="5367240"/>
              <a:ext cx="75960" cy="193680"/>
              <a:chOff x="2669760" y="5367240"/>
              <a:chExt cx="75960" cy="193680"/>
            </a:xfrm>
          </p:grpSpPr>
          <p:sp>
            <p:nvSpPr>
              <p:cNvPr id="627" name=""/>
              <p:cNvSpPr/>
              <p:nvPr/>
            </p:nvSpPr>
            <p:spPr>
              <a:xfrm>
                <a:off x="2745720" y="53672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2669760" y="556092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555280" y="5290920"/>
              <a:ext cx="193320" cy="76320"/>
              <a:chOff x="2555280" y="5290920"/>
              <a:chExt cx="193320" cy="76320"/>
            </a:xfrm>
          </p:grpSpPr>
          <p:sp>
            <p:nvSpPr>
              <p:cNvPr id="630" name=""/>
              <p:cNvSpPr/>
              <p:nvPr/>
            </p:nvSpPr>
            <p:spPr>
              <a:xfrm flipH="1">
                <a:off x="2555280" y="536724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2555280" y="52909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2746440" y="5181480"/>
              <a:ext cx="75600" cy="193680"/>
              <a:chOff x="2746440" y="5181480"/>
              <a:chExt cx="75600" cy="19368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2746440" y="51814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46440" y="518148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760480" y="5221080"/>
              <a:ext cx="190440" cy="136800"/>
              <a:chOff x="2760480" y="5221080"/>
              <a:chExt cx="190440" cy="136800"/>
            </a:xfrm>
          </p:grpSpPr>
          <p:sp>
            <p:nvSpPr>
              <p:cNvPr id="636" name=""/>
              <p:cNvSpPr/>
              <p:nvPr/>
            </p:nvSpPr>
            <p:spPr>
              <a:xfrm flipV="1">
                <a:off x="2760480" y="522108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96920" y="52210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600280" y="5183280"/>
              <a:ext cx="136800" cy="190080"/>
              <a:chOff x="2600280" y="5183280"/>
              <a:chExt cx="136800" cy="190080"/>
            </a:xfrm>
          </p:grpSpPr>
          <p:sp>
            <p:nvSpPr>
              <p:cNvPr id="639" name=""/>
              <p:cNvSpPr/>
              <p:nvPr/>
            </p:nvSpPr>
            <p:spPr>
              <a:xfrm flipH="1" flipV="1">
                <a:off x="2600280" y="523656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2600280" y="518328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2742480" y="5373720"/>
              <a:ext cx="136800" cy="190080"/>
              <a:chOff x="2742480" y="5373720"/>
              <a:chExt cx="136800" cy="190080"/>
            </a:xfrm>
          </p:grpSpPr>
          <p:sp>
            <p:nvSpPr>
              <p:cNvPr id="642" name=""/>
              <p:cNvSpPr/>
              <p:nvPr/>
            </p:nvSpPr>
            <p:spPr>
              <a:xfrm>
                <a:off x="2742480" y="53737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2826000" y="551052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541240" y="5384520"/>
              <a:ext cx="190440" cy="136800"/>
              <a:chOff x="2541240" y="5384520"/>
              <a:chExt cx="190440" cy="136800"/>
            </a:xfrm>
          </p:grpSpPr>
          <p:sp>
            <p:nvSpPr>
              <p:cNvPr id="645" name=""/>
              <p:cNvSpPr/>
              <p:nvPr/>
            </p:nvSpPr>
            <p:spPr>
              <a:xfrm flipH="1">
                <a:off x="2595240" y="538452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 flipV="1">
                <a:off x="2541240" y="546732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7" name=""/>
          <p:cNvSpPr/>
          <p:nvPr/>
        </p:nvSpPr>
        <p:spPr>
          <a:xfrm flipH="1">
            <a:off x="33526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52480" y="4191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0574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1520" y="316224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pressuriseur maintien l ’eau à une pressio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5 bars pour empêcher l ’eau de bouill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78280" y="1555920"/>
            <a:ext cx="52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 générateur de vapeur: 20 mètres de haut et conti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0 tubulures. Il fait parti du circuit second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80440" y="2178000"/>
            <a:ext cx="53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 tubes en U, ou tubulures permettent de transform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 ’eau du circuit secondaire en vapeur, au contact 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bulures chau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0080" y="529596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mpe primaire pour mettre l ’eau en mou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85120" y="572940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prim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71280" y="76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pri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8600" y="762120"/>
            <a:ext cx="3581280" cy="5104800"/>
            <a:chOff x="228600" y="762120"/>
            <a:chExt cx="3581280" cy="5104800"/>
          </a:xfrm>
        </p:grpSpPr>
        <p:grpSp>
          <p:nvGrpSpPr>
            <p:cNvPr id="661" name=""/>
            <p:cNvGrpSpPr/>
            <p:nvPr/>
          </p:nvGrpSpPr>
          <p:grpSpPr>
            <a:xfrm>
              <a:off x="228600" y="762120"/>
              <a:ext cx="3581280" cy="5104800"/>
              <a:chOff x="228600" y="762120"/>
              <a:chExt cx="3581280" cy="51048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28600" y="762120"/>
                <a:ext cx="3581280" cy="5104800"/>
                <a:chOff x="228600" y="762120"/>
                <a:chExt cx="3581280" cy="51048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28600" y="762120"/>
                  <a:ext cx="3581280" cy="18561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8600" y="1690200"/>
                  <a:ext cx="3581280" cy="417672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2541240" y="5178600"/>
                <a:ext cx="409680" cy="382320"/>
                <a:chOff x="2541240" y="5178600"/>
                <a:chExt cx="409680" cy="38232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2743200" y="5364360"/>
                  <a:ext cx="193320" cy="76320"/>
                  <a:chOff x="2743200" y="5364360"/>
                  <a:chExt cx="193320" cy="7632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2743200" y="5364360"/>
                    <a:ext cx="19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936520" y="536436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"/>
                <p:cNvGrpSpPr/>
                <p:nvPr/>
              </p:nvGrpSpPr>
              <p:grpSpPr>
                <a:xfrm>
                  <a:off x="2669760" y="5364360"/>
                  <a:ext cx="75960" cy="193680"/>
                  <a:chOff x="2669760" y="5364360"/>
                  <a:chExt cx="75960" cy="19368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2745720" y="536436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H="1">
                    <a:off x="2669760" y="5558040"/>
                    <a:ext cx="75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"/>
                <p:cNvGrpSpPr/>
                <p:nvPr/>
              </p:nvGrpSpPr>
              <p:grpSpPr>
                <a:xfrm>
                  <a:off x="2555280" y="5288040"/>
                  <a:ext cx="193320" cy="76320"/>
                  <a:chOff x="2555280" y="5288040"/>
                  <a:chExt cx="193320" cy="7632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 flipH="1">
                    <a:off x="2555280" y="5364360"/>
                    <a:ext cx="19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>
                    <a:off x="2555280" y="528804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"/>
                <p:cNvGrpSpPr/>
                <p:nvPr/>
              </p:nvGrpSpPr>
              <p:grpSpPr>
                <a:xfrm>
                  <a:off x="2746440" y="5178600"/>
                  <a:ext cx="75600" cy="193680"/>
                  <a:chOff x="2746440" y="5178600"/>
                  <a:chExt cx="75600" cy="19368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flipV="1">
                    <a:off x="2746440" y="517860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746440" y="517860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2760480" y="5218200"/>
                  <a:ext cx="190440" cy="136800"/>
                  <a:chOff x="2760480" y="5218200"/>
                  <a:chExt cx="190440" cy="13680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 flipV="1">
                    <a:off x="2760480" y="5218200"/>
                    <a:ext cx="13644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896920" y="5218200"/>
                    <a:ext cx="54000" cy="5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2600280" y="5180400"/>
                  <a:ext cx="136800" cy="190080"/>
                  <a:chOff x="2600280" y="5180400"/>
                  <a:chExt cx="136800" cy="19008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flipH="1" flipV="1">
                    <a:off x="2600280" y="5233680"/>
                    <a:ext cx="13680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V="1">
                    <a:off x="2600280" y="5180400"/>
                    <a:ext cx="53280" cy="5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2742480" y="5370840"/>
                  <a:ext cx="136800" cy="190080"/>
                  <a:chOff x="2742480" y="5370840"/>
                  <a:chExt cx="136800" cy="19008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2742480" y="5370840"/>
                    <a:ext cx="13680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2826000" y="5507640"/>
                    <a:ext cx="53280" cy="5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2541240" y="5381640"/>
                  <a:ext cx="190440" cy="136800"/>
                  <a:chOff x="2541240" y="5381640"/>
                  <a:chExt cx="190440" cy="1368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>
                    <a:off x="2595240" y="5381640"/>
                    <a:ext cx="13644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 flipV="1">
                    <a:off x="2541240" y="5464440"/>
                    <a:ext cx="54000" cy="5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0" name=""/>
              <p:cNvGrpSpPr/>
              <p:nvPr/>
            </p:nvGrpSpPr>
            <p:grpSpPr>
              <a:xfrm>
                <a:off x="2793960" y="1219320"/>
                <a:ext cx="762120" cy="2412720"/>
                <a:chOff x="2793960" y="1219320"/>
                <a:chExt cx="762120" cy="241272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2793960" y="1219320"/>
                  <a:ext cx="762120" cy="2095560"/>
                  <a:chOff x="2793960" y="1219320"/>
                  <a:chExt cx="762120" cy="20955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3073320" y="3111480"/>
                    <a:ext cx="19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3048120" y="3086280"/>
                    <a:ext cx="223560" cy="2286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3048120" y="2959200"/>
                    <a:ext cx="193680" cy="2286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2997360" y="29592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3556080" y="1371600"/>
                    <a:ext cx="0" cy="151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793960" y="2717640"/>
                    <a:ext cx="762120" cy="368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2793960" y="1434960"/>
                    <a:ext cx="762120" cy="152424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2793960" y="1346040"/>
                    <a:ext cx="0" cy="160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2793960" y="1219320"/>
                    <a:ext cx="762120" cy="36828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3048120" y="3098880"/>
                    <a:ext cx="1936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3073320" y="2092320"/>
                    <a:ext cx="212400" cy="1104480"/>
                    <a:chOff x="3073320" y="2092320"/>
                    <a:chExt cx="212400" cy="110448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3073320" y="2092320"/>
                      <a:ext cx="210960" cy="337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3074760" y="2859480"/>
                      <a:ext cx="210960" cy="337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3074760" y="2279880"/>
                      <a:ext cx="210960" cy="79560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3073320" y="2266560"/>
                      <a:ext cx="202680" cy="80928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3073320" y="2320560"/>
                      <a:ext cx="0" cy="76716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3285720" y="2235960"/>
                      <a:ext cx="0" cy="87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3073320" y="2222640"/>
                      <a:ext cx="0" cy="876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0" name=""/>
                  <p:cNvSpPr/>
                  <p:nvPr/>
                </p:nvSpPr>
                <p:spPr>
                  <a:xfrm>
                    <a:off x="3098880" y="3098880"/>
                    <a:ext cx="152280" cy="15228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3073320" y="287028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09480" y="1244520"/>
                <a:ext cx="1427040" cy="4013280"/>
                <a:chOff x="609480" y="1244520"/>
                <a:chExt cx="1427040" cy="401328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609480" y="1981080"/>
                  <a:ext cx="1427040" cy="1182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09480" y="4075200"/>
                  <a:ext cx="1427040" cy="1182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09480" y="2462040"/>
                  <a:ext cx="1427040" cy="22496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901440" y="2413080"/>
                  <a:ext cx="1067040" cy="9903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901440" y="4165560"/>
                  <a:ext cx="1067040" cy="9907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01440" y="2816280"/>
                  <a:ext cx="1067040" cy="18828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914040" y="2806560"/>
                  <a:ext cx="1025640" cy="1905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901440" y="288288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90144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900000" y="3124080"/>
                  <a:ext cx="1065240" cy="1219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9480" y="2882880"/>
                  <a:ext cx="1400040" cy="31752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36560" y="2895480"/>
                  <a:ext cx="152280" cy="381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09480" y="2895480"/>
                  <a:ext cx="152280" cy="381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18840" y="4254480"/>
                  <a:ext cx="1400400" cy="3175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09480" y="4203720"/>
                  <a:ext cx="152280" cy="380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36560" y="4191120"/>
                  <a:ext cx="152280" cy="380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979280" y="2819520"/>
                  <a:ext cx="39960" cy="380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979280" y="4191120"/>
                  <a:ext cx="39960" cy="3808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901440" y="28195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968480" y="4254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968480" y="2921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901440" y="289548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1434960" y="241272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1714320" y="24764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1142640" y="248904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1714320" y="454644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1434960" y="4572000"/>
                  <a:ext cx="0" cy="25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1142640" y="4559040"/>
                  <a:ext cx="0" cy="25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1434960" y="1447920"/>
                  <a:ext cx="0" cy="53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1714320" y="1447920"/>
                  <a:ext cx="0" cy="64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1142640" y="1447560"/>
                  <a:ext cx="0" cy="57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V="1">
                  <a:off x="876240" y="1447560"/>
                  <a:ext cx="0" cy="65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5" name=""/>
                <p:cNvGrpSpPr/>
                <p:nvPr/>
              </p:nvGrpSpPr>
              <p:grpSpPr>
                <a:xfrm>
                  <a:off x="1676160" y="1244520"/>
                  <a:ext cx="76320" cy="203400"/>
                  <a:chOff x="1676160" y="1244520"/>
                  <a:chExt cx="76320" cy="20340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1676160" y="1244520"/>
                    <a:ext cx="7632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676160" y="1371600"/>
                    <a:ext cx="7632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676160" y="1308240"/>
                    <a:ext cx="76320" cy="1015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75248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67616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1396800" y="1244520"/>
                  <a:ext cx="76320" cy="203400"/>
                  <a:chOff x="1396800" y="1244520"/>
                  <a:chExt cx="76320" cy="20340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1396800" y="1244520"/>
                    <a:ext cx="7632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396800" y="1371600"/>
                    <a:ext cx="7632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396800" y="1308240"/>
                    <a:ext cx="76320" cy="1015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47312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39680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1104840" y="1244520"/>
                  <a:ext cx="75960" cy="203400"/>
                  <a:chOff x="1104840" y="1244520"/>
                  <a:chExt cx="75960" cy="20340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1104840" y="1244520"/>
                    <a:ext cx="7596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04840" y="1371600"/>
                    <a:ext cx="7596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04840" y="1308240"/>
                    <a:ext cx="75960" cy="1015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18080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0484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838080" y="1244520"/>
                  <a:ext cx="75960" cy="203400"/>
                  <a:chOff x="838080" y="1244520"/>
                  <a:chExt cx="75960" cy="20340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838080" y="1244520"/>
                    <a:ext cx="7596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838080" y="1371600"/>
                    <a:ext cx="75960" cy="76320"/>
                  </a:xfrm>
                  <a:prstGeom prst="ellipse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838080" y="1308240"/>
                    <a:ext cx="75960" cy="101520"/>
                  </a:xfrm>
                  <a:prstGeom prst="rect">
                    <a:avLst/>
                  </a:prstGeom>
                  <a:solidFill>
                    <a:srgbClr val="cc3399"/>
                  </a:solidFill>
                  <a:ln w="93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91404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838080" y="12700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9" name=""/>
                <p:cNvSpPr/>
                <p:nvPr/>
              </p:nvSpPr>
              <p:spPr>
                <a:xfrm>
                  <a:off x="1973160" y="2819520"/>
                  <a:ext cx="0" cy="17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103400" y="3187800"/>
                <a:ext cx="628200" cy="1270080"/>
                <a:chOff x="1103400" y="3187800"/>
                <a:chExt cx="628200" cy="12700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1677960" y="3187800"/>
                  <a:ext cx="53640" cy="12445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407960" y="3213000"/>
                  <a:ext cx="53640" cy="1244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103400" y="3213000"/>
                  <a:ext cx="53640" cy="1244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03120" y="1968480"/>
                <a:ext cx="3112920" cy="3670200"/>
                <a:chOff x="303120" y="1968480"/>
                <a:chExt cx="3112920" cy="36702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80880" y="5321160"/>
                  <a:ext cx="289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04560" y="5422680"/>
                  <a:ext cx="30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03120" y="3985920"/>
                  <a:ext cx="0" cy="146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88800" y="4071960"/>
                  <a:ext cx="0" cy="126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04560" y="39877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80880" y="4064040"/>
                  <a:ext cx="23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628720" y="3949560"/>
                  <a:ext cx="34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981080" y="394956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981080" y="4051080"/>
                  <a:ext cx="110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628720" y="38098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2539800" y="38098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" name=""/>
                <p:cNvGrpSpPr/>
                <p:nvPr/>
              </p:nvGrpSpPr>
              <p:grpSpPr>
                <a:xfrm>
                  <a:off x="2400120" y="2657520"/>
                  <a:ext cx="360360" cy="1152360"/>
                  <a:chOff x="2400120" y="2657520"/>
                  <a:chExt cx="360360" cy="115236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2400120" y="2657520"/>
                    <a:ext cx="352080" cy="35244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2403000" y="3457440"/>
                    <a:ext cx="352440" cy="352440"/>
                  </a:xfrm>
                  <a:prstGeom prst="ellips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01560" y="2854440"/>
                    <a:ext cx="353880" cy="8287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400120" y="2840040"/>
                    <a:ext cx="360360" cy="8431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400120" y="2895480"/>
                    <a:ext cx="0" cy="800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755440" y="280656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2400120" y="279396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" name=""/>
                <p:cNvSpPr/>
                <p:nvPr/>
              </p:nvSpPr>
              <p:spPr>
                <a:xfrm>
                  <a:off x="2476440" y="5105160"/>
                  <a:ext cx="533160" cy="53352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" name=""/>
                <p:cNvGrpSpPr/>
                <p:nvPr/>
              </p:nvGrpSpPr>
              <p:grpSpPr>
                <a:xfrm>
                  <a:off x="2540880" y="5178240"/>
                  <a:ext cx="409680" cy="382320"/>
                  <a:chOff x="2540880" y="5178240"/>
                  <a:chExt cx="409680" cy="382320"/>
                </a:xfrm>
              </p:grpSpPr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2742840" y="5364000"/>
                    <a:ext cx="193320" cy="76320"/>
                    <a:chOff x="2742840" y="5364000"/>
                    <a:chExt cx="193320" cy="7632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2742840" y="5364000"/>
                      <a:ext cx="193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2936160" y="5364000"/>
                      <a:ext cx="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2669400" y="5364000"/>
                    <a:ext cx="75960" cy="193680"/>
                    <a:chOff x="2669400" y="5364000"/>
                    <a:chExt cx="75960" cy="19368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2745360" y="5364000"/>
                      <a:ext cx="0" cy="193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flipH="1">
                      <a:off x="2669400" y="5557680"/>
                      <a:ext cx="75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2554920" y="5287680"/>
                    <a:ext cx="193320" cy="76320"/>
                    <a:chOff x="2554920" y="5287680"/>
                    <a:chExt cx="193320" cy="7632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>
                      <a:off x="2554920" y="5364000"/>
                      <a:ext cx="193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V="1">
                      <a:off x="2554920" y="5287680"/>
                      <a:ext cx="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2746080" y="5178240"/>
                    <a:ext cx="75600" cy="193680"/>
                    <a:chOff x="2746080" y="5178240"/>
                    <a:chExt cx="75600" cy="19368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V="1">
                      <a:off x="2746080" y="5178240"/>
                      <a:ext cx="0" cy="193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2746080" y="5178240"/>
                      <a:ext cx="75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2760120" y="5217840"/>
                    <a:ext cx="190440" cy="136800"/>
                    <a:chOff x="2760120" y="5217840"/>
                    <a:chExt cx="190440" cy="13680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V="1">
                      <a:off x="2760120" y="5217840"/>
                      <a:ext cx="136440" cy="13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2896560" y="5217840"/>
                      <a:ext cx="54000" cy="54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599920" y="5180040"/>
                    <a:ext cx="136800" cy="190080"/>
                    <a:chOff x="2599920" y="5180040"/>
                    <a:chExt cx="136800" cy="19008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flipH="1" flipV="1">
                      <a:off x="2599920" y="5233320"/>
                      <a:ext cx="136800" cy="13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flipV="1">
                      <a:off x="2599920" y="5180040"/>
                      <a:ext cx="53280" cy="53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2742120" y="5370480"/>
                    <a:ext cx="136800" cy="190080"/>
                    <a:chOff x="2742120" y="5370480"/>
                    <a:chExt cx="136800" cy="1900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2742120" y="5370480"/>
                      <a:ext cx="136800" cy="13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flipH="1">
                      <a:off x="2825640" y="5507280"/>
                      <a:ext cx="53280" cy="53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2540880" y="5381280"/>
                    <a:ext cx="190440" cy="136800"/>
                    <a:chOff x="2540880" y="5381280"/>
                    <a:chExt cx="190440" cy="13680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flipH="1">
                      <a:off x="2594880" y="5381280"/>
                      <a:ext cx="136440" cy="13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flipH="1" flipV="1">
                      <a:off x="2540880" y="5464080"/>
                      <a:ext cx="54000" cy="54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20" name=""/>
                <p:cNvSpPr/>
                <p:nvPr/>
              </p:nvSpPr>
              <p:spPr>
                <a:xfrm>
                  <a:off x="3085920" y="2971800"/>
                  <a:ext cx="193680" cy="2286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060360" y="2971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"/>
                <p:cNvGrpSpPr/>
                <p:nvPr/>
              </p:nvGrpSpPr>
              <p:grpSpPr>
                <a:xfrm>
                  <a:off x="2958840" y="1968480"/>
                  <a:ext cx="431640" cy="1152360"/>
                  <a:chOff x="2958840" y="1968480"/>
                  <a:chExt cx="431640" cy="115236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>
                    <a:off x="2958840" y="1968480"/>
                    <a:ext cx="428760" cy="352440"/>
                  </a:xfrm>
                  <a:prstGeom prst="ellips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962080" y="2768400"/>
                    <a:ext cx="428400" cy="352440"/>
                  </a:xfrm>
                  <a:prstGeom prst="ellipse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2960280" y="2165040"/>
                    <a:ext cx="430200" cy="8287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958840" y="2151000"/>
                    <a:ext cx="411120" cy="84276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958840" y="2206440"/>
                    <a:ext cx="0" cy="800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3390480" y="21175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958840" y="21049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3073320" y="2104920"/>
                  <a:ext cx="203040" cy="914400"/>
                  <a:chOff x="3073320" y="2104920"/>
                  <a:chExt cx="203040" cy="91440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>
                    <a:off x="3073320" y="2104920"/>
                    <a:ext cx="201600" cy="279360"/>
                  </a:xfrm>
                  <a:prstGeom prst="ellipse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3074760" y="2739960"/>
                    <a:ext cx="201600" cy="279360"/>
                  </a:xfrm>
                  <a:prstGeom prst="ellipse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3074760" y="2260440"/>
                    <a:ext cx="201600" cy="65880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3073320" y="2249280"/>
                    <a:ext cx="193680" cy="66996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3073320" y="2293920"/>
                    <a:ext cx="0" cy="6350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3276360" y="2224080"/>
                    <a:ext cx="0" cy="72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073320" y="2212920"/>
                    <a:ext cx="0" cy="72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8" name=""/>
                <p:cNvSpPr/>
                <p:nvPr/>
              </p:nvSpPr>
              <p:spPr>
                <a:xfrm>
                  <a:off x="2958840" y="2895480"/>
                  <a:ext cx="457200" cy="38088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3390840" y="2818800"/>
                  <a:ext cx="0" cy="259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3073320" y="2755800"/>
                  <a:ext cx="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2958840" y="2654280"/>
                  <a:ext cx="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V="1">
                  <a:off x="3276360" y="2882880"/>
                  <a:ext cx="0" cy="244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30120" y="5332320"/>
                  <a:ext cx="3051000" cy="7632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2057040" y="3960720"/>
                  <a:ext cx="927360" cy="7632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5400000">
                  <a:off x="-337320" y="4653360"/>
                  <a:ext cx="1384200" cy="7488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7920" y="3998880"/>
                  <a:ext cx="255600" cy="7452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5400000">
                  <a:off x="2449800" y="3847320"/>
                  <a:ext cx="304920" cy="7452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489040" y="5103720"/>
                  <a:ext cx="533520" cy="53352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5400000">
                  <a:off x="2460240" y="3419280"/>
                  <a:ext cx="1137960" cy="8748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5400000">
                  <a:off x="2108880" y="4073400"/>
                  <a:ext cx="2468520" cy="8748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80880" y="4064040"/>
                  <a:ext cx="0" cy="126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641320" y="38098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076200" y="2104920"/>
                  <a:ext cx="201600" cy="3348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078000" y="2865240"/>
                  <a:ext cx="201600" cy="3351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078000" y="2290680"/>
                  <a:ext cx="201600" cy="79056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076200" y="2278080"/>
                  <a:ext cx="193680" cy="80316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076200" y="2332080"/>
                  <a:ext cx="0" cy="760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279600" y="2247840"/>
                  <a:ext cx="0" cy="86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076200" y="2233440"/>
                  <a:ext cx="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076200" y="3085920"/>
                  <a:ext cx="223920" cy="2286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071520" y="3047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274920" y="30859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071520" y="3187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92040" y="5321160"/>
                  <a:ext cx="289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474640" y="5105160"/>
                  <a:ext cx="533520" cy="53352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79080" y="4076640"/>
                  <a:ext cx="233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2541240" y="5181480"/>
                <a:ext cx="409680" cy="382320"/>
                <a:chOff x="2541240" y="5181480"/>
                <a:chExt cx="409680" cy="382320"/>
              </a:xfrm>
            </p:grpSpPr>
            <p:grpSp>
              <p:nvGrpSpPr>
                <p:cNvPr id="868" name=""/>
                <p:cNvGrpSpPr/>
                <p:nvPr/>
              </p:nvGrpSpPr>
              <p:grpSpPr>
                <a:xfrm>
                  <a:off x="2743200" y="5367240"/>
                  <a:ext cx="193320" cy="76320"/>
                  <a:chOff x="2743200" y="5367240"/>
                  <a:chExt cx="193320" cy="7632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2743200" y="5367240"/>
                    <a:ext cx="19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2936520" y="536724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2669760" y="5367240"/>
                  <a:ext cx="75960" cy="193680"/>
                  <a:chOff x="2669760" y="5367240"/>
                  <a:chExt cx="75960" cy="19368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2745720" y="536724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>
                    <a:off x="2669760" y="5560920"/>
                    <a:ext cx="75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2555280" y="5290920"/>
                  <a:ext cx="193320" cy="76320"/>
                  <a:chOff x="2555280" y="5290920"/>
                  <a:chExt cx="193320" cy="7632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 flipH="1">
                    <a:off x="2555280" y="5367240"/>
                    <a:ext cx="193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2555280" y="5290920"/>
                    <a:ext cx="0" cy="7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2746440" y="5181480"/>
                  <a:ext cx="75600" cy="193680"/>
                  <a:chOff x="2746440" y="5181480"/>
                  <a:chExt cx="75600" cy="19368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flipV="1">
                    <a:off x="2746440" y="5181480"/>
                    <a:ext cx="0" cy="19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746440" y="51814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2760480" y="5221080"/>
                  <a:ext cx="190440" cy="136800"/>
                  <a:chOff x="2760480" y="5221080"/>
                  <a:chExt cx="190440" cy="13680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flipV="1">
                    <a:off x="2760480" y="5221080"/>
                    <a:ext cx="13644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896920" y="5221080"/>
                    <a:ext cx="54000" cy="5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2600280" y="5183280"/>
                  <a:ext cx="136800" cy="190080"/>
                  <a:chOff x="2600280" y="5183280"/>
                  <a:chExt cx="136800" cy="1900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flipH="1" flipV="1">
                    <a:off x="2600280" y="5236560"/>
                    <a:ext cx="13680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V="1">
                    <a:off x="2600280" y="5183280"/>
                    <a:ext cx="53280" cy="5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2742480" y="5373720"/>
                  <a:ext cx="136800" cy="190080"/>
                  <a:chOff x="2742480" y="5373720"/>
                  <a:chExt cx="136800" cy="1900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2742480" y="5373720"/>
                    <a:ext cx="13680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>
                    <a:off x="2826000" y="5510520"/>
                    <a:ext cx="53280" cy="5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2541240" y="5384520"/>
                  <a:ext cx="190440" cy="136800"/>
                  <a:chOff x="2541240" y="5384520"/>
                  <a:chExt cx="190440" cy="1368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H="1">
                    <a:off x="2595240" y="5384520"/>
                    <a:ext cx="13644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flipV="1">
                    <a:off x="2541240" y="5467320"/>
                    <a:ext cx="54000" cy="5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92" name=""/>
            <p:cNvGrpSpPr/>
            <p:nvPr/>
          </p:nvGrpSpPr>
          <p:grpSpPr>
            <a:xfrm>
              <a:off x="3073320" y="2092320"/>
              <a:ext cx="203040" cy="1095120"/>
              <a:chOff x="3073320" y="2092320"/>
              <a:chExt cx="203040" cy="1095120"/>
            </a:xfrm>
          </p:grpSpPr>
          <p:sp>
            <p:nvSpPr>
              <p:cNvPr id="893" name=""/>
              <p:cNvSpPr/>
              <p:nvPr/>
            </p:nvSpPr>
            <p:spPr>
              <a:xfrm>
                <a:off x="3073320" y="209232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074760" y="285300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074760" y="2278440"/>
                <a:ext cx="201600" cy="789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073320" y="2265120"/>
                <a:ext cx="193680" cy="80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73320" y="2318400"/>
                <a:ext cx="0" cy="760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276360" y="223488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073320" y="222156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3060720" y="3098880"/>
              <a:ext cx="223920" cy="22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0733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767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2959200" y="1968480"/>
            <a:ext cx="431280" cy="1359000"/>
            <a:chOff x="2959200" y="1968480"/>
            <a:chExt cx="431280" cy="1359000"/>
          </a:xfrm>
        </p:grpSpPr>
        <p:grpSp>
          <p:nvGrpSpPr>
            <p:cNvPr id="904" name=""/>
            <p:cNvGrpSpPr/>
            <p:nvPr/>
          </p:nvGrpSpPr>
          <p:grpSpPr>
            <a:xfrm>
              <a:off x="2959200" y="1968480"/>
              <a:ext cx="431280" cy="1152720"/>
              <a:chOff x="2959200" y="1968480"/>
              <a:chExt cx="431280" cy="1152720"/>
            </a:xfrm>
          </p:grpSpPr>
          <p:sp>
            <p:nvSpPr>
              <p:cNvPr id="905" name=""/>
              <p:cNvSpPr/>
              <p:nvPr/>
            </p:nvSpPr>
            <p:spPr>
              <a:xfrm>
                <a:off x="2959200" y="1968480"/>
                <a:ext cx="42732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962800" y="2768760"/>
                <a:ext cx="427320" cy="352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960640" y="2165400"/>
                <a:ext cx="429480" cy="8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959200" y="2151000"/>
                <a:ext cx="410040" cy="843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959200" y="2206800"/>
                <a:ext cx="0" cy="799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390480" y="2117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959200" y="21049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3060720" y="2104920"/>
              <a:ext cx="203040" cy="1095120"/>
              <a:chOff x="3060720" y="2104920"/>
              <a:chExt cx="203040" cy="1095120"/>
            </a:xfrm>
          </p:grpSpPr>
          <p:sp>
            <p:nvSpPr>
              <p:cNvPr id="913" name=""/>
              <p:cNvSpPr/>
              <p:nvPr/>
            </p:nvSpPr>
            <p:spPr>
              <a:xfrm>
                <a:off x="3060720" y="210492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062160" y="286560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062160" y="2291040"/>
                <a:ext cx="201600" cy="789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060720" y="2277720"/>
                <a:ext cx="193680" cy="80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060720" y="2331000"/>
                <a:ext cx="0" cy="760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63760" y="224748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060720" y="223416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086280" y="3098880"/>
              <a:ext cx="187200" cy="228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326880" y="5334120"/>
            <a:ext cx="305136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76440" y="51055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541240" y="5178600"/>
            <a:ext cx="409680" cy="382320"/>
            <a:chOff x="2541240" y="5178600"/>
            <a:chExt cx="409680" cy="382320"/>
          </a:xfrm>
        </p:grpSpPr>
        <p:grpSp>
          <p:nvGrpSpPr>
            <p:cNvPr id="924" name=""/>
            <p:cNvGrpSpPr/>
            <p:nvPr/>
          </p:nvGrpSpPr>
          <p:grpSpPr>
            <a:xfrm>
              <a:off x="2743200" y="5364360"/>
              <a:ext cx="193320" cy="76320"/>
              <a:chOff x="2743200" y="5364360"/>
              <a:chExt cx="193320" cy="76320"/>
            </a:xfrm>
          </p:grpSpPr>
          <p:sp>
            <p:nvSpPr>
              <p:cNvPr id="925" name=""/>
              <p:cNvSpPr/>
              <p:nvPr/>
            </p:nvSpPr>
            <p:spPr>
              <a:xfrm>
                <a:off x="2743200" y="536436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936520" y="536436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2669760" y="5364360"/>
              <a:ext cx="75960" cy="193680"/>
              <a:chOff x="2669760" y="5364360"/>
              <a:chExt cx="75960" cy="193680"/>
            </a:xfrm>
          </p:grpSpPr>
          <p:sp>
            <p:nvSpPr>
              <p:cNvPr id="928" name=""/>
              <p:cNvSpPr/>
              <p:nvPr/>
            </p:nvSpPr>
            <p:spPr>
              <a:xfrm>
                <a:off x="2745720" y="536436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669760" y="555804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2555280" y="5288040"/>
              <a:ext cx="193320" cy="76320"/>
              <a:chOff x="2555280" y="5288040"/>
              <a:chExt cx="193320" cy="76320"/>
            </a:xfrm>
          </p:grpSpPr>
          <p:sp>
            <p:nvSpPr>
              <p:cNvPr id="931" name=""/>
              <p:cNvSpPr/>
              <p:nvPr/>
            </p:nvSpPr>
            <p:spPr>
              <a:xfrm flipH="1">
                <a:off x="2555280" y="5364360"/>
                <a:ext cx="1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2555280" y="52880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746440" y="5178600"/>
              <a:ext cx="75600" cy="193680"/>
              <a:chOff x="2746440" y="5178600"/>
              <a:chExt cx="75600" cy="193680"/>
            </a:xfrm>
          </p:grpSpPr>
          <p:sp>
            <p:nvSpPr>
              <p:cNvPr id="934" name=""/>
              <p:cNvSpPr/>
              <p:nvPr/>
            </p:nvSpPr>
            <p:spPr>
              <a:xfrm flipV="1">
                <a:off x="2746440" y="517860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746440" y="5178600"/>
                <a:ext cx="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2760480" y="5218200"/>
              <a:ext cx="190440" cy="136800"/>
              <a:chOff x="2760480" y="5218200"/>
              <a:chExt cx="190440" cy="136800"/>
            </a:xfrm>
          </p:grpSpPr>
          <p:sp>
            <p:nvSpPr>
              <p:cNvPr id="937" name=""/>
              <p:cNvSpPr/>
              <p:nvPr/>
            </p:nvSpPr>
            <p:spPr>
              <a:xfrm flipV="1">
                <a:off x="2760480" y="521820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896920" y="521820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2600280" y="5180400"/>
              <a:ext cx="136800" cy="190080"/>
              <a:chOff x="2600280" y="5180400"/>
              <a:chExt cx="136800" cy="190080"/>
            </a:xfrm>
          </p:grpSpPr>
          <p:sp>
            <p:nvSpPr>
              <p:cNvPr id="940" name=""/>
              <p:cNvSpPr/>
              <p:nvPr/>
            </p:nvSpPr>
            <p:spPr>
              <a:xfrm flipH="1" flipV="1">
                <a:off x="2600280" y="523368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2600280" y="518040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2742480" y="5370840"/>
              <a:ext cx="136800" cy="190080"/>
              <a:chOff x="2742480" y="5370840"/>
              <a:chExt cx="136800" cy="190080"/>
            </a:xfrm>
          </p:grpSpPr>
          <p:sp>
            <p:nvSpPr>
              <p:cNvPr id="943" name=""/>
              <p:cNvSpPr/>
              <p:nvPr/>
            </p:nvSpPr>
            <p:spPr>
              <a:xfrm>
                <a:off x="2742480" y="537084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2826000" y="5507640"/>
                <a:ext cx="532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2541240" y="5381640"/>
              <a:ext cx="190440" cy="136800"/>
              <a:chOff x="2541240" y="5381640"/>
              <a:chExt cx="190440" cy="136800"/>
            </a:xfrm>
          </p:grpSpPr>
          <p:sp>
            <p:nvSpPr>
              <p:cNvPr id="946" name=""/>
              <p:cNvSpPr/>
              <p:nvPr/>
            </p:nvSpPr>
            <p:spPr>
              <a:xfrm flipH="1">
                <a:off x="2595240" y="5381640"/>
                <a:ext cx="13644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2541240" y="546444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8" name=""/>
          <p:cNvSpPr/>
          <p:nvPr/>
        </p:nvSpPr>
        <p:spPr>
          <a:xfrm rot="5400000">
            <a:off x="-337680" y="4655520"/>
            <a:ext cx="138420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04920" y="4000680"/>
            <a:ext cx="46980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4800" y="3962520"/>
            <a:ext cx="9270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2437200" y="3810960"/>
            <a:ext cx="304920" cy="74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2400480" y="2666880"/>
            <a:ext cx="355320" cy="1152720"/>
            <a:chOff x="2400480" y="2666880"/>
            <a:chExt cx="355320" cy="1152720"/>
          </a:xfrm>
        </p:grpSpPr>
        <p:sp>
          <p:nvSpPr>
            <p:cNvPr id="953" name=""/>
            <p:cNvSpPr/>
            <p:nvPr/>
          </p:nvSpPr>
          <p:spPr>
            <a:xfrm>
              <a:off x="2400480" y="2666880"/>
              <a:ext cx="352080" cy="35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03360" y="3467160"/>
              <a:ext cx="352080" cy="35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01560" y="2863800"/>
              <a:ext cx="353880" cy="828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00480" y="2849400"/>
              <a:ext cx="337680" cy="843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00480" y="2905200"/>
              <a:ext cx="0" cy="799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55800" y="2816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00480" y="28033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rot="5400000">
            <a:off x="2446200" y="3433680"/>
            <a:ext cx="1137960" cy="87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5400000">
            <a:off x="2098080" y="4075200"/>
            <a:ext cx="2468880" cy="87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475080" y="2070000"/>
            <a:ext cx="792000" cy="88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17840" y="2057400"/>
            <a:ext cx="252720" cy="88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3562200" y="2057400"/>
            <a:ext cx="1018080" cy="88920"/>
            <a:chOff x="3562200" y="2057400"/>
            <a:chExt cx="1018080" cy="88920"/>
          </a:xfrm>
        </p:grpSpPr>
        <p:sp>
          <p:nvSpPr>
            <p:cNvPr id="965" name=""/>
            <p:cNvSpPr/>
            <p:nvPr/>
          </p:nvSpPr>
          <p:spPr>
            <a:xfrm>
              <a:off x="3567240" y="205740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62200" y="2146320"/>
              <a:ext cx="101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043520" y="1828800"/>
            <a:ext cx="457200" cy="457200"/>
            <a:chOff x="4043520" y="1828800"/>
            <a:chExt cx="457200" cy="457200"/>
          </a:xfrm>
        </p:grpSpPr>
        <p:sp>
          <p:nvSpPr>
            <p:cNvPr id="968" name=""/>
            <p:cNvSpPr/>
            <p:nvPr/>
          </p:nvSpPr>
          <p:spPr>
            <a:xfrm rot="5400000">
              <a:off x="4043520" y="2019240"/>
              <a:ext cx="457200" cy="76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33960" y="2057400"/>
              <a:ext cx="76320" cy="11592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43520" y="1828800"/>
              <a:ext cx="457200" cy="76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 rot="16200000">
            <a:off x="2805840" y="1053360"/>
            <a:ext cx="712800" cy="7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173400" y="735120"/>
            <a:ext cx="1504800" cy="75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3124080" y="735120"/>
            <a:ext cx="1600200" cy="691560"/>
            <a:chOff x="3124080" y="735120"/>
            <a:chExt cx="1600200" cy="691560"/>
          </a:xfrm>
        </p:grpSpPr>
        <p:sp>
          <p:nvSpPr>
            <p:cNvPr id="974" name=""/>
            <p:cNvSpPr/>
            <p:nvPr/>
          </p:nvSpPr>
          <p:spPr>
            <a:xfrm>
              <a:off x="3124080" y="73512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00400" y="811080"/>
              <a:ext cx="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24080" y="73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00400" y="8236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895480" y="1447920"/>
            <a:ext cx="519120" cy="500040"/>
            <a:chOff x="2895480" y="1447920"/>
            <a:chExt cx="519120" cy="500040"/>
          </a:xfrm>
        </p:grpSpPr>
        <p:sp>
          <p:nvSpPr>
            <p:cNvPr id="979" name=""/>
            <p:cNvSpPr/>
            <p:nvPr/>
          </p:nvSpPr>
          <p:spPr>
            <a:xfrm>
              <a:off x="2895480" y="144792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47760" y="144792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00040" y="144792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352680" y="144792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4047840" y="3021120"/>
            <a:ext cx="495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) Circuit primaire fermé produi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e l ’eau sous pression à haute tempé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28400" y="3794040"/>
            <a:ext cx="505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) A l ’aide d ’un circuit secondaire, de l ’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lus froide rentre en contact avec la pa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upérieure des tubul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028040" y="4937040"/>
            <a:ext cx="487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 Il se produit alors de la vapeur, qui, s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sion, va entraîner le turbo-alter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84560" y="414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éation de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72360" y="763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second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701720" y="2133720"/>
            <a:ext cx="2806560" cy="2036520"/>
            <a:chOff x="1701720" y="2133720"/>
            <a:chExt cx="2806560" cy="2036520"/>
          </a:xfrm>
        </p:grpSpPr>
        <p:sp>
          <p:nvSpPr>
            <p:cNvPr id="992" name=""/>
            <p:cNvSpPr/>
            <p:nvPr/>
          </p:nvSpPr>
          <p:spPr>
            <a:xfrm>
              <a:off x="1701720" y="3276720"/>
              <a:ext cx="731880" cy="893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290680" y="297180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9922400">
              <a:off x="2006640" y="3123720"/>
              <a:ext cx="762120" cy="841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01720" y="3271680"/>
              <a:ext cx="731880" cy="893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772640" y="3429360"/>
              <a:ext cx="589680" cy="634320"/>
              <a:chOff x="1772640" y="3429360"/>
              <a:chExt cx="589680" cy="63432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2057040" y="3740040"/>
                <a:ext cx="264600" cy="126720"/>
                <a:chOff x="2057040" y="3740040"/>
                <a:chExt cx="264600" cy="12672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2057040" y="3740040"/>
                  <a:ext cx="26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321640" y="3740040"/>
                  <a:ext cx="0" cy="12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957320" y="3740040"/>
                <a:ext cx="104040" cy="323640"/>
                <a:chOff x="1957320" y="3740040"/>
                <a:chExt cx="104040" cy="32364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2061360" y="374004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1957320" y="4063680"/>
                  <a:ext cx="104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1800000" y="3611520"/>
                <a:ext cx="264240" cy="128160"/>
                <a:chOff x="1800000" y="3611520"/>
                <a:chExt cx="264240" cy="128160"/>
              </a:xfrm>
            </p:grpSpPr>
            <p:sp>
              <p:nvSpPr>
                <p:cNvPr id="1004" name=""/>
                <p:cNvSpPr/>
                <p:nvPr/>
              </p:nvSpPr>
              <p:spPr>
                <a:xfrm flipH="1">
                  <a:off x="1800000" y="3739680"/>
                  <a:ext cx="26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1800000" y="3611520"/>
                  <a:ext cx="0" cy="12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2061720" y="3429360"/>
                <a:ext cx="102600" cy="323640"/>
                <a:chOff x="2061720" y="3429360"/>
                <a:chExt cx="102600" cy="323640"/>
              </a:xfrm>
            </p:grpSpPr>
            <p:sp>
              <p:nvSpPr>
                <p:cNvPr id="1007" name=""/>
                <p:cNvSpPr/>
                <p:nvPr/>
              </p:nvSpPr>
              <p:spPr>
                <a:xfrm flipV="1">
                  <a:off x="2061720" y="3429360"/>
                  <a:ext cx="0" cy="3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061720" y="342936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2084760" y="3528360"/>
                <a:ext cx="277560" cy="187920"/>
                <a:chOff x="2084760" y="3528360"/>
                <a:chExt cx="277560" cy="187920"/>
              </a:xfrm>
            </p:grpSpPr>
            <p:sp>
              <p:nvSpPr>
                <p:cNvPr id="1010" name=""/>
                <p:cNvSpPr/>
                <p:nvPr/>
              </p:nvSpPr>
              <p:spPr>
                <a:xfrm flipV="1">
                  <a:off x="2084760" y="352836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272680" y="3528360"/>
                  <a:ext cx="89640" cy="8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1840680" y="3440160"/>
                <a:ext cx="228960" cy="302400"/>
                <a:chOff x="1840680" y="3440160"/>
                <a:chExt cx="228960" cy="302400"/>
              </a:xfrm>
            </p:grpSpPr>
            <p:sp>
              <p:nvSpPr>
                <p:cNvPr id="1013" name=""/>
                <p:cNvSpPr/>
                <p:nvPr/>
              </p:nvSpPr>
              <p:spPr>
                <a:xfrm flipH="1" flipV="1">
                  <a:off x="1840680" y="3513600"/>
                  <a:ext cx="228960" cy="22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1840680" y="3440160"/>
                  <a:ext cx="73440" cy="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2035440" y="3733560"/>
                <a:ext cx="228600" cy="301320"/>
                <a:chOff x="2035440" y="3733560"/>
                <a:chExt cx="228600" cy="3013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2035440" y="3733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2191320" y="3962160"/>
                  <a:ext cx="72720" cy="7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1772640" y="3751200"/>
                <a:ext cx="277560" cy="187920"/>
                <a:chOff x="1772640" y="3751200"/>
                <a:chExt cx="277560" cy="187920"/>
              </a:xfrm>
            </p:grpSpPr>
            <p:sp>
              <p:nvSpPr>
                <p:cNvPr id="1019" name=""/>
                <p:cNvSpPr/>
                <p:nvPr/>
              </p:nvSpPr>
              <p:spPr>
                <a:xfrm flipH="1">
                  <a:off x="1862280" y="3751200"/>
                  <a:ext cx="18792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>
                  <a:off x="1772640" y="3849840"/>
                  <a:ext cx="89640" cy="8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1" name=""/>
            <p:cNvSpPr/>
            <p:nvPr/>
          </p:nvSpPr>
          <p:spPr>
            <a:xfrm flipV="1">
              <a:off x="1923840" y="2957400"/>
              <a:ext cx="67356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2253600" y="3850920"/>
              <a:ext cx="4712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149640" y="2133720"/>
              <a:ext cx="1358640" cy="1236240"/>
              <a:chOff x="3149640" y="2133720"/>
              <a:chExt cx="1358640" cy="12362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149640" y="2476440"/>
                <a:ext cx="731880" cy="8935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76760" y="2133720"/>
                <a:ext cx="731520" cy="8935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9922400">
                <a:off x="3454200" y="2323800"/>
                <a:ext cx="762120" cy="84096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149640" y="2471760"/>
                <a:ext cx="731880" cy="89316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3371760" y="2144520"/>
                <a:ext cx="673200" cy="35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714120" y="3025080"/>
                <a:ext cx="47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 rot="19920000">
              <a:off x="2946240" y="3034800"/>
              <a:ext cx="5335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863640" y="2921040"/>
            <a:ext cx="1193760" cy="2908440"/>
            <a:chOff x="863640" y="2921040"/>
            <a:chExt cx="1193760" cy="2908440"/>
          </a:xfrm>
        </p:grpSpPr>
        <p:sp>
          <p:nvSpPr>
            <p:cNvPr id="1032" name=""/>
            <p:cNvSpPr/>
            <p:nvPr/>
          </p:nvSpPr>
          <p:spPr>
            <a:xfrm>
              <a:off x="1082880" y="5511960"/>
              <a:ext cx="8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08360" y="5613480"/>
              <a:ext cx="104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35160" y="5295960"/>
              <a:ext cx="533520" cy="5335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1299960" y="5369040"/>
              <a:ext cx="410040" cy="382680"/>
              <a:chOff x="1299960" y="5369040"/>
              <a:chExt cx="410040" cy="38268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1501920" y="5554800"/>
                <a:ext cx="193680" cy="76320"/>
                <a:chOff x="1501920" y="5554800"/>
                <a:chExt cx="193680" cy="763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501920" y="55548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695600" y="555480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1428840" y="5554800"/>
                <a:ext cx="76320" cy="193680"/>
                <a:chOff x="1428840" y="5554800"/>
                <a:chExt cx="76320" cy="19368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1505160" y="555480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>
                  <a:off x="1428840" y="5748480"/>
                  <a:ext cx="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1314360" y="5478480"/>
                <a:ext cx="193680" cy="76320"/>
                <a:chOff x="1314360" y="5478480"/>
                <a:chExt cx="193680" cy="76320"/>
              </a:xfrm>
            </p:grpSpPr>
            <p:sp>
              <p:nvSpPr>
                <p:cNvPr id="1043" name=""/>
                <p:cNvSpPr/>
                <p:nvPr/>
              </p:nvSpPr>
              <p:spPr>
                <a:xfrm flipH="1">
                  <a:off x="1314360" y="55548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1314360" y="547848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1505160" y="5369040"/>
                <a:ext cx="75960" cy="193680"/>
                <a:chOff x="1505160" y="5369040"/>
                <a:chExt cx="75960" cy="193680"/>
              </a:xfrm>
            </p:grpSpPr>
            <p:sp>
              <p:nvSpPr>
                <p:cNvPr id="1046" name=""/>
                <p:cNvSpPr/>
                <p:nvPr/>
              </p:nvSpPr>
              <p:spPr>
                <a:xfrm flipV="1">
                  <a:off x="1505160" y="5369040"/>
                  <a:ext cx="0" cy="193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505160" y="536904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1519200" y="5408640"/>
                <a:ext cx="190800" cy="136800"/>
                <a:chOff x="1519200" y="5408640"/>
                <a:chExt cx="190800" cy="136800"/>
              </a:xfrm>
            </p:grpSpPr>
            <p:sp>
              <p:nvSpPr>
                <p:cNvPr id="1049" name=""/>
                <p:cNvSpPr/>
                <p:nvPr/>
              </p:nvSpPr>
              <p:spPr>
                <a:xfrm flipV="1">
                  <a:off x="1519200" y="540864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656000" y="540864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1359000" y="5370480"/>
                <a:ext cx="136800" cy="190440"/>
                <a:chOff x="1359000" y="5370480"/>
                <a:chExt cx="136800" cy="19044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 flipV="1">
                  <a:off x="1359000" y="542412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1359000" y="5370480"/>
                  <a:ext cx="53640" cy="5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1501200" y="5561280"/>
                <a:ext cx="136800" cy="190440"/>
                <a:chOff x="1501200" y="5561280"/>
                <a:chExt cx="136800" cy="1904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501200" y="55612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1584360" y="5698080"/>
                  <a:ext cx="53640" cy="5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1299960" y="5572080"/>
                <a:ext cx="190800" cy="136800"/>
                <a:chOff x="1299960" y="5572080"/>
                <a:chExt cx="190800" cy="136800"/>
              </a:xfrm>
            </p:grpSpPr>
            <p:sp>
              <p:nvSpPr>
                <p:cNvPr id="1058" name=""/>
                <p:cNvSpPr/>
                <p:nvPr/>
              </p:nvSpPr>
              <p:spPr>
                <a:xfrm flipH="1">
                  <a:off x="1353960" y="5572080"/>
                  <a:ext cx="136800" cy="13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H="1" flipV="1">
                  <a:off x="1299960" y="5654880"/>
                  <a:ext cx="54000" cy="5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0" name=""/>
            <p:cNvSpPr/>
            <p:nvPr/>
          </p:nvSpPr>
          <p:spPr>
            <a:xfrm>
              <a:off x="863640" y="30351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1095480" y="292104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1006560" y="302256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63640" y="2933640"/>
              <a:ext cx="22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81440" y="416556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057400" y="4152960"/>
              <a:ext cx="0" cy="14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1001880" y="3022560"/>
              <a:ext cx="0" cy="25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471680" y="4191120"/>
            <a:ext cx="1371600" cy="914400"/>
            <a:chOff x="1471680" y="4191120"/>
            <a:chExt cx="1371600" cy="914400"/>
          </a:xfrm>
        </p:grpSpPr>
        <p:grpSp>
          <p:nvGrpSpPr>
            <p:cNvPr id="1068" name=""/>
            <p:cNvGrpSpPr/>
            <p:nvPr/>
          </p:nvGrpSpPr>
          <p:grpSpPr>
            <a:xfrm>
              <a:off x="1471680" y="4191120"/>
              <a:ext cx="1371600" cy="533160"/>
              <a:chOff x="1471680" y="4191120"/>
              <a:chExt cx="1371600" cy="533160"/>
            </a:xfrm>
          </p:grpSpPr>
          <p:sp>
            <p:nvSpPr>
              <p:cNvPr id="1069" name=""/>
              <p:cNvSpPr/>
              <p:nvPr/>
            </p:nvSpPr>
            <p:spPr>
              <a:xfrm>
                <a:off x="1471680" y="4191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14680" y="4191120"/>
                <a:ext cx="228600" cy="5331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700280" y="426708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00280" y="4419720"/>
                <a:ext cx="914400" cy="75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00280" y="4572000"/>
                <a:ext cx="914400" cy="763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154944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2576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2766960" y="469872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690640" y="4723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152280" y="1384200"/>
            <a:ext cx="762120" cy="2819520"/>
            <a:chOff x="152280" y="1384200"/>
            <a:chExt cx="762120" cy="2819520"/>
          </a:xfrm>
        </p:grpSpPr>
        <p:sp>
          <p:nvSpPr>
            <p:cNvPr id="1079" name=""/>
            <p:cNvSpPr/>
            <p:nvPr/>
          </p:nvSpPr>
          <p:spPr>
            <a:xfrm>
              <a:off x="444600" y="3124080"/>
              <a:ext cx="19368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904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5240" y="312408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14400" y="1536840"/>
              <a:ext cx="0" cy="13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2280" y="2882880"/>
              <a:ext cx="762120" cy="36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2280" y="1600200"/>
              <a:ext cx="762120" cy="1523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2280" y="15112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2280" y="1384200"/>
              <a:ext cx="762120" cy="36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317520" y="2120760"/>
              <a:ext cx="431640" cy="1152360"/>
              <a:chOff x="317520" y="2120760"/>
              <a:chExt cx="431640" cy="1152360"/>
            </a:xfrm>
          </p:grpSpPr>
          <p:sp>
            <p:nvSpPr>
              <p:cNvPr id="1088" name=""/>
              <p:cNvSpPr/>
              <p:nvPr/>
            </p:nvSpPr>
            <p:spPr>
              <a:xfrm>
                <a:off x="317520" y="2120760"/>
                <a:ext cx="428760" cy="3524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20760" y="2920680"/>
                <a:ext cx="428400" cy="3524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18960" y="2317320"/>
                <a:ext cx="430200" cy="828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7520" y="2303280"/>
                <a:ext cx="411120" cy="842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17520" y="2358720"/>
                <a:ext cx="0" cy="800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49160" y="22698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17520" y="225720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1640" y="2257560"/>
              <a:ext cx="203040" cy="914400"/>
              <a:chOff x="431640" y="2257560"/>
              <a:chExt cx="203040" cy="914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1640" y="2257560"/>
                <a:ext cx="201600" cy="27936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3080" y="2892600"/>
                <a:ext cx="201600" cy="279360"/>
              </a:xfrm>
              <a:prstGeom prst="ellips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3080" y="2413080"/>
                <a:ext cx="201600" cy="65880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1640" y="2401920"/>
                <a:ext cx="193680" cy="66996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31640" y="2446560"/>
                <a:ext cx="0" cy="63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34680" y="237672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31640" y="2365560"/>
                <a:ext cx="0" cy="72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>
              <a:off x="317520" y="3048120"/>
              <a:ext cx="457200" cy="380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431640" y="29084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17520" y="2806560"/>
              <a:ext cx="0" cy="138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431640" y="2257560"/>
              <a:ext cx="203040" cy="1094760"/>
              <a:chOff x="431640" y="2257560"/>
              <a:chExt cx="203040" cy="1094760"/>
            </a:xfrm>
          </p:grpSpPr>
          <p:sp>
            <p:nvSpPr>
              <p:cNvPr id="1107" name=""/>
              <p:cNvSpPr/>
              <p:nvPr/>
            </p:nvSpPr>
            <p:spPr>
              <a:xfrm>
                <a:off x="431640" y="225756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33080" y="3017880"/>
                <a:ext cx="201600" cy="334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33080" y="2443680"/>
                <a:ext cx="201600" cy="788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31640" y="2430360"/>
                <a:ext cx="193680" cy="802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31640" y="2483640"/>
                <a:ext cx="0" cy="76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34680" y="240012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31640" y="2386800"/>
                <a:ext cx="0" cy="86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457200" y="3251160"/>
              <a:ext cx="1872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44600" y="326376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39800" y="2831760"/>
              <a:ext cx="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638280" y="2793600"/>
              <a:ext cx="0" cy="13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304920" y="1557360"/>
            <a:ext cx="519120" cy="500040"/>
            <a:chOff x="304920" y="1557360"/>
            <a:chExt cx="519120" cy="500040"/>
          </a:xfrm>
        </p:grpSpPr>
        <p:sp>
          <p:nvSpPr>
            <p:cNvPr id="1119" name=""/>
            <p:cNvSpPr/>
            <p:nvPr/>
          </p:nvSpPr>
          <p:spPr>
            <a:xfrm>
              <a:off x="30492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720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948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62120" y="1557360"/>
              <a:ext cx="61920" cy="500040"/>
            </a:xfrm>
            <a:custGeom>
              <a:avLst/>
              <a:gdLst/>
              <a:ahLst/>
              <a:rect l="l" t="t" r="r" b="b"/>
              <a:pathLst>
                <a:path w="39" h="315">
                  <a:moveTo>
                    <a:pt x="0" y="0"/>
                  </a:moveTo>
                  <a:lnTo>
                    <a:pt x="39" y="45"/>
                  </a:lnTo>
                  <a:lnTo>
                    <a:pt x="0" y="101"/>
                  </a:lnTo>
                  <a:lnTo>
                    <a:pt x="23" y="136"/>
                  </a:lnTo>
                  <a:lnTo>
                    <a:pt x="31" y="183"/>
                  </a:lnTo>
                  <a:lnTo>
                    <a:pt x="23" y="216"/>
                  </a:lnTo>
                  <a:lnTo>
                    <a:pt x="0" y="282"/>
                  </a:lnTo>
                  <a:lnTo>
                    <a:pt x="21" y="315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482760" y="838080"/>
            <a:ext cx="1600200" cy="2438640"/>
            <a:chOff x="482760" y="838080"/>
            <a:chExt cx="1600200" cy="2438640"/>
          </a:xfrm>
        </p:grpSpPr>
        <p:grpSp>
          <p:nvGrpSpPr>
            <p:cNvPr id="1124" name=""/>
            <p:cNvGrpSpPr/>
            <p:nvPr/>
          </p:nvGrpSpPr>
          <p:grpSpPr>
            <a:xfrm>
              <a:off x="482760" y="838080"/>
              <a:ext cx="1600200" cy="692280"/>
              <a:chOff x="482760" y="838080"/>
              <a:chExt cx="1600200" cy="6922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82760" y="8380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58720" y="914400"/>
                <a:ext cx="0" cy="61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82760" y="8380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58720" y="9270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2082960" y="838080"/>
              <a:ext cx="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07000" y="927000"/>
              <a:ext cx="0" cy="234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4105800" y="5583240"/>
            <a:ext cx="415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mpe du circuit secondaire,  metta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 ’eau en mouv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112280" y="9669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it second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07240" y="1371600"/>
            <a:ext cx="38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Etat gazeux: Vapeur haute 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104360" y="5019840"/>
            <a:ext cx="50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tat liquide: Après passage dans le condens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11480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ens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rot="16200000">
            <a:off x="1344600" y="4822560"/>
            <a:ext cx="1360440" cy="65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31920" y="5295960"/>
            <a:ext cx="533520" cy="53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41480" y="5524560"/>
            <a:ext cx="10000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rot="16200000">
            <a:off x="-273600" y="4231440"/>
            <a:ext cx="26560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914400" y="2946240"/>
            <a:ext cx="13644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6200000">
            <a:off x="169560" y="1172880"/>
            <a:ext cx="71280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71680" y="851040"/>
            <a:ext cx="1504800" cy="7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16200000">
            <a:off x="848520" y="2039040"/>
            <a:ext cx="2403360" cy="6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2895120" y="4495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2133360" y="118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057040" y="158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2057040" y="52196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1752480" y="57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296720" y="5343480"/>
            <a:ext cx="410040" cy="382680"/>
            <a:chOff x="1296720" y="5343480"/>
            <a:chExt cx="410040" cy="382680"/>
          </a:xfrm>
        </p:grpSpPr>
        <p:grpSp>
          <p:nvGrpSpPr>
            <p:cNvPr id="1150" name=""/>
            <p:cNvGrpSpPr/>
            <p:nvPr/>
          </p:nvGrpSpPr>
          <p:grpSpPr>
            <a:xfrm>
              <a:off x="1498680" y="5529240"/>
              <a:ext cx="193680" cy="76320"/>
              <a:chOff x="1498680" y="5529240"/>
              <a:chExt cx="193680" cy="76320"/>
            </a:xfrm>
          </p:grpSpPr>
          <p:sp>
            <p:nvSpPr>
              <p:cNvPr id="1151" name=""/>
              <p:cNvSpPr/>
              <p:nvPr/>
            </p:nvSpPr>
            <p:spPr>
              <a:xfrm>
                <a:off x="1498680" y="552924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692360" y="552924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1425600" y="5529240"/>
              <a:ext cx="76320" cy="193680"/>
              <a:chOff x="1425600" y="5529240"/>
              <a:chExt cx="76320" cy="193680"/>
            </a:xfrm>
          </p:grpSpPr>
          <p:sp>
            <p:nvSpPr>
              <p:cNvPr id="1154" name=""/>
              <p:cNvSpPr/>
              <p:nvPr/>
            </p:nvSpPr>
            <p:spPr>
              <a:xfrm>
                <a:off x="1501920" y="552924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1425600" y="572292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1311120" y="5452920"/>
              <a:ext cx="193680" cy="76320"/>
              <a:chOff x="1311120" y="5452920"/>
              <a:chExt cx="193680" cy="76320"/>
            </a:xfrm>
          </p:grpSpPr>
          <p:sp>
            <p:nvSpPr>
              <p:cNvPr id="1157" name=""/>
              <p:cNvSpPr/>
              <p:nvPr/>
            </p:nvSpPr>
            <p:spPr>
              <a:xfrm flipH="1">
                <a:off x="1311120" y="5529240"/>
                <a:ext cx="19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1311120" y="54529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1501920" y="5343480"/>
              <a:ext cx="75960" cy="193680"/>
              <a:chOff x="1501920" y="5343480"/>
              <a:chExt cx="75960" cy="193680"/>
            </a:xfrm>
          </p:grpSpPr>
          <p:sp>
            <p:nvSpPr>
              <p:cNvPr id="1160" name=""/>
              <p:cNvSpPr/>
              <p:nvPr/>
            </p:nvSpPr>
            <p:spPr>
              <a:xfrm flipV="1">
                <a:off x="1501920" y="53434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501920" y="53434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1515960" y="5383080"/>
              <a:ext cx="190800" cy="136800"/>
              <a:chOff x="1515960" y="5383080"/>
              <a:chExt cx="190800" cy="136800"/>
            </a:xfrm>
          </p:grpSpPr>
          <p:sp>
            <p:nvSpPr>
              <p:cNvPr id="1163" name=""/>
              <p:cNvSpPr/>
              <p:nvPr/>
            </p:nvSpPr>
            <p:spPr>
              <a:xfrm flipV="1">
                <a:off x="1515960" y="538308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52760" y="538308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1355760" y="5344920"/>
              <a:ext cx="136800" cy="190440"/>
              <a:chOff x="1355760" y="5344920"/>
              <a:chExt cx="136800" cy="190440"/>
            </a:xfrm>
          </p:grpSpPr>
          <p:sp>
            <p:nvSpPr>
              <p:cNvPr id="1166" name=""/>
              <p:cNvSpPr/>
              <p:nvPr/>
            </p:nvSpPr>
            <p:spPr>
              <a:xfrm flipH="1" flipV="1">
                <a:off x="1355760" y="539856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1355760" y="5344920"/>
                <a:ext cx="5364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1497960" y="5535720"/>
              <a:ext cx="136800" cy="190440"/>
              <a:chOff x="1497960" y="5535720"/>
              <a:chExt cx="136800" cy="190440"/>
            </a:xfrm>
          </p:grpSpPr>
          <p:sp>
            <p:nvSpPr>
              <p:cNvPr id="1169" name=""/>
              <p:cNvSpPr/>
              <p:nvPr/>
            </p:nvSpPr>
            <p:spPr>
              <a:xfrm>
                <a:off x="1497960" y="55357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581120" y="5672520"/>
                <a:ext cx="5364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296720" y="5546520"/>
              <a:ext cx="190800" cy="136800"/>
              <a:chOff x="1296720" y="5546520"/>
              <a:chExt cx="190800" cy="136800"/>
            </a:xfrm>
          </p:grpSpPr>
          <p:sp>
            <p:nvSpPr>
              <p:cNvPr id="1172" name=""/>
              <p:cNvSpPr/>
              <p:nvPr/>
            </p:nvSpPr>
            <p:spPr>
              <a:xfrm flipH="1">
                <a:off x="1350720" y="5546520"/>
                <a:ext cx="1368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1296720" y="5629320"/>
                <a:ext cx="5400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4" name=""/>
          <p:cNvSpPr/>
          <p:nvPr/>
        </p:nvSpPr>
        <p:spPr>
          <a:xfrm>
            <a:off x="4114800" y="1752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énérateur de vap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990720" y="1981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80880" y="3200400"/>
            <a:ext cx="0" cy="1447920"/>
            <a:chOff x="380880" y="3200400"/>
            <a:chExt cx="0" cy="1447920"/>
          </a:xfrm>
        </p:grpSpPr>
        <p:sp>
          <p:nvSpPr>
            <p:cNvPr id="1177" name=""/>
            <p:cNvSpPr/>
            <p:nvPr/>
          </p:nvSpPr>
          <p:spPr>
            <a:xfrm flipV="1">
              <a:off x="3808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80880" y="320040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685800" y="3238560"/>
            <a:ext cx="12600" cy="1409760"/>
            <a:chOff x="685800" y="3238560"/>
            <a:chExt cx="12600" cy="1409760"/>
          </a:xfrm>
        </p:grpSpPr>
        <p:sp>
          <p:nvSpPr>
            <p:cNvPr id="1180" name=""/>
            <p:cNvSpPr/>
            <p:nvPr/>
          </p:nvSpPr>
          <p:spPr>
            <a:xfrm>
              <a:off x="68580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8400" y="323856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-34200" y="4610160"/>
            <a:ext cx="11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à T°&gt;300°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895120" y="3962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8858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114800" y="37465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ine entraînée par de la vapeur d ’eau sè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114800" y="3086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72000" y="2270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a vapeur haute pression crée entraîne ainsi en rotation le turbo-alternat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185640" y="414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éation de vap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>
            <a:hlinkClick r:id="" action="ppaction://hlinkshowjump?jump=nextslide"/>
          </p:cNvPr>
          <p:cNvSpPr/>
          <p:nvPr/>
        </p:nvSpPr>
        <p:spPr>
          <a:xfrm>
            <a:off x="89107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>
            <a:hlinkClick r:id="" action="ppaction://hlinkshowjump?jump=previousslide"/>
          </p:cNvPr>
          <p:cNvSpPr/>
          <p:nvPr/>
        </p:nvSpPr>
        <p:spPr>
          <a:xfrm>
            <a:off x="868212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>
            <a:hlinkClick r:id="" action="ppaction://hlinkshowjump?jump=firstslide"/>
          </p:cNvPr>
          <p:cNvSpPr/>
          <p:nvPr/>
        </p:nvSpPr>
        <p:spPr>
          <a:xfrm>
            <a:off x="8453520" y="662796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1T15:23:38Z</dcterms:created>
  <dc:creator>CANAT</dc:creator>
  <dc:description/>
  <dc:language>en-US</dc:language>
  <cp:lastModifiedBy>CANAT</cp:lastModifiedBy>
  <dcterms:modified xsi:type="dcterms:W3CDTF">2002-09-03T16:54:23Z</dcterms:modified>
  <cp:revision>61</cp:revision>
  <dc:subject/>
  <dc:title>Aucun titre de diapositive</dc:title>
</cp:coreProperties>
</file>