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19D-F525-4AB2-87CD-497A5EDC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286-3EEA-46AE-8044-4D8EB4E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45A-1175-46DB-AEFC-92AC1E32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514-AA3D-456E-BCE2-479D0A13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F13D-3F2A-4D19-A5BD-ECC80298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605F-DE7F-4877-9234-05B822DF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355-86C2-401F-837B-0CA29ADB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85CC-05B5-46FE-8016-FE8011A2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69B9-802E-4609-BE25-77F2548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648-9AF3-4E2B-9DAB-E94534DE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30F8-50D9-488F-9903-196F22A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56E-17CF-4B6D-80B0-DB775F38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91A-5FFC-466D-BD21-A869C20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BA3-6C0F-4AEE-8EAA-E8E3455E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D9E-F396-4B28-BC7C-A0558BD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353-699B-4D3F-BD36-7877D6DB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4C6-F2F4-467C-8FB1-CA198906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8B0-67E0-4AED-8C66-8866728D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E43-AB08-4D36-B5A1-BA1E596F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91E-6D49-46CF-AFF8-D2CAA36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F08-8F59-4232-A25F-90BDCFA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8C5-C715-49C2-B998-FD82054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414-821A-47DD-AE5F-5C39A7F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B40-F6F4-4E87-9AF2-1E24852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703A-361A-43A3-A155-959E28B0C47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91EE-2B8D-498D-A4C1-7FAF846DCB5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65960" y="84132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nstallations Domestiqu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61560" y="205740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9964"/>
                </a:solidFill>
                <a:latin typeface="Times New Roman"/>
              </a:rPr>
              <a:t>1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Tableau de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3809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9964"/>
                </a:solidFill>
                <a:latin typeface="Times New Roman"/>
              </a:rPr>
              <a:t>2) Plan architectur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9400" y="259092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A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Le compteur d ’énerg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4520" y="29718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B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Disjoncteur de branch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3800" y="34290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C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Disjoncteur différenti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2360" y="4191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A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Schéma architectural d ’un F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2000" y="46483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9964"/>
                </a:solidFill>
                <a:latin typeface="Times New Roman"/>
              </a:rPr>
              <a:t>B) </a:t>
            </a: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6" action="ppaction://hlinksldjump"/>
              </a:rPr>
              <a:t>Représentation dans l ’espace d ’une piè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1392120" y="6248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43360" y="45720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Technologie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84" name="IMAGE7" descr=""/>
          <p:cNvPicPr/>
          <p:nvPr/>
        </p:nvPicPr>
        <p:blipFill>
          <a:blip r:embed="rId1"/>
          <a:srcRect l="939" t="253" r="-680" b="0"/>
          <a:stretch/>
        </p:blipFill>
        <p:spPr>
          <a:xfrm>
            <a:off x="685800" y="1600200"/>
            <a:ext cx="8229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817880" y="205740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:Variante du disjoncteur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uivant le pouvoir de coupur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17520" y="2590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2:Courbe de déclencheme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16440" y="294012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3:Calibre du disjoncteur (courant assigné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2920" y="3244680"/>
            <a:ext cx="224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4:tension d ’emploi U</a:t>
            </a:r>
            <a:r>
              <a:rPr b="0" lang="fr-FR" sz="1800" spc="-1" strike="noStrike" baseline="-25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17160" y="3549600"/>
            <a:ext cx="38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5:Pouvoir de coupure suivant la nor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« domestique et analogue » NFC 61-41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7160" y="4159080"/>
            <a:ext cx="37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6:Pouvoir de coupure suivant la nor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« industrielle » NFC 63-12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17160" y="47689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7:Référence commercial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15360" y="514980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8:Symbole électrique suivant le nombre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e pô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3360" y="45720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Technologie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2240" y="9907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Marquage face avant 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rcRect l="6940" t="0" r="0" b="0"/>
          <a:stretch/>
        </p:blipFill>
        <p:spPr>
          <a:xfrm>
            <a:off x="1096920" y="2286000"/>
            <a:ext cx="3475080" cy="31766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915480" y="3073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5480" y="3352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2880" y="354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02880" y="3759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54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02880" y="4305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5480" y="4546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02880" y="485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143360" y="45720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Technologie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2240" y="9907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Marquage face avant 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3505320" cy="1123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796280" y="2286000"/>
            <a:ext cx="40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0:A = Ampère: doit être précisée suiva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la norme CEI947-2 pour application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7000" y="3016080"/>
            <a:ext cx="39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1:Symbole d ’aptitude au sectionneme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à coupure pleinement apparent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9160" y="48006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2:Marque de conformité NF US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98800" y="58672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9:Classe de limita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17160" y="5257800"/>
            <a:ext cx="38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5:Pouvoir de coupure suivant la nor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« domestique et analogue » NFC 61-41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rcRect l="5224" t="0" r="0" b="0"/>
          <a:stretch/>
        </p:blipFill>
        <p:spPr>
          <a:xfrm>
            <a:off x="1096920" y="1676520"/>
            <a:ext cx="3322800" cy="3006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62480" y="2857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2480" y="334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3504960" cy="27162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816800" y="190512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:Norme de construction (applica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dustrielles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10680" y="245268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2:Réglage magnétique (courbe C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3480" y="2743200"/>
            <a:ext cx="237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3: Tension d ’emploi U</a:t>
            </a:r>
            <a:r>
              <a:rPr b="0" lang="fr-FR" sz="1800" spc="-1" strike="noStrike" baseline="-25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98800" y="30621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4:Pouvoir de coupure ul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97720" y="336708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5:Performance de coupure en servic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(Ics) (en %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98440" y="39304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6:Tension de tenue au cho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98080" y="42814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7:Température de référenc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97720" y="466236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8:Catégorie de l ’apparei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A : Appareil non prévu pour réaliser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e la sélectivité chronométrique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360" y="45720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Technologie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4040" y="990720"/>
            <a:ext cx="34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Marquage latéral 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9920" y="38088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D)Disjoncteur Divisionnai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838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Technologi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09920" y="422280"/>
            <a:ext cx="27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Disjoncteur au plu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ès de la char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45" name="IMAGE9jpg" descr=""/>
          <p:cNvPicPr/>
          <p:nvPr/>
        </p:nvPicPr>
        <p:blipFill>
          <a:blip r:embed="rId1"/>
          <a:srcRect l="0" t="0" r="37432" b="0"/>
          <a:stretch/>
        </p:blipFill>
        <p:spPr>
          <a:xfrm>
            <a:off x="533520" y="1327320"/>
            <a:ext cx="3336840" cy="48448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807000" y="239544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nction raccord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4840" y="311004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nction thermique (bilam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386856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nction coupure (contact et chambr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4464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nction déclenchement et arm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50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nction magnétique (bobin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063080" y="304920"/>
            <a:ext cx="43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chéma architectur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2480" y="2438280"/>
            <a:ext cx="6477120" cy="38102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72080" y="10666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)Schéma d ’un F2: localisation des divers appareillag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5160" y="17524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e NF C 03-2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751040" y="2408400"/>
            <a:ext cx="3125880" cy="3887640"/>
            <a:chOff x="1751040" y="2408400"/>
            <a:chExt cx="3125880" cy="3887640"/>
          </a:xfrm>
        </p:grpSpPr>
        <p:sp>
          <p:nvSpPr>
            <p:cNvPr id="556" name=""/>
            <p:cNvSpPr/>
            <p:nvPr/>
          </p:nvSpPr>
          <p:spPr>
            <a:xfrm>
              <a:off x="1752480" y="6248520"/>
              <a:ext cx="60984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33920" y="6248520"/>
              <a:ext cx="99036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24280" y="3276720"/>
              <a:ext cx="0" cy="243828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52480" y="4648320"/>
              <a:ext cx="0" cy="164772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51040" y="2408400"/>
              <a:ext cx="0" cy="15332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2438280"/>
              <a:ext cx="312444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905840" y="327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éjou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720" y="4876560"/>
            <a:ext cx="309600" cy="519480"/>
            <a:chOff x="4338720" y="4876560"/>
            <a:chExt cx="309600" cy="519480"/>
          </a:xfrm>
        </p:grpSpPr>
        <p:sp>
          <p:nvSpPr>
            <p:cNvPr id="564" name=""/>
            <p:cNvSpPr/>
            <p:nvPr/>
          </p:nvSpPr>
          <p:spPr>
            <a:xfrm>
              <a:off x="438660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38720" y="524376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3760" y="510552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491360" y="487656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338720" y="3747600"/>
            <a:ext cx="309600" cy="519480"/>
            <a:chOff x="4338720" y="3747600"/>
            <a:chExt cx="309600" cy="519480"/>
          </a:xfrm>
        </p:grpSpPr>
        <p:sp>
          <p:nvSpPr>
            <p:cNvPr id="569" name=""/>
            <p:cNvSpPr/>
            <p:nvPr/>
          </p:nvSpPr>
          <p:spPr>
            <a:xfrm>
              <a:off x="4386600" y="397656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38720" y="41148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43760" y="397656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491360" y="374760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824120" y="2742840"/>
            <a:ext cx="309600" cy="519480"/>
            <a:chOff x="1824120" y="2742840"/>
            <a:chExt cx="309600" cy="519480"/>
          </a:xfrm>
        </p:grpSpPr>
        <p:sp>
          <p:nvSpPr>
            <p:cNvPr id="574" name=""/>
            <p:cNvSpPr/>
            <p:nvPr/>
          </p:nvSpPr>
          <p:spPr>
            <a:xfrm>
              <a:off x="18720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24120" y="31100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29160" y="297180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1976760" y="274284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828800" y="5638320"/>
            <a:ext cx="309600" cy="519480"/>
            <a:chOff x="1828800" y="5638320"/>
            <a:chExt cx="309600" cy="519480"/>
          </a:xfrm>
        </p:grpSpPr>
        <p:sp>
          <p:nvSpPr>
            <p:cNvPr id="579" name=""/>
            <p:cNvSpPr/>
            <p:nvPr/>
          </p:nvSpPr>
          <p:spPr>
            <a:xfrm>
              <a:off x="1876680" y="586728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28800" y="600552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33840" y="586728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981440" y="563832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271680" y="2514240"/>
            <a:ext cx="309600" cy="519480"/>
            <a:chOff x="3271680" y="2514240"/>
            <a:chExt cx="309600" cy="519480"/>
          </a:xfrm>
        </p:grpSpPr>
        <p:sp>
          <p:nvSpPr>
            <p:cNvPr id="584" name=""/>
            <p:cNvSpPr/>
            <p:nvPr/>
          </p:nvSpPr>
          <p:spPr>
            <a:xfrm>
              <a:off x="331956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71680" y="28814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6720" y="274320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424320" y="251424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343400" y="4343400"/>
            <a:ext cx="304560" cy="304560"/>
            <a:chOff x="4343400" y="4343400"/>
            <a:chExt cx="304560" cy="304560"/>
          </a:xfrm>
        </p:grpSpPr>
        <p:sp>
          <p:nvSpPr>
            <p:cNvPr id="589" name=""/>
            <p:cNvSpPr/>
            <p:nvPr/>
          </p:nvSpPr>
          <p:spPr>
            <a:xfrm>
              <a:off x="4343400" y="434340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14680" y="441936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886200" y="5867280"/>
            <a:ext cx="304560" cy="304560"/>
            <a:chOff x="3886200" y="5867280"/>
            <a:chExt cx="304560" cy="304560"/>
          </a:xfrm>
        </p:grpSpPr>
        <p:sp>
          <p:nvSpPr>
            <p:cNvPr id="592" name=""/>
            <p:cNvSpPr/>
            <p:nvPr/>
          </p:nvSpPr>
          <p:spPr>
            <a:xfrm>
              <a:off x="3886200" y="586728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57480" y="594324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28800" y="4724280"/>
            <a:ext cx="304560" cy="304560"/>
            <a:chOff x="1828800" y="4724280"/>
            <a:chExt cx="304560" cy="304560"/>
          </a:xfrm>
        </p:grpSpPr>
        <p:sp>
          <p:nvSpPr>
            <p:cNvPr id="595" name=""/>
            <p:cNvSpPr/>
            <p:nvPr/>
          </p:nvSpPr>
          <p:spPr>
            <a:xfrm>
              <a:off x="1828800" y="472428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0080" y="480024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95680" y="2514600"/>
            <a:ext cx="304560" cy="304560"/>
            <a:chOff x="4495680" y="2514600"/>
            <a:chExt cx="304560" cy="304560"/>
          </a:xfrm>
        </p:grpSpPr>
        <p:sp>
          <p:nvSpPr>
            <p:cNvPr id="598" name=""/>
            <p:cNvSpPr/>
            <p:nvPr/>
          </p:nvSpPr>
          <p:spPr>
            <a:xfrm>
              <a:off x="4495680" y="251460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66960" y="259056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114800" y="2529000"/>
            <a:ext cx="304560" cy="304560"/>
            <a:chOff x="4114800" y="2529000"/>
            <a:chExt cx="304560" cy="304560"/>
          </a:xfrm>
        </p:grpSpPr>
        <p:sp>
          <p:nvSpPr>
            <p:cNvPr id="601" name=""/>
            <p:cNvSpPr/>
            <p:nvPr/>
          </p:nvSpPr>
          <p:spPr>
            <a:xfrm>
              <a:off x="4114800" y="252900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86080" y="260496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638680" y="3429000"/>
            <a:ext cx="304560" cy="304560"/>
            <a:chOff x="5638680" y="3429000"/>
            <a:chExt cx="304560" cy="304560"/>
          </a:xfrm>
        </p:grpSpPr>
        <p:sp>
          <p:nvSpPr>
            <p:cNvPr id="604" name=""/>
            <p:cNvSpPr/>
            <p:nvPr/>
          </p:nvSpPr>
          <p:spPr>
            <a:xfrm>
              <a:off x="5638680" y="342900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09960" y="350496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800600" y="4267080"/>
            <a:ext cx="304560" cy="304560"/>
            <a:chOff x="4800600" y="4267080"/>
            <a:chExt cx="304560" cy="304560"/>
          </a:xfrm>
        </p:grpSpPr>
        <p:sp>
          <p:nvSpPr>
            <p:cNvPr id="607" name=""/>
            <p:cNvSpPr/>
            <p:nvPr/>
          </p:nvSpPr>
          <p:spPr>
            <a:xfrm>
              <a:off x="4800600" y="4267080"/>
              <a:ext cx="304560" cy="30456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71880" y="4343040"/>
              <a:ext cx="152280" cy="1526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419800" y="4995360"/>
            <a:ext cx="523800" cy="643320"/>
            <a:chOff x="5419800" y="4995360"/>
            <a:chExt cx="523800" cy="643320"/>
          </a:xfrm>
        </p:grpSpPr>
        <p:sp>
          <p:nvSpPr>
            <p:cNvPr id="610" name=""/>
            <p:cNvSpPr/>
            <p:nvPr/>
          </p:nvSpPr>
          <p:spPr>
            <a:xfrm>
              <a:off x="5595840" y="522432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715000" y="499536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0960" y="5010120"/>
              <a:ext cx="152640" cy="75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19800" y="5562360"/>
              <a:ext cx="15228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562360" y="5376240"/>
              <a:ext cx="7632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031160" y="5169960"/>
            <a:ext cx="676800" cy="231120"/>
            <a:chOff x="7031160" y="5169960"/>
            <a:chExt cx="676800" cy="231120"/>
          </a:xfrm>
        </p:grpSpPr>
        <p:sp>
          <p:nvSpPr>
            <p:cNvPr id="616" name=""/>
            <p:cNvSpPr/>
            <p:nvPr/>
          </p:nvSpPr>
          <p:spPr>
            <a:xfrm rot="3586800">
              <a:off x="7308000" y="519768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472160" y="5223600"/>
              <a:ext cx="235800" cy="49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95000" y="5230800"/>
              <a:ext cx="11160" cy="170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31160" y="5188320"/>
              <a:ext cx="10440" cy="169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066080" y="5283720"/>
              <a:ext cx="235800" cy="48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629400" y="3962520"/>
            <a:ext cx="380880" cy="380880"/>
            <a:chOff x="6629400" y="3962520"/>
            <a:chExt cx="380880" cy="380880"/>
          </a:xfrm>
        </p:grpSpPr>
        <p:sp>
          <p:nvSpPr>
            <p:cNvPr id="622" name=""/>
            <p:cNvSpPr/>
            <p:nvPr/>
          </p:nvSpPr>
          <p:spPr>
            <a:xfrm>
              <a:off x="6629400" y="396252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05360" y="40384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05360" y="40384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400800" y="5076720"/>
            <a:ext cx="380880" cy="380880"/>
            <a:chOff x="6400800" y="5076720"/>
            <a:chExt cx="380880" cy="380880"/>
          </a:xfrm>
        </p:grpSpPr>
        <p:sp>
          <p:nvSpPr>
            <p:cNvPr id="626" name=""/>
            <p:cNvSpPr/>
            <p:nvPr/>
          </p:nvSpPr>
          <p:spPr>
            <a:xfrm>
              <a:off x="6400800" y="507672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476760" y="51526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6760" y="51526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748560" y="2514600"/>
            <a:ext cx="380880" cy="380880"/>
            <a:chOff x="6748560" y="2514600"/>
            <a:chExt cx="380880" cy="380880"/>
          </a:xfrm>
        </p:grpSpPr>
        <p:sp>
          <p:nvSpPr>
            <p:cNvPr id="630" name=""/>
            <p:cNvSpPr/>
            <p:nvPr/>
          </p:nvSpPr>
          <p:spPr>
            <a:xfrm>
              <a:off x="6748560" y="251460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824520" y="259056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24520" y="259056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791320" y="2514600"/>
            <a:ext cx="380880" cy="380880"/>
            <a:chOff x="5791320" y="2514600"/>
            <a:chExt cx="380880" cy="380880"/>
          </a:xfrm>
        </p:grpSpPr>
        <p:sp>
          <p:nvSpPr>
            <p:cNvPr id="634" name=""/>
            <p:cNvSpPr/>
            <p:nvPr/>
          </p:nvSpPr>
          <p:spPr>
            <a:xfrm>
              <a:off x="5791320" y="251460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867280" y="259056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67280" y="259056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71800" y="4267080"/>
            <a:ext cx="380880" cy="380880"/>
            <a:chOff x="2971800" y="4267080"/>
            <a:chExt cx="380880" cy="380880"/>
          </a:xfrm>
        </p:grpSpPr>
        <p:sp>
          <p:nvSpPr>
            <p:cNvPr id="638" name=""/>
            <p:cNvSpPr/>
            <p:nvPr/>
          </p:nvSpPr>
          <p:spPr>
            <a:xfrm>
              <a:off x="2971800" y="426708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047760" y="434304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47760" y="434304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477120" y="2895120"/>
            <a:ext cx="195120" cy="381240"/>
            <a:chOff x="6477120" y="2895120"/>
            <a:chExt cx="195120" cy="381240"/>
          </a:xfrm>
        </p:grpSpPr>
        <p:sp>
          <p:nvSpPr>
            <p:cNvPr id="642" name=""/>
            <p:cNvSpPr/>
            <p:nvPr/>
          </p:nvSpPr>
          <p:spPr>
            <a:xfrm>
              <a:off x="6477120" y="312408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96280" y="289512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53040" y="2819160"/>
            <a:ext cx="195120" cy="381240"/>
            <a:chOff x="6053040" y="2819160"/>
            <a:chExt cx="195120" cy="381240"/>
          </a:xfrm>
        </p:grpSpPr>
        <p:sp>
          <p:nvSpPr>
            <p:cNvPr id="645" name=""/>
            <p:cNvSpPr/>
            <p:nvPr/>
          </p:nvSpPr>
          <p:spPr>
            <a:xfrm>
              <a:off x="6053040" y="304812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172200" y="281916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981680" y="3371760"/>
            <a:ext cx="380880" cy="380880"/>
            <a:chOff x="4981680" y="3371760"/>
            <a:chExt cx="380880" cy="380880"/>
          </a:xfrm>
        </p:grpSpPr>
        <p:sp>
          <p:nvSpPr>
            <p:cNvPr id="648" name=""/>
            <p:cNvSpPr/>
            <p:nvPr/>
          </p:nvSpPr>
          <p:spPr>
            <a:xfrm>
              <a:off x="4981680" y="337176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057640" y="344772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7640" y="344772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715000" y="4495320"/>
            <a:ext cx="195120" cy="381240"/>
            <a:chOff x="5715000" y="4495320"/>
            <a:chExt cx="195120" cy="381240"/>
          </a:xfrm>
        </p:grpSpPr>
        <p:sp>
          <p:nvSpPr>
            <p:cNvPr id="652" name=""/>
            <p:cNvSpPr/>
            <p:nvPr/>
          </p:nvSpPr>
          <p:spPr>
            <a:xfrm>
              <a:off x="5715000" y="472428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834160" y="449532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V="1">
            <a:off x="3276720" y="2819520"/>
            <a:ext cx="761760" cy="13716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133720" y="4495320"/>
            <a:ext cx="838080" cy="2286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52680" y="4724280"/>
            <a:ext cx="609840" cy="10670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3429000" y="441972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24280" y="2819520"/>
            <a:ext cx="304920" cy="5331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376600" y="3581280"/>
            <a:ext cx="2286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000400" y="3838680"/>
            <a:ext cx="75960" cy="3808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2578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6781320" y="5257800"/>
            <a:ext cx="304920" cy="302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943600" y="4238640"/>
            <a:ext cx="638280" cy="4096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657840" y="2909520"/>
            <a:ext cx="152640" cy="2286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5910120" y="2895480"/>
            <a:ext cx="152640" cy="1526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81480" y="1600200"/>
            <a:ext cx="39625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éjour:  1  Foyer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Prises confo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81480" y="1601640"/>
            <a:ext cx="39625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mbre:  1  Foyer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Prises confo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86160" y="1601640"/>
            <a:ext cx="39625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isine:  2  Foyers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Prises confort + 1 prise 32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772400" y="3962520"/>
            <a:ext cx="380880" cy="380880"/>
            <a:chOff x="7772400" y="3962520"/>
            <a:chExt cx="380880" cy="380880"/>
          </a:xfrm>
        </p:grpSpPr>
        <p:sp>
          <p:nvSpPr>
            <p:cNvPr id="670" name=""/>
            <p:cNvSpPr/>
            <p:nvPr/>
          </p:nvSpPr>
          <p:spPr>
            <a:xfrm>
              <a:off x="7772400" y="396252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8360" y="40384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48360" y="4038480"/>
              <a:ext cx="2282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162920" y="3886200"/>
            <a:ext cx="195120" cy="381240"/>
            <a:chOff x="7162920" y="3886200"/>
            <a:chExt cx="195120" cy="381240"/>
          </a:xfrm>
        </p:grpSpPr>
        <p:sp>
          <p:nvSpPr>
            <p:cNvPr id="674" name=""/>
            <p:cNvSpPr/>
            <p:nvPr/>
          </p:nvSpPr>
          <p:spPr>
            <a:xfrm flipV="1">
              <a:off x="7162920" y="388584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82080" y="403884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7419960" y="3962520"/>
            <a:ext cx="304920" cy="1522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715000" y="3857400"/>
            <a:ext cx="309600" cy="519480"/>
            <a:chOff x="5715000" y="3857400"/>
            <a:chExt cx="309600" cy="519480"/>
          </a:xfrm>
        </p:grpSpPr>
        <p:sp>
          <p:nvSpPr>
            <p:cNvPr id="678" name=""/>
            <p:cNvSpPr/>
            <p:nvPr/>
          </p:nvSpPr>
          <p:spPr>
            <a:xfrm>
              <a:off x="5762880" y="408636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15000" y="42246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20040" y="408636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867640" y="385740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843680" y="5028840"/>
            <a:ext cx="309600" cy="519480"/>
            <a:chOff x="7843680" y="5028840"/>
            <a:chExt cx="309600" cy="519480"/>
          </a:xfrm>
        </p:grpSpPr>
        <p:sp>
          <p:nvSpPr>
            <p:cNvPr id="683" name=""/>
            <p:cNvSpPr/>
            <p:nvPr/>
          </p:nvSpPr>
          <p:spPr>
            <a:xfrm>
              <a:off x="7891560" y="52578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43680" y="53960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48720" y="525780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996320" y="502884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481720" y="5700240"/>
            <a:ext cx="309600" cy="519480"/>
            <a:chOff x="5481720" y="5700240"/>
            <a:chExt cx="309600" cy="519480"/>
          </a:xfrm>
        </p:grpSpPr>
        <p:sp>
          <p:nvSpPr>
            <p:cNvPr id="688" name=""/>
            <p:cNvSpPr/>
            <p:nvPr/>
          </p:nvSpPr>
          <p:spPr>
            <a:xfrm>
              <a:off x="5529600" y="59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1720" y="60674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6760" y="592920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634360" y="570024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7234200" y="5686200"/>
            <a:ext cx="309600" cy="519480"/>
            <a:chOff x="7234200" y="5686200"/>
            <a:chExt cx="309600" cy="519480"/>
          </a:xfrm>
        </p:grpSpPr>
        <p:sp>
          <p:nvSpPr>
            <p:cNvPr id="693" name=""/>
            <p:cNvSpPr/>
            <p:nvPr/>
          </p:nvSpPr>
          <p:spPr>
            <a:xfrm>
              <a:off x="7282080" y="591516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34200" y="60534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39240" y="591516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386840" y="568620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736040" y="4567320"/>
            <a:ext cx="459720" cy="309600"/>
            <a:chOff x="7736040" y="4567320"/>
            <a:chExt cx="459720" cy="309600"/>
          </a:xfrm>
        </p:grpSpPr>
        <p:sp>
          <p:nvSpPr>
            <p:cNvPr id="698" name=""/>
            <p:cNvSpPr/>
            <p:nvPr/>
          </p:nvSpPr>
          <p:spPr>
            <a:xfrm rot="16200000">
              <a:off x="7963920" y="4600800"/>
              <a:ext cx="228600" cy="2282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200000">
              <a:off x="8003880" y="4685040"/>
              <a:ext cx="304560" cy="78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964280" y="4567320"/>
              <a:ext cx="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736040" y="4724640"/>
              <a:ext cx="2282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176600" y="4567320"/>
            <a:ext cx="519480" cy="309600"/>
            <a:chOff x="7176600" y="4567320"/>
            <a:chExt cx="519480" cy="309600"/>
          </a:xfrm>
        </p:grpSpPr>
        <p:sp>
          <p:nvSpPr>
            <p:cNvPr id="703" name=""/>
            <p:cNvSpPr/>
            <p:nvPr/>
          </p:nvSpPr>
          <p:spPr>
            <a:xfrm rot="16200000">
              <a:off x="7405560" y="460044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7467480" y="464832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405560" y="456732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176600" y="47242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490800" y="4572000"/>
            <a:ext cx="519480" cy="309600"/>
            <a:chOff x="6490800" y="4572000"/>
            <a:chExt cx="519480" cy="309600"/>
          </a:xfrm>
        </p:grpSpPr>
        <p:sp>
          <p:nvSpPr>
            <p:cNvPr id="708" name=""/>
            <p:cNvSpPr/>
            <p:nvPr/>
          </p:nvSpPr>
          <p:spPr>
            <a:xfrm rot="16200000">
              <a:off x="6719760" y="46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6200000">
              <a:off x="6781680" y="46530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719760" y="457200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490800" y="472896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019560" y="4572000"/>
            <a:ext cx="519480" cy="309600"/>
            <a:chOff x="6019560" y="4572000"/>
            <a:chExt cx="519480" cy="309600"/>
          </a:xfrm>
        </p:grpSpPr>
        <p:sp>
          <p:nvSpPr>
            <p:cNvPr id="713" name=""/>
            <p:cNvSpPr/>
            <p:nvPr/>
          </p:nvSpPr>
          <p:spPr>
            <a:xfrm rot="16200000">
              <a:off x="6248520" y="46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6310440" y="46530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6248520" y="457200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019560" y="472896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496280" y="2514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Sd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06080" y="4257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uisi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86640" y="55627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m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724280" y="4981680"/>
            <a:ext cx="3548160" cy="1266840"/>
            <a:chOff x="4724280" y="4981680"/>
            <a:chExt cx="3548160" cy="1266840"/>
          </a:xfrm>
        </p:grpSpPr>
        <p:sp>
          <p:nvSpPr>
            <p:cNvPr id="721" name=""/>
            <p:cNvSpPr/>
            <p:nvPr/>
          </p:nvSpPr>
          <p:spPr>
            <a:xfrm>
              <a:off x="4724280" y="6248520"/>
              <a:ext cx="106704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8680" y="4981680"/>
              <a:ext cx="259092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81720" y="6248520"/>
              <a:ext cx="99072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29600" y="5715000"/>
              <a:ext cx="0" cy="53352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638680" y="3809880"/>
            <a:ext cx="2590920" cy="1219320"/>
            <a:chOff x="5638680" y="3809880"/>
            <a:chExt cx="2590920" cy="1219320"/>
          </a:xfrm>
        </p:grpSpPr>
        <p:sp>
          <p:nvSpPr>
            <p:cNvPr id="726" name=""/>
            <p:cNvSpPr/>
            <p:nvPr/>
          </p:nvSpPr>
          <p:spPr>
            <a:xfrm>
              <a:off x="5638680" y="3838680"/>
              <a:ext cx="259092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29600" y="3809880"/>
              <a:ext cx="0" cy="121932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276960" y="2409840"/>
            <a:ext cx="1957320" cy="1447920"/>
            <a:chOff x="6276960" y="2409840"/>
            <a:chExt cx="1957320" cy="1447920"/>
          </a:xfrm>
        </p:grpSpPr>
        <p:sp>
          <p:nvSpPr>
            <p:cNvPr id="729" name=""/>
            <p:cNvSpPr/>
            <p:nvPr/>
          </p:nvSpPr>
          <p:spPr>
            <a:xfrm>
              <a:off x="6276960" y="2438280"/>
              <a:ext cx="195732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10440" y="2438280"/>
              <a:ext cx="0" cy="8384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29600" y="2409840"/>
              <a:ext cx="0" cy="144792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653080" y="2424240"/>
            <a:ext cx="671400" cy="838080"/>
            <a:chOff x="5653080" y="2424240"/>
            <a:chExt cx="671400" cy="838080"/>
          </a:xfrm>
        </p:grpSpPr>
        <p:sp>
          <p:nvSpPr>
            <p:cNvPr id="733" name=""/>
            <p:cNvSpPr/>
            <p:nvPr/>
          </p:nvSpPr>
          <p:spPr>
            <a:xfrm>
              <a:off x="5667480" y="2424240"/>
              <a:ext cx="0" cy="83808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53080" y="2438280"/>
              <a:ext cx="67140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696080" y="2957400"/>
            <a:ext cx="381240" cy="380880"/>
            <a:chOff x="7696080" y="2957400"/>
            <a:chExt cx="381240" cy="380880"/>
          </a:xfrm>
        </p:grpSpPr>
        <p:sp>
          <p:nvSpPr>
            <p:cNvPr id="736" name=""/>
            <p:cNvSpPr/>
            <p:nvPr/>
          </p:nvSpPr>
          <p:spPr>
            <a:xfrm>
              <a:off x="7696080" y="2957400"/>
              <a:ext cx="38124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772040" y="303336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72400" y="303336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629400" y="3352320"/>
            <a:ext cx="195120" cy="381240"/>
            <a:chOff x="6629400" y="3352320"/>
            <a:chExt cx="195120" cy="381240"/>
          </a:xfrm>
        </p:grpSpPr>
        <p:sp>
          <p:nvSpPr>
            <p:cNvPr id="740" name=""/>
            <p:cNvSpPr/>
            <p:nvPr/>
          </p:nvSpPr>
          <p:spPr>
            <a:xfrm>
              <a:off x="6629400" y="3581280"/>
              <a:ext cx="152280" cy="1522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748560" y="3352320"/>
              <a:ext cx="759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 flipV="1">
            <a:off x="6858000" y="3276720"/>
            <a:ext cx="838080" cy="3808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234200" y="2514240"/>
            <a:ext cx="309600" cy="519480"/>
            <a:chOff x="7234200" y="2514240"/>
            <a:chExt cx="309600" cy="519480"/>
          </a:xfrm>
        </p:grpSpPr>
        <p:sp>
          <p:nvSpPr>
            <p:cNvPr id="744" name=""/>
            <p:cNvSpPr/>
            <p:nvPr/>
          </p:nvSpPr>
          <p:spPr>
            <a:xfrm>
              <a:off x="728208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4200" y="28814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39240" y="274320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386840" y="251424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652880" y="3424320"/>
            <a:ext cx="519480" cy="309600"/>
            <a:chOff x="7652880" y="3424320"/>
            <a:chExt cx="519480" cy="309600"/>
          </a:xfrm>
        </p:grpSpPr>
        <p:sp>
          <p:nvSpPr>
            <p:cNvPr id="749" name=""/>
            <p:cNvSpPr/>
            <p:nvPr/>
          </p:nvSpPr>
          <p:spPr>
            <a:xfrm flipH="1" rot="16200000">
              <a:off x="7881480" y="347220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rot="16200000">
              <a:off x="7943400" y="350064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81840" y="342936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52880" y="357696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795920" y="4890600"/>
            <a:ext cx="309600" cy="519480"/>
            <a:chOff x="4795920" y="4890600"/>
            <a:chExt cx="309600" cy="519480"/>
          </a:xfrm>
        </p:grpSpPr>
        <p:sp>
          <p:nvSpPr>
            <p:cNvPr id="754" name=""/>
            <p:cNvSpPr/>
            <p:nvPr/>
          </p:nvSpPr>
          <p:spPr>
            <a:xfrm>
              <a:off x="4843800" y="511956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95920" y="525780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00960" y="511956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48560" y="489060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257800" y="2680920"/>
            <a:ext cx="309600" cy="519480"/>
            <a:chOff x="5257800" y="2680920"/>
            <a:chExt cx="309600" cy="519480"/>
          </a:xfrm>
        </p:grpSpPr>
        <p:sp>
          <p:nvSpPr>
            <p:cNvPr id="759" name=""/>
            <p:cNvSpPr/>
            <p:nvPr/>
          </p:nvSpPr>
          <p:spPr>
            <a:xfrm>
              <a:off x="5305680" y="2909880"/>
              <a:ext cx="228600" cy="2286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7800" y="3048120"/>
              <a:ext cx="304920" cy="1522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62840" y="2909880"/>
              <a:ext cx="304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410440" y="268092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4281480" y="1604880"/>
            <a:ext cx="39625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le d ’eau:  2  Foyers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ou 2 Prises confo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76800" y="1600200"/>
            <a:ext cx="3962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llier:  1  Foyer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8120" y="3809880"/>
            <a:ext cx="36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67080" y="1601640"/>
            <a:ext cx="39625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ée:  1  Foyer lumineux fixe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Prises confo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7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086120" y="762120"/>
            <a:ext cx="68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) Représentation dans l ’espace de la chamb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043000" y="2376360"/>
            <a:ext cx="4891320" cy="3948120"/>
            <a:chOff x="2043000" y="2376360"/>
            <a:chExt cx="4891320" cy="3948120"/>
          </a:xfrm>
        </p:grpSpPr>
        <p:sp>
          <p:nvSpPr>
            <p:cNvPr id="772" name=""/>
            <p:cNvSpPr/>
            <p:nvPr/>
          </p:nvSpPr>
          <p:spPr>
            <a:xfrm>
              <a:off x="2057400" y="3352680"/>
              <a:ext cx="0" cy="1905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57400" y="2384280"/>
              <a:ext cx="1676520" cy="968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257800" y="3451320"/>
              <a:ext cx="1676520" cy="968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19520" y="2376360"/>
              <a:ext cx="3200400" cy="1067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57400" y="3352680"/>
              <a:ext cx="3200400" cy="1067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05520" y="3462480"/>
              <a:ext cx="0" cy="1904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57800" y="4419720"/>
              <a:ext cx="0" cy="1904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257800" y="5356080"/>
              <a:ext cx="1676520" cy="968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57400" y="5257800"/>
              <a:ext cx="3200400" cy="1066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05120" y="4295880"/>
              <a:ext cx="3200400" cy="1066680"/>
            </a:xfrm>
            <a:prstGeom prst="line">
              <a:avLst/>
            </a:prstGeom>
            <a:ln cap="rnd" w="9360">
              <a:solidFill>
                <a:srgbClr val="402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05120" y="2414520"/>
              <a:ext cx="0" cy="1905120"/>
            </a:xfrm>
            <a:prstGeom prst="line">
              <a:avLst/>
            </a:prstGeom>
            <a:ln cap="rnd" w="9360">
              <a:solidFill>
                <a:srgbClr val="402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2043000" y="4295880"/>
              <a:ext cx="1676520" cy="968400"/>
            </a:xfrm>
            <a:prstGeom prst="line">
              <a:avLst/>
            </a:prstGeom>
            <a:ln cap="rnd" w="9360">
              <a:solidFill>
                <a:srgbClr val="402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629080" y="3419280"/>
            <a:ext cx="652320" cy="1519560"/>
            <a:chOff x="2629080" y="3419280"/>
            <a:chExt cx="652320" cy="1519560"/>
          </a:xfrm>
        </p:grpSpPr>
        <p:sp>
          <p:nvSpPr>
            <p:cNvPr id="785" name=""/>
            <p:cNvSpPr/>
            <p:nvPr/>
          </p:nvSpPr>
          <p:spPr>
            <a:xfrm flipV="1">
              <a:off x="2629080" y="3419280"/>
              <a:ext cx="609480" cy="352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29080" y="3753000"/>
              <a:ext cx="0" cy="118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05080" y="3433680"/>
              <a:ext cx="76320" cy="1147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5562720" y="4343400"/>
            <a:ext cx="733320" cy="1218960"/>
            <a:chOff x="5562720" y="4343400"/>
            <a:chExt cx="733320" cy="1218960"/>
          </a:xfrm>
        </p:grpSpPr>
        <p:sp>
          <p:nvSpPr>
            <p:cNvPr id="789" name=""/>
            <p:cNvSpPr/>
            <p:nvPr/>
          </p:nvSpPr>
          <p:spPr>
            <a:xfrm>
              <a:off x="6215040" y="4343400"/>
              <a:ext cx="81000" cy="80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567400" y="4414320"/>
              <a:ext cx="609480" cy="352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581800" y="5133600"/>
              <a:ext cx="609480" cy="352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62720" y="4757760"/>
              <a:ext cx="0" cy="758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00760" y="4557600"/>
              <a:ext cx="0" cy="83196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576760" y="4785840"/>
              <a:ext cx="644760" cy="35244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62720" y="4562280"/>
              <a:ext cx="309600" cy="57168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432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0" y="14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e6fcfe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0120" y="4357440"/>
              <a:ext cx="309600" cy="57168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432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0" y="14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e6fcfe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2720" y="4991040"/>
              <a:ext cx="309600" cy="57132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432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0" y="14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e6fcfe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15160" y="4786200"/>
              <a:ext cx="309600" cy="57132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432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0" y="144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e6fcfe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209680" y="4048200"/>
            <a:ext cx="304920" cy="357120"/>
            <a:chOff x="2209680" y="4048200"/>
            <a:chExt cx="304920" cy="357120"/>
          </a:xfrm>
        </p:grpSpPr>
        <p:sp>
          <p:nvSpPr>
            <p:cNvPr id="800" name=""/>
            <p:cNvSpPr/>
            <p:nvPr/>
          </p:nvSpPr>
          <p:spPr>
            <a:xfrm>
              <a:off x="2209680" y="4048200"/>
              <a:ext cx="304920" cy="35712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33520" y="4275000"/>
              <a:ext cx="50400" cy="5940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60080" y="4126320"/>
              <a:ext cx="50760" cy="5904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12720" y="4126320"/>
              <a:ext cx="50760" cy="5904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20560" y="4114800"/>
              <a:ext cx="101520" cy="178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209680" y="4614840"/>
            <a:ext cx="304920" cy="304920"/>
            <a:chOff x="2209680" y="4614840"/>
            <a:chExt cx="304920" cy="304920"/>
          </a:xfrm>
        </p:grpSpPr>
        <p:sp>
          <p:nvSpPr>
            <p:cNvPr id="806" name=""/>
            <p:cNvSpPr/>
            <p:nvPr/>
          </p:nvSpPr>
          <p:spPr>
            <a:xfrm>
              <a:off x="2209680" y="461484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33520" y="4808520"/>
              <a:ext cx="50760" cy="507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60440" y="468144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3080" y="468144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276880" y="5667480"/>
            <a:ext cx="304920" cy="304560"/>
            <a:chOff x="5276880" y="5667480"/>
            <a:chExt cx="304920" cy="304560"/>
          </a:xfrm>
        </p:grpSpPr>
        <p:sp>
          <p:nvSpPr>
            <p:cNvPr id="811" name=""/>
            <p:cNvSpPr/>
            <p:nvPr/>
          </p:nvSpPr>
          <p:spPr>
            <a:xfrm>
              <a:off x="5276880" y="5667480"/>
              <a:ext cx="304920" cy="3045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00720" y="5860800"/>
              <a:ext cx="50760" cy="507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7640" y="573408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80280" y="573408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357800" y="3629160"/>
            <a:ext cx="304560" cy="304560"/>
            <a:chOff x="4357800" y="3629160"/>
            <a:chExt cx="304560" cy="304560"/>
          </a:xfrm>
        </p:grpSpPr>
        <p:sp>
          <p:nvSpPr>
            <p:cNvPr id="816" name=""/>
            <p:cNvSpPr/>
            <p:nvPr/>
          </p:nvSpPr>
          <p:spPr>
            <a:xfrm>
              <a:off x="4357800" y="362916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4419360" y="3683160"/>
              <a:ext cx="193320" cy="193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420440" y="3691080"/>
              <a:ext cx="193320" cy="193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143240" y="3205080"/>
            <a:ext cx="838440" cy="311400"/>
            <a:chOff x="4143240" y="3205080"/>
            <a:chExt cx="838440" cy="311400"/>
          </a:xfrm>
        </p:grpSpPr>
        <p:sp>
          <p:nvSpPr>
            <p:cNvPr id="820" name=""/>
            <p:cNvSpPr/>
            <p:nvPr/>
          </p:nvSpPr>
          <p:spPr>
            <a:xfrm>
              <a:off x="4143240" y="3285720"/>
              <a:ext cx="712800" cy="223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68520" y="3213000"/>
              <a:ext cx="713160" cy="223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844880" y="3436560"/>
              <a:ext cx="133560" cy="79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54400" y="3205080"/>
              <a:ext cx="133560" cy="79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H="1">
            <a:off x="2362320" y="2895480"/>
            <a:ext cx="76176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335268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62320" y="4405320"/>
            <a:ext cx="0" cy="228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6477120" y="4233960"/>
            <a:ext cx="304560" cy="357120"/>
            <a:chOff x="6477120" y="4233960"/>
            <a:chExt cx="304560" cy="357120"/>
          </a:xfrm>
        </p:grpSpPr>
        <p:sp>
          <p:nvSpPr>
            <p:cNvPr id="828" name=""/>
            <p:cNvSpPr/>
            <p:nvPr/>
          </p:nvSpPr>
          <p:spPr>
            <a:xfrm>
              <a:off x="6477120" y="4233960"/>
              <a:ext cx="304560" cy="35712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00600" y="4460760"/>
              <a:ext cx="50400" cy="5940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27520" y="4312080"/>
              <a:ext cx="50760" cy="5904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679800" y="4312080"/>
              <a:ext cx="50760" cy="5904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6588000" y="4300560"/>
              <a:ext cx="101160" cy="178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477120" y="4800600"/>
            <a:ext cx="304560" cy="304920"/>
            <a:chOff x="6477120" y="4800600"/>
            <a:chExt cx="304560" cy="304920"/>
          </a:xfrm>
        </p:grpSpPr>
        <p:sp>
          <p:nvSpPr>
            <p:cNvPr id="834" name=""/>
            <p:cNvSpPr/>
            <p:nvPr/>
          </p:nvSpPr>
          <p:spPr>
            <a:xfrm>
              <a:off x="6477120" y="4800600"/>
              <a:ext cx="30456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00600" y="4994280"/>
              <a:ext cx="50760" cy="507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527880" y="486720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80160" y="4867200"/>
              <a:ext cx="5076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629400" y="35384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629400" y="4591080"/>
            <a:ext cx="0" cy="228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24080" y="2895480"/>
            <a:ext cx="1101960" cy="381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495680" y="1904760"/>
            <a:ext cx="852480" cy="138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633920" y="2971440"/>
            <a:ext cx="223920" cy="366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4834080" y="3000240"/>
            <a:ext cx="178416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741840" y="3995640"/>
            <a:ext cx="1668240" cy="511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733560" y="3384720"/>
            <a:ext cx="685800" cy="411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96040" y="4495680"/>
            <a:ext cx="0" cy="1181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733920" y="3809880"/>
            <a:ext cx="0" cy="193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767120" y="2286000"/>
            <a:ext cx="414360" cy="457200"/>
            <a:chOff x="4767120" y="2286000"/>
            <a:chExt cx="414360" cy="457200"/>
          </a:xfrm>
        </p:grpSpPr>
        <p:sp>
          <p:nvSpPr>
            <p:cNvPr id="849" name=""/>
            <p:cNvSpPr/>
            <p:nvPr/>
          </p:nvSpPr>
          <p:spPr>
            <a:xfrm>
              <a:off x="4800240" y="2361960"/>
              <a:ext cx="381240" cy="152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00240" y="2514600"/>
              <a:ext cx="38124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00240" y="2590560"/>
              <a:ext cx="381240" cy="152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67120" y="2471760"/>
              <a:ext cx="7596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0240" y="2286000"/>
              <a:ext cx="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72040" y="1828800"/>
            <a:ext cx="414360" cy="457200"/>
            <a:chOff x="5072040" y="1828800"/>
            <a:chExt cx="414360" cy="457200"/>
          </a:xfrm>
        </p:grpSpPr>
        <p:sp>
          <p:nvSpPr>
            <p:cNvPr id="855" name=""/>
            <p:cNvSpPr/>
            <p:nvPr/>
          </p:nvSpPr>
          <p:spPr>
            <a:xfrm>
              <a:off x="5105160" y="1904760"/>
              <a:ext cx="381240" cy="15264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05160" y="2057400"/>
              <a:ext cx="381240" cy="15228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160" y="2133360"/>
              <a:ext cx="381240" cy="15264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72040" y="2014560"/>
              <a:ext cx="75960" cy="7596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05160" y="1828800"/>
              <a:ext cx="0" cy="15228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563080" y="3152880"/>
            <a:ext cx="304200" cy="276120"/>
            <a:chOff x="5563080" y="3152880"/>
            <a:chExt cx="304200" cy="276120"/>
          </a:xfrm>
        </p:grpSpPr>
        <p:sp>
          <p:nvSpPr>
            <p:cNvPr id="861" name=""/>
            <p:cNvSpPr/>
            <p:nvPr/>
          </p:nvSpPr>
          <p:spPr>
            <a:xfrm flipH="1">
              <a:off x="5715360" y="317484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613840" y="3174840"/>
              <a:ext cx="10116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563080" y="317484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5400000">
              <a:off x="5693400" y="3152880"/>
              <a:ext cx="5040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5766120" y="3174840"/>
              <a:ext cx="1011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648680" y="4143240"/>
            <a:ext cx="304200" cy="276120"/>
            <a:chOff x="4648680" y="4143240"/>
            <a:chExt cx="304200" cy="276120"/>
          </a:xfrm>
        </p:grpSpPr>
        <p:sp>
          <p:nvSpPr>
            <p:cNvPr id="867" name=""/>
            <p:cNvSpPr/>
            <p:nvPr/>
          </p:nvSpPr>
          <p:spPr>
            <a:xfrm flipH="1">
              <a:off x="4800960" y="416520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699440" y="4165200"/>
              <a:ext cx="10116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648680" y="416520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5400000">
              <a:off x="4779000" y="4143240"/>
              <a:ext cx="5040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1720" y="4165200"/>
              <a:ext cx="1011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733560" y="3022560"/>
            <a:ext cx="304200" cy="254160"/>
            <a:chOff x="3733560" y="3022560"/>
            <a:chExt cx="304200" cy="254160"/>
          </a:xfrm>
        </p:grpSpPr>
        <p:sp>
          <p:nvSpPr>
            <p:cNvPr id="873" name=""/>
            <p:cNvSpPr/>
            <p:nvPr/>
          </p:nvSpPr>
          <p:spPr>
            <a:xfrm flipH="1">
              <a:off x="3885840" y="3022560"/>
              <a:ext cx="10116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784320" y="3022560"/>
              <a:ext cx="10152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733560" y="3022560"/>
              <a:ext cx="10116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3022560"/>
              <a:ext cx="10116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277080" y="2819520"/>
            <a:ext cx="304200" cy="276120"/>
            <a:chOff x="3277080" y="2819520"/>
            <a:chExt cx="304200" cy="276120"/>
          </a:xfrm>
        </p:grpSpPr>
        <p:sp>
          <p:nvSpPr>
            <p:cNvPr id="878" name=""/>
            <p:cNvSpPr/>
            <p:nvPr/>
          </p:nvSpPr>
          <p:spPr>
            <a:xfrm flipH="1">
              <a:off x="3429360" y="284148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27840" y="2841480"/>
              <a:ext cx="10116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277080" y="2841480"/>
              <a:ext cx="101520" cy="254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5400000">
              <a:off x="3407400" y="2819520"/>
              <a:ext cx="50400" cy="5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480120" y="2841480"/>
              <a:ext cx="1011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510080" y="3400560"/>
            <a:ext cx="0" cy="228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105160" y="2971800"/>
            <a:ext cx="304200" cy="254160"/>
            <a:chOff x="5105160" y="2971800"/>
            <a:chExt cx="304200" cy="254160"/>
          </a:xfrm>
        </p:grpSpPr>
        <p:sp>
          <p:nvSpPr>
            <p:cNvPr id="885" name=""/>
            <p:cNvSpPr/>
            <p:nvPr/>
          </p:nvSpPr>
          <p:spPr>
            <a:xfrm flipH="1">
              <a:off x="5257440" y="2971800"/>
              <a:ext cx="10116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155920" y="2971800"/>
              <a:ext cx="10152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105160" y="2971800"/>
              <a:ext cx="101160" cy="25416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308200" y="2971800"/>
              <a:ext cx="10116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5324040" y="15937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rrivée 230 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32520" y="36576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oîte de cent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37800" y="589104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oîte d ’appareilla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523880" y="4419360"/>
            <a:ext cx="685800" cy="1523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5105160" y="3505320"/>
            <a:ext cx="190476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2286000"/>
            <a:ext cx="22860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 lumiè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00800" y="2286000"/>
            <a:ext cx="22860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 pris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6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7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8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67640" y="511200"/>
            <a:ext cx="45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ableau de répart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05240" y="1892160"/>
            <a:ext cx="533520" cy="477000"/>
            <a:chOff x="4305240" y="1892160"/>
            <a:chExt cx="533520" cy="477000"/>
          </a:xfrm>
        </p:grpSpPr>
        <p:sp>
          <p:nvSpPr>
            <p:cNvPr id="99" name=""/>
            <p:cNvSpPr/>
            <p:nvPr/>
          </p:nvSpPr>
          <p:spPr>
            <a:xfrm>
              <a:off x="4305240" y="2031840"/>
              <a:ext cx="533520" cy="3373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02000"/>
                  </a:solidFill>
                  <a:latin typeface="Times New Roman"/>
                </a:rPr>
                <a:t>W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05240" y="1892160"/>
              <a:ext cx="533520" cy="13968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19720" y="2438280"/>
            <a:ext cx="240120" cy="609840"/>
            <a:chOff x="4419720" y="2438280"/>
            <a:chExt cx="240120" cy="609840"/>
          </a:xfrm>
        </p:grpSpPr>
        <p:sp>
          <p:nvSpPr>
            <p:cNvPr id="102" name=""/>
            <p:cNvSpPr/>
            <p:nvPr/>
          </p:nvSpPr>
          <p:spPr>
            <a:xfrm flipH="1">
              <a:off x="4483080" y="2438280"/>
              <a:ext cx="15192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07560" y="2438280"/>
              <a:ext cx="15228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9720" y="2514600"/>
              <a:ext cx="1522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0" y="2895480"/>
              <a:ext cx="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05120" y="3048120"/>
            <a:ext cx="5257800" cy="304560"/>
            <a:chOff x="1905120" y="3048120"/>
            <a:chExt cx="5257800" cy="304560"/>
          </a:xfrm>
        </p:grpSpPr>
        <p:sp>
          <p:nvSpPr>
            <p:cNvPr id="107" name=""/>
            <p:cNvSpPr/>
            <p:nvPr/>
          </p:nvSpPr>
          <p:spPr>
            <a:xfrm>
              <a:off x="1905120" y="3048120"/>
              <a:ext cx="5257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14880" y="30481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1640" y="30481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489040" y="4952880"/>
            <a:ext cx="393840" cy="457200"/>
            <a:chOff x="2489040" y="4952880"/>
            <a:chExt cx="393840" cy="457200"/>
          </a:xfrm>
        </p:grpSpPr>
        <p:sp>
          <p:nvSpPr>
            <p:cNvPr id="111" name=""/>
            <p:cNvSpPr/>
            <p:nvPr/>
          </p:nvSpPr>
          <p:spPr>
            <a:xfrm>
              <a:off x="2654280" y="49528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2000" y="4952880"/>
              <a:ext cx="304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654280" y="5257440"/>
              <a:ext cx="15228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489040" y="5003280"/>
              <a:ext cx="152640" cy="75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89040" y="5092560"/>
              <a:ext cx="169920" cy="253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8720" y="5028840"/>
              <a:ext cx="169920" cy="254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800600" y="4952880"/>
            <a:ext cx="393840" cy="457200"/>
            <a:chOff x="4800600" y="4952880"/>
            <a:chExt cx="393840" cy="457200"/>
          </a:xfrm>
        </p:grpSpPr>
        <p:sp>
          <p:nvSpPr>
            <p:cNvPr id="118" name=""/>
            <p:cNvSpPr/>
            <p:nvPr/>
          </p:nvSpPr>
          <p:spPr>
            <a:xfrm>
              <a:off x="4965840" y="49528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13560" y="4952880"/>
              <a:ext cx="304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965840" y="5257440"/>
              <a:ext cx="15228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00600" y="5003280"/>
              <a:ext cx="152640" cy="75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5092560"/>
              <a:ext cx="169920" cy="253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40280" y="5028840"/>
              <a:ext cx="169920" cy="254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92360" y="4876920"/>
            <a:ext cx="241560" cy="609120"/>
            <a:chOff x="3492360" y="4876920"/>
            <a:chExt cx="241560" cy="609120"/>
          </a:xfrm>
        </p:grpSpPr>
        <p:sp>
          <p:nvSpPr>
            <p:cNvPr id="125" name=""/>
            <p:cNvSpPr/>
            <p:nvPr/>
          </p:nvSpPr>
          <p:spPr>
            <a:xfrm flipH="1">
              <a:off x="3555720" y="4876920"/>
              <a:ext cx="15228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4876920"/>
              <a:ext cx="15264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360" y="4952880"/>
              <a:ext cx="152640" cy="38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45000" y="5333760"/>
              <a:ext cx="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880240" y="4876920"/>
            <a:ext cx="240120" cy="609120"/>
            <a:chOff x="5880240" y="4876920"/>
            <a:chExt cx="240120" cy="609120"/>
          </a:xfrm>
        </p:grpSpPr>
        <p:sp>
          <p:nvSpPr>
            <p:cNvPr id="130" name=""/>
            <p:cNvSpPr/>
            <p:nvPr/>
          </p:nvSpPr>
          <p:spPr>
            <a:xfrm flipH="1">
              <a:off x="5943600" y="4876920"/>
              <a:ext cx="15192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68080" y="4876920"/>
              <a:ext cx="15228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80240" y="4952880"/>
              <a:ext cx="152280" cy="38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32520" y="5333760"/>
              <a:ext cx="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93960" y="5410080"/>
            <a:ext cx="851040" cy="381240"/>
            <a:chOff x="2793960" y="5410080"/>
            <a:chExt cx="851040" cy="381240"/>
          </a:xfrm>
        </p:grpSpPr>
        <p:sp>
          <p:nvSpPr>
            <p:cNvPr id="135" name=""/>
            <p:cNvSpPr/>
            <p:nvPr/>
          </p:nvSpPr>
          <p:spPr>
            <a:xfrm>
              <a:off x="3645000" y="548640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93960" y="541008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105520" y="5410080"/>
            <a:ext cx="927000" cy="381240"/>
            <a:chOff x="5105520" y="5410080"/>
            <a:chExt cx="927000" cy="381240"/>
          </a:xfrm>
        </p:grpSpPr>
        <p:sp>
          <p:nvSpPr>
            <p:cNvPr id="138" name=""/>
            <p:cNvSpPr/>
            <p:nvPr/>
          </p:nvSpPr>
          <p:spPr>
            <a:xfrm>
              <a:off x="6032520" y="548640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541008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0" y="4114800"/>
            <a:ext cx="1600200" cy="838080"/>
            <a:chOff x="2286000" y="4114800"/>
            <a:chExt cx="1600200" cy="838080"/>
          </a:xfrm>
        </p:grpSpPr>
        <p:sp>
          <p:nvSpPr>
            <p:cNvPr id="141" name=""/>
            <p:cNvSpPr/>
            <p:nvPr/>
          </p:nvSpPr>
          <p:spPr>
            <a:xfrm>
              <a:off x="2743200" y="46483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5000" y="46483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0" y="464832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4114800"/>
              <a:ext cx="0" cy="533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24280" y="4114800"/>
            <a:ext cx="1600200" cy="838080"/>
            <a:chOff x="4724280" y="4114800"/>
            <a:chExt cx="1600200" cy="838080"/>
          </a:xfrm>
        </p:grpSpPr>
        <p:sp>
          <p:nvSpPr>
            <p:cNvPr id="146" name=""/>
            <p:cNvSpPr/>
            <p:nvPr/>
          </p:nvSpPr>
          <p:spPr>
            <a:xfrm>
              <a:off x="5054760" y="46483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2520" y="4648320"/>
              <a:ext cx="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464832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95480" y="1726920"/>
            <a:ext cx="1676520" cy="787320"/>
            <a:chOff x="2895480" y="1726920"/>
            <a:chExt cx="1676520" cy="787320"/>
          </a:xfrm>
        </p:grpSpPr>
        <p:sp>
          <p:nvSpPr>
            <p:cNvPr id="151" name=""/>
            <p:cNvSpPr/>
            <p:nvPr/>
          </p:nvSpPr>
          <p:spPr>
            <a:xfrm flipV="1">
              <a:off x="4572000" y="2361960"/>
              <a:ext cx="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895480" y="1726920"/>
              <a:ext cx="1676520" cy="152280"/>
              <a:chOff x="2895480" y="1726920"/>
              <a:chExt cx="1676520" cy="152280"/>
            </a:xfrm>
          </p:grpSpPr>
          <p:sp>
            <p:nvSpPr>
              <p:cNvPr id="153" name=""/>
              <p:cNvSpPr/>
              <p:nvPr/>
            </p:nvSpPr>
            <p:spPr>
              <a:xfrm>
                <a:off x="2895480" y="1739880"/>
                <a:ext cx="16765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572000" y="1726920"/>
                <a:ext cx="0" cy="152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4952160" y="19810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teur d ’énerg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3920" y="252900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Disjoncteur généra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32400" y="3352680"/>
            <a:ext cx="257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Protection des personn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contre les contacts indirec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56440" y="480060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Sectionnement et protection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des circuits contre le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surcharges et court-circui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9920" y="5743440"/>
            <a:ext cx="204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Vers prise de coura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ou salle d ’eau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9680" y="574344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Vers utilisa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appareils fix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9760" y="43178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arres de réparti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6520" y="27176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Barres de réparti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742840" y="3276720"/>
            <a:ext cx="1557720" cy="838080"/>
            <a:chOff x="2742840" y="3276720"/>
            <a:chExt cx="1557720" cy="838080"/>
          </a:xfrm>
        </p:grpSpPr>
        <p:grpSp>
          <p:nvGrpSpPr>
            <p:cNvPr id="164" name=""/>
            <p:cNvGrpSpPr/>
            <p:nvPr/>
          </p:nvGrpSpPr>
          <p:grpSpPr>
            <a:xfrm>
              <a:off x="2742840" y="3276720"/>
              <a:ext cx="914760" cy="838080"/>
              <a:chOff x="2742840" y="3276720"/>
              <a:chExt cx="914760" cy="838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3276720"/>
                <a:ext cx="685800" cy="838080"/>
                <a:chOff x="2971800" y="3276720"/>
                <a:chExt cx="685800" cy="83808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3162240" y="3276720"/>
                  <a:ext cx="240120" cy="609120"/>
                  <a:chOff x="3162240" y="3276720"/>
                  <a:chExt cx="240120" cy="6091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>
                    <a:off x="3225600" y="327672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250080" y="327672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162240" y="3352680"/>
                    <a:ext cx="152280" cy="38052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314520" y="373356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2971800" y="3886200"/>
                  <a:ext cx="685800" cy="22860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 flipH="1">
                <a:off x="2742840" y="4000680"/>
                <a:ext cx="2286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755800" y="3530880"/>
                <a:ext cx="0" cy="45720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68400" y="3505320"/>
                <a:ext cx="4572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376080" y="32767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</a:t>
              </a: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300 m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51280" y="3200400"/>
            <a:ext cx="1243080" cy="927000"/>
            <a:chOff x="4751280" y="3200400"/>
            <a:chExt cx="1243080" cy="927000"/>
          </a:xfrm>
        </p:grpSpPr>
        <p:grpSp>
          <p:nvGrpSpPr>
            <p:cNvPr id="177" name=""/>
            <p:cNvGrpSpPr/>
            <p:nvPr/>
          </p:nvGrpSpPr>
          <p:grpSpPr>
            <a:xfrm>
              <a:off x="5079600" y="3289320"/>
              <a:ext cx="914760" cy="838080"/>
              <a:chOff x="5079600" y="3289320"/>
              <a:chExt cx="914760" cy="83808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308560" y="3289320"/>
                <a:ext cx="685800" cy="838080"/>
                <a:chOff x="5308560" y="3289320"/>
                <a:chExt cx="685800" cy="83808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5499000" y="3289320"/>
                  <a:ext cx="240120" cy="609120"/>
                  <a:chOff x="5499000" y="3289320"/>
                  <a:chExt cx="240120" cy="6091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>
                    <a:off x="5562360" y="328932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586840" y="328932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499000" y="3365280"/>
                    <a:ext cx="152280" cy="38052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651280" y="374616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5308560" y="3898800"/>
                  <a:ext cx="685800" cy="22860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 flipH="1">
                <a:off x="5079600" y="4013280"/>
                <a:ext cx="2286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092560" y="3543480"/>
                <a:ext cx="0" cy="45720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05160" y="3517920"/>
                <a:ext cx="4572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51280" y="3200400"/>
              <a:ext cx="81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</a:t>
              </a: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30 m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295280" y="16002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rrivée E.D.F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052432" descr=""/>
          <p:cNvPicPr/>
          <p:nvPr/>
        </p:nvPicPr>
        <p:blipFill>
          <a:blip r:embed="rId1"/>
          <a:srcRect l="22209" t="0" r="22209" b="0"/>
          <a:stretch/>
        </p:blipFill>
        <p:spPr>
          <a:xfrm flipH="1">
            <a:off x="7086600" y="2438280"/>
            <a:ext cx="116352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052432" descr=""/>
          <p:cNvPicPr/>
          <p:nvPr/>
        </p:nvPicPr>
        <p:blipFill>
          <a:blip r:embed="rId2"/>
          <a:srcRect l="22209" t="0" r="22209" b="0"/>
          <a:stretch/>
        </p:blipFill>
        <p:spPr>
          <a:xfrm flipH="1">
            <a:off x="2666520" y="2438280"/>
            <a:ext cx="116388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047817" descr=""/>
          <p:cNvPicPr/>
          <p:nvPr/>
        </p:nvPicPr>
        <p:blipFill>
          <a:blip r:embed="rId3"/>
          <a:srcRect l="25854" t="0" r="28900" b="0"/>
          <a:stretch/>
        </p:blipFill>
        <p:spPr>
          <a:xfrm>
            <a:off x="7848720" y="4724280"/>
            <a:ext cx="68580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047817" descr=""/>
          <p:cNvPicPr/>
          <p:nvPr/>
        </p:nvPicPr>
        <p:blipFill>
          <a:blip r:embed="rId4"/>
          <a:srcRect l="25854" t="0" r="28900" b="0"/>
          <a:stretch/>
        </p:blipFill>
        <p:spPr>
          <a:xfrm>
            <a:off x="7162920" y="4724280"/>
            <a:ext cx="6858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047817" descr=""/>
          <p:cNvPicPr/>
          <p:nvPr/>
        </p:nvPicPr>
        <p:blipFill>
          <a:blip r:embed="rId5"/>
          <a:srcRect l="25854" t="0" r="28900" b="0"/>
          <a:stretch/>
        </p:blipFill>
        <p:spPr>
          <a:xfrm>
            <a:off x="6477120" y="4711680"/>
            <a:ext cx="6858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5843520" y="3048120"/>
            <a:ext cx="1243080" cy="927000"/>
            <a:chOff x="5843520" y="3048120"/>
            <a:chExt cx="1243080" cy="927000"/>
          </a:xfrm>
        </p:grpSpPr>
        <p:grpSp>
          <p:nvGrpSpPr>
            <p:cNvPr id="199" name=""/>
            <p:cNvGrpSpPr/>
            <p:nvPr/>
          </p:nvGrpSpPr>
          <p:grpSpPr>
            <a:xfrm>
              <a:off x="6171840" y="3137040"/>
              <a:ext cx="914760" cy="838080"/>
              <a:chOff x="6171840" y="3137040"/>
              <a:chExt cx="914760" cy="8380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6400800" y="3137040"/>
                <a:ext cx="685800" cy="838080"/>
                <a:chOff x="6400800" y="3137040"/>
                <a:chExt cx="685800" cy="83808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6591240" y="3137040"/>
                  <a:ext cx="240120" cy="609120"/>
                  <a:chOff x="6591240" y="3137040"/>
                  <a:chExt cx="240120" cy="6091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>
                    <a:off x="6654600" y="313704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79080" y="313704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91240" y="3213000"/>
                    <a:ext cx="152280" cy="38052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743520" y="35938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6400800" y="3746520"/>
                  <a:ext cx="685800" cy="22860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>
                <a:off x="6171840" y="3861000"/>
                <a:ext cx="2286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184800" y="3391200"/>
                <a:ext cx="0" cy="45720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97400" y="3365640"/>
                <a:ext cx="4572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843520" y="3048120"/>
              <a:ext cx="81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</a:t>
              </a: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30 m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927240" y="3048120"/>
            <a:ext cx="1557720" cy="838080"/>
            <a:chOff x="3927240" y="3048120"/>
            <a:chExt cx="1557720" cy="838080"/>
          </a:xfrm>
        </p:grpSpPr>
        <p:grpSp>
          <p:nvGrpSpPr>
            <p:cNvPr id="212" name=""/>
            <p:cNvGrpSpPr/>
            <p:nvPr/>
          </p:nvGrpSpPr>
          <p:grpSpPr>
            <a:xfrm>
              <a:off x="3927240" y="3048120"/>
              <a:ext cx="914760" cy="838080"/>
              <a:chOff x="3927240" y="3048120"/>
              <a:chExt cx="914760" cy="8380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156200" y="3048120"/>
                <a:ext cx="685800" cy="838080"/>
                <a:chOff x="4156200" y="3048120"/>
                <a:chExt cx="685800" cy="83808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346640" y="3048120"/>
                  <a:ext cx="240120" cy="609120"/>
                  <a:chOff x="4346640" y="3048120"/>
                  <a:chExt cx="240120" cy="6091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>
                    <a:off x="4410000" y="304812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434480" y="304812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346640" y="3124080"/>
                    <a:ext cx="152280" cy="38052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98920" y="350496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2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" name=""/>
                <p:cNvSpPr/>
                <p:nvPr/>
              </p:nvSpPr>
              <p:spPr>
                <a:xfrm>
                  <a:off x="4156200" y="3657600"/>
                  <a:ext cx="685800" cy="22860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 flipH="1">
                <a:off x="3927240" y="3772080"/>
                <a:ext cx="2286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940200" y="3302280"/>
                <a:ext cx="0" cy="45720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52800" y="3276720"/>
                <a:ext cx="457200" cy="0"/>
              </a:xfrm>
              <a:prstGeom prst="line">
                <a:avLst/>
              </a:prstGeom>
              <a:ln cap="rnd" w="9360">
                <a:solidFill>
                  <a:srgbClr val="402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60480" y="30481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</a:t>
              </a: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300 m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25960" y="2362320"/>
            <a:ext cx="4456080" cy="456840"/>
            <a:chOff x="3225960" y="2362320"/>
            <a:chExt cx="4456080" cy="456840"/>
          </a:xfrm>
        </p:grpSpPr>
        <p:sp>
          <p:nvSpPr>
            <p:cNvPr id="225" name=""/>
            <p:cNvSpPr/>
            <p:nvPr/>
          </p:nvSpPr>
          <p:spPr>
            <a:xfrm>
              <a:off x="3225960" y="2362320"/>
              <a:ext cx="4456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658280" y="2374560"/>
              <a:ext cx="0" cy="44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238560" y="2362320"/>
              <a:ext cx="0" cy="44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73320" y="2209680"/>
            <a:ext cx="4456080" cy="622080"/>
            <a:chOff x="3073320" y="2209680"/>
            <a:chExt cx="4456080" cy="622080"/>
          </a:xfrm>
        </p:grpSpPr>
        <p:sp>
          <p:nvSpPr>
            <p:cNvPr id="229" name=""/>
            <p:cNvSpPr/>
            <p:nvPr/>
          </p:nvSpPr>
          <p:spPr>
            <a:xfrm flipV="1">
              <a:off x="7505640" y="222228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085920" y="22096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73320" y="2209680"/>
              <a:ext cx="4456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232" name="047817" descr=""/>
          <p:cNvPicPr/>
          <p:nvPr/>
        </p:nvPicPr>
        <p:blipFill>
          <a:blip r:embed="rId6"/>
          <a:srcRect l="25854" t="0" r="28900" b="0"/>
          <a:stretch/>
        </p:blipFill>
        <p:spPr>
          <a:xfrm>
            <a:off x="4038480" y="4737240"/>
            <a:ext cx="685800" cy="1904760"/>
          </a:xfrm>
          <a:prstGeom prst="rect">
            <a:avLst/>
          </a:prstGeom>
          <a:ln w="0">
            <a:noFill/>
          </a:ln>
        </p:spPr>
      </p:pic>
      <p:pic>
        <p:nvPicPr>
          <p:cNvPr id="233" name="047817" descr=""/>
          <p:cNvPicPr/>
          <p:nvPr/>
        </p:nvPicPr>
        <p:blipFill>
          <a:blip r:embed="rId7"/>
          <a:srcRect l="25854" t="0" r="28900" b="0"/>
          <a:stretch/>
        </p:blipFill>
        <p:spPr>
          <a:xfrm>
            <a:off x="3352680" y="4737240"/>
            <a:ext cx="68580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781680" y="4648320"/>
            <a:ext cx="1422360" cy="457200"/>
            <a:chOff x="6781680" y="4648320"/>
            <a:chExt cx="1422360" cy="457200"/>
          </a:xfrm>
        </p:grpSpPr>
        <p:sp>
          <p:nvSpPr>
            <p:cNvPr id="235" name=""/>
            <p:cNvSpPr/>
            <p:nvPr/>
          </p:nvSpPr>
          <p:spPr>
            <a:xfrm>
              <a:off x="6781680" y="4648320"/>
              <a:ext cx="142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9144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9428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564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959520" y="4723920"/>
            <a:ext cx="1422360" cy="393840"/>
            <a:chOff x="6959520" y="4723920"/>
            <a:chExt cx="1422360" cy="393840"/>
          </a:xfrm>
        </p:grpSpPr>
        <p:sp>
          <p:nvSpPr>
            <p:cNvPr id="240" name=""/>
            <p:cNvSpPr/>
            <p:nvPr/>
          </p:nvSpPr>
          <p:spPr>
            <a:xfrm flipV="1">
              <a:off x="8356320" y="472392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59520" y="4737240"/>
              <a:ext cx="142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70520" y="474948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972120" y="473688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7670880" y="41144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505640" y="41148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073320" y="41148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238560" y="41144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172200" y="685800"/>
            <a:ext cx="240120" cy="609120"/>
            <a:chOff x="6172200" y="685800"/>
            <a:chExt cx="240120" cy="609120"/>
          </a:xfrm>
        </p:grpSpPr>
        <p:sp>
          <p:nvSpPr>
            <p:cNvPr id="249" name=""/>
            <p:cNvSpPr/>
            <p:nvPr/>
          </p:nvSpPr>
          <p:spPr>
            <a:xfrm flipH="1">
              <a:off x="6235560" y="685800"/>
              <a:ext cx="15192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60040" y="685800"/>
              <a:ext cx="15228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72200" y="761760"/>
              <a:ext cx="152280" cy="38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24480" y="1142640"/>
              <a:ext cx="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172200" y="5181480"/>
            <a:ext cx="240120" cy="609840"/>
            <a:chOff x="6172200" y="5181480"/>
            <a:chExt cx="240120" cy="609840"/>
          </a:xfrm>
        </p:grpSpPr>
        <p:sp>
          <p:nvSpPr>
            <p:cNvPr id="254" name=""/>
            <p:cNvSpPr/>
            <p:nvPr/>
          </p:nvSpPr>
          <p:spPr>
            <a:xfrm flipH="1">
              <a:off x="6235560" y="5181480"/>
              <a:ext cx="15192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0040" y="5181480"/>
              <a:ext cx="15228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257800"/>
              <a:ext cx="1522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5638680"/>
              <a:ext cx="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876920" y="5181480"/>
            <a:ext cx="240120" cy="609840"/>
            <a:chOff x="4876920" y="5181480"/>
            <a:chExt cx="240120" cy="609840"/>
          </a:xfrm>
        </p:grpSpPr>
        <p:sp>
          <p:nvSpPr>
            <p:cNvPr id="259" name=""/>
            <p:cNvSpPr/>
            <p:nvPr/>
          </p:nvSpPr>
          <p:spPr>
            <a:xfrm flipH="1">
              <a:off x="4940280" y="5181480"/>
              <a:ext cx="15192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64760" y="5181480"/>
              <a:ext cx="15228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6920" y="5257800"/>
              <a:ext cx="1522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9200" y="5638680"/>
              <a:ext cx="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320" y="838080"/>
            <a:ext cx="2666880" cy="5791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228600"/>
            <a:ext cx="2666880" cy="8380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20" y="304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2000"/>
                </a:solidFill>
                <a:uFillTx/>
                <a:latin typeface="Times New Roman"/>
              </a:rPr>
              <a:t>Tableau de répartition 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00400" y="685800"/>
            <a:ext cx="533520" cy="477000"/>
            <a:chOff x="3200400" y="685800"/>
            <a:chExt cx="533520" cy="477000"/>
          </a:xfrm>
        </p:grpSpPr>
        <p:sp>
          <p:nvSpPr>
            <p:cNvPr id="267" name=""/>
            <p:cNvSpPr/>
            <p:nvPr/>
          </p:nvSpPr>
          <p:spPr>
            <a:xfrm>
              <a:off x="3200400" y="825480"/>
              <a:ext cx="533520" cy="3373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02000"/>
                  </a:solidFill>
                  <a:latin typeface="Times New Roman"/>
                </a:rPr>
                <a:t>W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685800"/>
              <a:ext cx="533520" cy="13968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8"/>
          <a:srcRect l="0" t="0" r="34851" b="0"/>
          <a:stretch/>
        </p:blipFill>
        <p:spPr>
          <a:xfrm>
            <a:off x="3886200" y="0"/>
            <a:ext cx="1371600" cy="208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rcRect l="62361" t="0" r="0" b="0"/>
          <a:stretch/>
        </p:blipFill>
        <p:spPr>
          <a:xfrm>
            <a:off x="5151600" y="0"/>
            <a:ext cx="792000" cy="2087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V="1">
            <a:off x="5486400" y="1905120"/>
            <a:ext cx="0" cy="317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638680" y="1905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352680" y="88560"/>
            <a:ext cx="1016280" cy="291960"/>
            <a:chOff x="3352680" y="88560"/>
            <a:chExt cx="1016280" cy="291960"/>
          </a:xfrm>
        </p:grpSpPr>
        <p:sp>
          <p:nvSpPr>
            <p:cNvPr id="274" name=""/>
            <p:cNvSpPr/>
            <p:nvPr/>
          </p:nvSpPr>
          <p:spPr>
            <a:xfrm flipH="1">
              <a:off x="3371760" y="228600"/>
              <a:ext cx="819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52680" y="88920"/>
              <a:ext cx="101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191120" y="228240"/>
              <a:ext cx="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349880" y="8856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362320" y="-127080"/>
            <a:ext cx="102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083c"/>
                </a:solidFill>
                <a:latin typeface="Times New Roman"/>
              </a:rPr>
              <a:t>Réseau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083c"/>
                </a:solidFill>
                <a:latin typeface="Times New Roman"/>
              </a:rPr>
              <a:t>E.D.F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572000" y="75960"/>
            <a:ext cx="990720" cy="291960"/>
            <a:chOff x="4572000" y="75960"/>
            <a:chExt cx="990720" cy="291960"/>
          </a:xfrm>
        </p:grpSpPr>
        <p:sp>
          <p:nvSpPr>
            <p:cNvPr id="280" name=""/>
            <p:cNvSpPr/>
            <p:nvPr/>
          </p:nvSpPr>
          <p:spPr>
            <a:xfrm>
              <a:off x="4709520" y="21600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572000" y="7632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716720" y="215640"/>
              <a:ext cx="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572000" y="7596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397480" y="215640"/>
              <a:ext cx="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562720" y="7596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839080" y="1905120"/>
            <a:ext cx="0" cy="464796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839080" y="0"/>
            <a:ext cx="0" cy="198108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36600" y="4572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49200" y="2139840"/>
            <a:ext cx="40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90" name="054906" descr=""/>
          <p:cNvPicPr/>
          <p:nvPr/>
        </p:nvPicPr>
        <p:blipFill>
          <a:blip r:embed="rId10"/>
          <a:stretch/>
        </p:blipFill>
        <p:spPr>
          <a:xfrm>
            <a:off x="79200" y="609480"/>
            <a:ext cx="2587680" cy="4800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H="1" flipV="1">
            <a:off x="838080" y="4343400"/>
            <a:ext cx="1828800" cy="838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92" name="047817" descr=""/>
          <p:cNvPicPr/>
          <p:nvPr/>
        </p:nvPicPr>
        <p:blipFill>
          <a:blip r:embed="rId11"/>
          <a:srcRect l="25854" t="0" r="28900" b="0"/>
          <a:stretch/>
        </p:blipFill>
        <p:spPr>
          <a:xfrm>
            <a:off x="2666880" y="4724280"/>
            <a:ext cx="685800" cy="190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>
            <a:off x="914400" y="3352680"/>
            <a:ext cx="175248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85800" y="1187280"/>
            <a:ext cx="3200400" cy="717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971800" y="4648320"/>
            <a:ext cx="1422360" cy="457200"/>
            <a:chOff x="2971800" y="4648320"/>
            <a:chExt cx="1422360" cy="457200"/>
          </a:xfrm>
        </p:grpSpPr>
        <p:sp>
          <p:nvSpPr>
            <p:cNvPr id="296" name=""/>
            <p:cNvSpPr/>
            <p:nvPr/>
          </p:nvSpPr>
          <p:spPr>
            <a:xfrm>
              <a:off x="2971800" y="4648320"/>
              <a:ext cx="142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156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476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95760" y="46483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149640" y="4723920"/>
            <a:ext cx="1422360" cy="393840"/>
            <a:chOff x="3149640" y="4723920"/>
            <a:chExt cx="1422360" cy="393840"/>
          </a:xfrm>
        </p:grpSpPr>
        <p:sp>
          <p:nvSpPr>
            <p:cNvPr id="301" name=""/>
            <p:cNvSpPr/>
            <p:nvPr/>
          </p:nvSpPr>
          <p:spPr>
            <a:xfrm flipV="1">
              <a:off x="4546440" y="472392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49640" y="4737240"/>
              <a:ext cx="142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860640" y="474948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162240" y="4736880"/>
              <a:ext cx="0" cy="36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34851" b="0"/>
          <a:stretch/>
        </p:blipFill>
        <p:spPr>
          <a:xfrm>
            <a:off x="6858000" y="1612800"/>
            <a:ext cx="137160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136880" y="76212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)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Le compteur d ’énerg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1219320" y="16128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495680" y="3048120"/>
            <a:ext cx="1752840" cy="0"/>
          </a:xfrm>
          <a:prstGeom prst="line">
            <a:avLst/>
          </a:prstGeom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048120"/>
            <a:ext cx="152640" cy="0"/>
          </a:xfrm>
          <a:prstGeom prst="line">
            <a:avLst/>
          </a:prstGeom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048120"/>
            <a:ext cx="152640" cy="0"/>
          </a:xfrm>
          <a:prstGeom prst="line">
            <a:avLst/>
          </a:prstGeom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3048120"/>
            <a:ext cx="152640" cy="0"/>
          </a:xfrm>
          <a:prstGeom prst="line">
            <a:avLst/>
          </a:prstGeom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048120"/>
            <a:ext cx="152640" cy="0"/>
          </a:xfrm>
          <a:prstGeom prst="line">
            <a:avLst/>
          </a:prstGeom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87480" y="2438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Evolution actuel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6280" y="367020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2000"/>
                </a:solidFill>
                <a:uFillTx/>
                <a:latin typeface="Times New Roman"/>
              </a:rPr>
              <a:t>Compteur électrodynamiqu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040" y="36702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2000"/>
                </a:solidFill>
                <a:uFillTx/>
                <a:latin typeface="Times New Roman"/>
              </a:rPr>
              <a:t>Compteur numériqu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4880" y="4003560"/>
            <a:ext cx="3520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Mesure de l ’énergie consommé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oîtier supplémentaire pour tarifs autre que base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46880" y="4008600"/>
            <a:ext cx="3520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Mesure de kW.h; I; cos(</a:t>
            </a:r>
            <a:r>
              <a:rPr b="0" lang="fr-FR" sz="1800" spc="-1" strike="noStrike">
                <a:solidFill>
                  <a:srgbClr val="402000"/>
                </a:solidFill>
                <a:latin typeface="Symbol"/>
                <a:ea typeface="Symbol"/>
              </a:rPr>
              <a:t>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)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Compteur partiel, instantané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Un seul appareil multi tarif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Report à distanc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402000"/>
                </a:solidFill>
                <a:latin typeface="Times New Roman"/>
              </a:rPr>
              <a:t>Gestion de la charge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687760" y="68580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)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echnologie des compteurs électrodynamiqu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172200" y="2717640"/>
            <a:ext cx="1676520" cy="1701720"/>
            <a:chOff x="6172200" y="2717640"/>
            <a:chExt cx="1676520" cy="1701720"/>
          </a:xfrm>
        </p:grpSpPr>
        <p:sp>
          <p:nvSpPr>
            <p:cNvPr id="328" name=""/>
            <p:cNvSpPr/>
            <p:nvPr/>
          </p:nvSpPr>
          <p:spPr>
            <a:xfrm>
              <a:off x="6959880" y="3962160"/>
              <a:ext cx="7452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6172200" y="3352680"/>
              <a:ext cx="1676520" cy="609480"/>
              <a:chOff x="6172200" y="3352680"/>
              <a:chExt cx="1676520" cy="609480"/>
            </a:xfrm>
          </p:grpSpPr>
          <p:sp>
            <p:nvSpPr>
              <p:cNvPr id="330" name=""/>
              <p:cNvSpPr/>
              <p:nvPr/>
            </p:nvSpPr>
            <p:spPr>
              <a:xfrm>
                <a:off x="6172200" y="3504960"/>
                <a:ext cx="1676520" cy="457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72200" y="3555720"/>
                <a:ext cx="1673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172200" y="3352680"/>
                <a:ext cx="1676520" cy="457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2200" y="3593880"/>
                <a:ext cx="0" cy="1872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48720" y="3581280"/>
                <a:ext cx="0" cy="1872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959880" y="2717640"/>
              <a:ext cx="7596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172200" y="3352680"/>
            <a:ext cx="1676520" cy="609480"/>
            <a:chOff x="6172200" y="3352680"/>
            <a:chExt cx="1676520" cy="609480"/>
          </a:xfrm>
        </p:grpSpPr>
        <p:sp>
          <p:nvSpPr>
            <p:cNvPr id="337" name=""/>
            <p:cNvSpPr/>
            <p:nvPr/>
          </p:nvSpPr>
          <p:spPr>
            <a:xfrm>
              <a:off x="6172200" y="3504960"/>
              <a:ext cx="167652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3555720"/>
              <a:ext cx="167328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2200" y="3352680"/>
              <a:ext cx="167652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72200" y="3593880"/>
              <a:ext cx="0" cy="18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48720" y="3581280"/>
              <a:ext cx="0" cy="18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959520" y="2717640"/>
            <a:ext cx="763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59520" y="3962520"/>
            <a:ext cx="74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095880" y="3124080"/>
            <a:ext cx="533160" cy="1066320"/>
            <a:chOff x="6095880" y="3124080"/>
            <a:chExt cx="533160" cy="1066320"/>
          </a:xfrm>
        </p:grpSpPr>
        <p:grpSp>
          <p:nvGrpSpPr>
            <p:cNvPr id="345" name=""/>
            <p:cNvGrpSpPr/>
            <p:nvPr/>
          </p:nvGrpSpPr>
          <p:grpSpPr>
            <a:xfrm>
              <a:off x="6095880" y="3809880"/>
              <a:ext cx="533160" cy="380520"/>
              <a:chOff x="6095880" y="3809880"/>
              <a:chExt cx="533160" cy="380520"/>
            </a:xfrm>
          </p:grpSpPr>
          <p:sp>
            <p:nvSpPr>
              <p:cNvPr id="346" name=""/>
              <p:cNvSpPr/>
              <p:nvPr/>
            </p:nvSpPr>
            <p:spPr>
              <a:xfrm>
                <a:off x="6095880" y="3904920"/>
                <a:ext cx="533160" cy="285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95880" y="3936600"/>
                <a:ext cx="532080" cy="142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95880" y="3809880"/>
                <a:ext cx="533160" cy="285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95880" y="3960360"/>
                <a:ext cx="0" cy="1170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29040" y="3952440"/>
                <a:ext cx="0" cy="1170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5880" y="3124080"/>
              <a:ext cx="533160" cy="380520"/>
              <a:chOff x="6095880" y="3124080"/>
              <a:chExt cx="533160" cy="3805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5880" y="3219120"/>
                <a:ext cx="533160" cy="285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95880" y="3250800"/>
                <a:ext cx="532080" cy="142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95880" y="3124080"/>
                <a:ext cx="533160" cy="285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95880" y="3274560"/>
                <a:ext cx="0" cy="1170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29040" y="3266640"/>
                <a:ext cx="0" cy="1170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3113640" y="1676520"/>
            <a:ext cx="510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issance: P = U * I  avec U constant = 230 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 cherche alors à mesurer I 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71080" y="2590920"/>
            <a:ext cx="2370600" cy="459720"/>
            <a:chOff x="1171080" y="2590920"/>
            <a:chExt cx="2370600" cy="459720"/>
          </a:xfrm>
        </p:grpSpPr>
        <p:sp>
          <p:nvSpPr>
            <p:cNvPr id="359" name=""/>
            <p:cNvSpPr/>
            <p:nvPr/>
          </p:nvSpPr>
          <p:spPr>
            <a:xfrm>
              <a:off x="1171080" y="2590920"/>
              <a:ext cx="23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Laplace: F = B</a:t>
              </a:r>
              <a:r>
                <a:rPr b="0" lang="en-US" sz="2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I.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2320" y="266724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720" y="266724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0400" y="266724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109880" y="5334120"/>
            <a:ext cx="7495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e système d ’engrenage qui est entraîné par la rotation du disque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insi que la relation de Laplace sont pris en compte pour le calcul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 la constante C du compteur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 en W.h / T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895320" y="3314880"/>
            <a:ext cx="3664440" cy="642600"/>
            <a:chOff x="895320" y="3314880"/>
            <a:chExt cx="3664440" cy="642600"/>
          </a:xfrm>
        </p:grpSpPr>
        <p:sp>
          <p:nvSpPr>
            <p:cNvPr id="365" name=""/>
            <p:cNvSpPr/>
            <p:nvPr/>
          </p:nvSpPr>
          <p:spPr>
            <a:xfrm>
              <a:off x="895320" y="3314880"/>
              <a:ext cx="366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1) On place un aimant près du disque: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B est alors constant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0720" y="365760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10800" y="3962520"/>
            <a:ext cx="3531960" cy="642600"/>
            <a:chOff x="910800" y="3962520"/>
            <a:chExt cx="3531960" cy="642600"/>
          </a:xfrm>
        </p:grpSpPr>
        <p:sp>
          <p:nvSpPr>
            <p:cNvPr id="368" name=""/>
            <p:cNvSpPr/>
            <p:nvPr/>
          </p:nvSpPr>
          <p:spPr>
            <a:xfrm>
              <a:off x="910800" y="3962520"/>
              <a:ext cx="35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2) On fait circuler un courant I dans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le disque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3920" y="40384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396040" y="3352680"/>
            <a:ext cx="471240" cy="685800"/>
            <a:chOff x="5396040" y="3352680"/>
            <a:chExt cx="471240" cy="685800"/>
          </a:xfrm>
        </p:grpSpPr>
        <p:sp>
          <p:nvSpPr>
            <p:cNvPr id="371" name=""/>
            <p:cNvSpPr/>
            <p:nvPr/>
          </p:nvSpPr>
          <p:spPr>
            <a:xfrm>
              <a:off x="5867280" y="3352680"/>
              <a:ext cx="0" cy="6858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396040" y="3394080"/>
              <a:ext cx="394560" cy="459720"/>
              <a:chOff x="5396040" y="3394080"/>
              <a:chExt cx="394560" cy="45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5396040" y="3394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86040" y="3479760"/>
                <a:ext cx="304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7087680" y="2743200"/>
            <a:ext cx="294120" cy="459720"/>
            <a:chOff x="7087680" y="2743200"/>
            <a:chExt cx="294120" cy="459720"/>
          </a:xfrm>
        </p:grpSpPr>
        <p:sp>
          <p:nvSpPr>
            <p:cNvPr id="376" name=""/>
            <p:cNvSpPr/>
            <p:nvPr/>
          </p:nvSpPr>
          <p:spPr>
            <a:xfrm>
              <a:off x="7087680" y="2743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53200" y="28414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086600" y="274320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477120" y="3581280"/>
            <a:ext cx="4572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3581280"/>
            <a:ext cx="4572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85080" y="35686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228440" y="3316320"/>
            <a:ext cx="247680" cy="379440"/>
            <a:chOff x="7228440" y="3316320"/>
            <a:chExt cx="247680" cy="379440"/>
          </a:xfrm>
        </p:grpSpPr>
        <p:sp>
          <p:nvSpPr>
            <p:cNvPr id="383" name=""/>
            <p:cNvSpPr/>
            <p:nvPr/>
          </p:nvSpPr>
          <p:spPr>
            <a:xfrm>
              <a:off x="7228440" y="33584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75240" y="3316320"/>
              <a:ext cx="168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086600" y="40384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084440" y="4038480"/>
            <a:ext cx="294120" cy="459720"/>
            <a:chOff x="7084440" y="4038480"/>
            <a:chExt cx="294120" cy="459720"/>
          </a:xfrm>
        </p:grpSpPr>
        <p:sp>
          <p:nvSpPr>
            <p:cNvPr id="387" name=""/>
            <p:cNvSpPr/>
            <p:nvPr/>
          </p:nvSpPr>
          <p:spPr>
            <a:xfrm>
              <a:off x="7084440" y="4038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49960" y="413676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010280" y="3886200"/>
            <a:ext cx="1600200" cy="536040"/>
            <a:chOff x="7010280" y="3886200"/>
            <a:chExt cx="1600200" cy="536040"/>
          </a:xfrm>
        </p:grpSpPr>
        <p:sp>
          <p:nvSpPr>
            <p:cNvPr id="390" name=""/>
            <p:cNvSpPr/>
            <p:nvPr/>
          </p:nvSpPr>
          <p:spPr>
            <a:xfrm>
              <a:off x="7010280" y="3886200"/>
              <a:ext cx="1600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648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16480" y="3997440"/>
              <a:ext cx="381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257080" y="4495680"/>
            <a:ext cx="2016720" cy="992880"/>
            <a:chOff x="5257080" y="4495680"/>
            <a:chExt cx="2016720" cy="992880"/>
          </a:xfrm>
        </p:grpSpPr>
        <p:sp>
          <p:nvSpPr>
            <p:cNvPr id="394" name=""/>
            <p:cNvSpPr/>
            <p:nvPr/>
          </p:nvSpPr>
          <p:spPr>
            <a:xfrm flipH="1">
              <a:off x="5651640" y="4800600"/>
              <a:ext cx="3808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32520" y="480060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32520" y="4800600"/>
              <a:ext cx="4572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18600" y="5181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Times New Roman"/>
                </a:rPr>
                <a:t>Champ: Pouce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3360" y="480060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Times New Roman"/>
                </a:rPr>
                <a:t>Force: Index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57080" y="4495680"/>
              <a:ext cx="8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Times New Roman"/>
                </a:rPr>
                <a:t>Courant: 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Times New Roman"/>
                </a:rPr>
                <a:t>Majeur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908280" y="4648320"/>
            <a:ext cx="4303080" cy="642600"/>
            <a:chOff x="908280" y="4648320"/>
            <a:chExt cx="4303080" cy="642600"/>
          </a:xfrm>
        </p:grpSpPr>
        <p:sp>
          <p:nvSpPr>
            <p:cNvPr id="401" name=""/>
            <p:cNvSpPr/>
            <p:nvPr/>
          </p:nvSpPr>
          <p:spPr>
            <a:xfrm>
              <a:off x="908280" y="4648320"/>
              <a:ext cx="430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3) ==&gt; Création d ’une force F ayant le sens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indiqué par la règle de la main droite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95760" y="474336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1017720" y="634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1392120" y="6353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firstslide"/>
          </p:cNvPr>
          <p:cNvSpPr/>
          <p:nvPr/>
        </p:nvSpPr>
        <p:spPr>
          <a:xfrm>
            <a:off x="1752480" y="6343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rcRect l="0" t="0" r="34851" b="0"/>
          <a:stretch/>
        </p:blipFill>
        <p:spPr>
          <a:xfrm>
            <a:off x="990720" y="274680"/>
            <a:ext cx="1371600" cy="2087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941200" y="762120"/>
            <a:ext cx="53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)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echnologie des compteurs numériqu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54040" y="2438280"/>
            <a:ext cx="2517840" cy="3200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939760" y="1523880"/>
            <a:ext cx="47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Helvetica-Bold"/>
              </a:rPr>
              <a:t>1 </a:t>
            </a: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Parties défonçables pour câ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23640" y="1905120"/>
            <a:ext cx="52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Helvetica-Bold"/>
              </a:rPr>
              <a:t>2 </a:t>
            </a: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Bornier puissance sortie (utilisatio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37240" y="22860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Helvetica-Bold"/>
              </a:rPr>
              <a:t>3 </a:t>
            </a: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Bornier puissance entrée (sourc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21840" y="26668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4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Verrou de fixation sur rail symétriqu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93400" y="30481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5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Touche de paramétra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01760" y="34290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Helvetica-Bold"/>
              </a:rPr>
              <a:t>6 </a:t>
            </a: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Verrou plomba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72600" y="380988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7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Cache-bor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1720" y="41911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8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Touche de défil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5720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Helvetica-Bold"/>
              </a:rPr>
              <a:t>9 </a:t>
            </a: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Témoin de comptage (1 impulsion = 1 Wh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33720" y="495288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10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Touche de séle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3080" y="53341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11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Bornes de sort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08800" y="5730840"/>
            <a:ext cx="55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Helvetica-Bold"/>
              </a:rPr>
              <a:t>12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Entrées de sélection de 5 compteu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partie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054883" descr=""/>
          <p:cNvPicPr/>
          <p:nvPr/>
        </p:nvPicPr>
        <p:blipFill>
          <a:blip r:embed="rId1"/>
          <a:srcRect l="31273" t="2637" r="31868" b="5274"/>
          <a:stretch/>
        </p:blipFill>
        <p:spPr>
          <a:xfrm>
            <a:off x="838080" y="228600"/>
            <a:ext cx="1768680" cy="4419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1752840" cy="15778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790000" y="762120"/>
            <a:ext cx="57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)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Le disjoncteur de branche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4114800" cy="3802320"/>
          </a:xfrm>
          <a:prstGeom prst="rect">
            <a:avLst/>
          </a:prstGeom>
          <a:ln w="0">
            <a:noFill/>
          </a:ln>
        </p:spPr>
      </p:pic>
      <p:pic>
        <p:nvPicPr>
          <p:cNvPr id="434" name="054883" descr=""/>
          <p:cNvPicPr/>
          <p:nvPr/>
        </p:nvPicPr>
        <p:blipFill>
          <a:blip r:embed="rId2"/>
          <a:srcRect l="31273" t="2637" r="31868" b="5274"/>
          <a:stretch/>
        </p:blipFill>
        <p:spPr>
          <a:xfrm>
            <a:off x="7939080" y="228600"/>
            <a:ext cx="824040" cy="2057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194480" y="95580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aractéristique disjoncteur de branchemen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79680" y="24382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) Tension nomina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9051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)Nombre de pô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0040" y="2971800"/>
            <a:ext cx="28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)Réglage du couran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inal poss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77160" y="3809880"/>
            <a:ext cx="33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)Sensibilité du dispositif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fférenti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76440" y="4572000"/>
            <a:ext cx="369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5)Sélectivité totale avec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des disjoncteursdifférentiel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en aval de 30mA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76800" y="571500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6)Référence commercia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13120" y="5486400"/>
            <a:ext cx="333000" cy="688320"/>
            <a:chOff x="1113120" y="5486400"/>
            <a:chExt cx="333000" cy="688320"/>
          </a:xfrm>
        </p:grpSpPr>
        <p:sp>
          <p:nvSpPr>
            <p:cNvPr id="444" name=""/>
            <p:cNvSpPr/>
            <p:nvPr/>
          </p:nvSpPr>
          <p:spPr>
            <a:xfrm>
              <a:off x="1266840" y="548640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13120" y="571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860840" y="5486400"/>
            <a:ext cx="333000" cy="688320"/>
            <a:chOff x="1860840" y="5486400"/>
            <a:chExt cx="333000" cy="688320"/>
          </a:xfrm>
        </p:grpSpPr>
        <p:sp>
          <p:nvSpPr>
            <p:cNvPr id="447" name=""/>
            <p:cNvSpPr/>
            <p:nvPr/>
          </p:nvSpPr>
          <p:spPr>
            <a:xfrm>
              <a:off x="2014560" y="548640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60840" y="571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745000" y="5867280"/>
            <a:ext cx="333000" cy="688320"/>
            <a:chOff x="2745000" y="5867280"/>
            <a:chExt cx="333000" cy="688320"/>
          </a:xfrm>
        </p:grpSpPr>
        <p:sp>
          <p:nvSpPr>
            <p:cNvPr id="450" name=""/>
            <p:cNvSpPr/>
            <p:nvPr/>
          </p:nvSpPr>
          <p:spPr>
            <a:xfrm>
              <a:off x="2898720" y="586728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5000" y="609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780000" y="5867280"/>
            <a:ext cx="333000" cy="688320"/>
            <a:chOff x="3780000" y="5867280"/>
            <a:chExt cx="333000" cy="688320"/>
          </a:xfrm>
        </p:grpSpPr>
        <p:sp>
          <p:nvSpPr>
            <p:cNvPr id="453" name=""/>
            <p:cNvSpPr/>
            <p:nvPr/>
          </p:nvSpPr>
          <p:spPr>
            <a:xfrm>
              <a:off x="3933720" y="586728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80000" y="609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037040" y="5867280"/>
            <a:ext cx="333000" cy="688320"/>
            <a:chOff x="4037040" y="5867280"/>
            <a:chExt cx="333000" cy="688320"/>
          </a:xfrm>
        </p:grpSpPr>
        <p:sp>
          <p:nvSpPr>
            <p:cNvPr id="456" name=""/>
            <p:cNvSpPr/>
            <p:nvPr/>
          </p:nvSpPr>
          <p:spPr>
            <a:xfrm>
              <a:off x="4190760" y="586728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37040" y="609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632480" y="5867280"/>
            <a:ext cx="333000" cy="688320"/>
            <a:chOff x="4632480" y="5867280"/>
            <a:chExt cx="333000" cy="688320"/>
          </a:xfrm>
        </p:grpSpPr>
        <p:sp>
          <p:nvSpPr>
            <p:cNvPr id="459" name=""/>
            <p:cNvSpPr/>
            <p:nvPr/>
          </p:nvSpPr>
          <p:spPr>
            <a:xfrm>
              <a:off x="4786200" y="586728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32480" y="609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1017720" y="625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1392120" y="6248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1752480" y="625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052432" descr=""/>
          <p:cNvPicPr/>
          <p:nvPr/>
        </p:nvPicPr>
        <p:blipFill>
          <a:blip r:embed="rId1"/>
          <a:srcRect l="22209" t="0" r="22209" b="0"/>
          <a:stretch/>
        </p:blipFill>
        <p:spPr>
          <a:xfrm flipH="1">
            <a:off x="4431960" y="228600"/>
            <a:ext cx="1816200" cy="2971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178000" y="3886200"/>
            <a:ext cx="1631880" cy="17431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V="1">
            <a:off x="1219320" y="1447920"/>
            <a:ext cx="4343400" cy="312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57680" y="62136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Retour tableau répar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08960" y="62532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ornes Phase 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eutre amo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42080" y="358128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ornes Phase 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eutre av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82080" y="217476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Lien v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Marquage détaillé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5410080" y="1828440"/>
            <a:ext cx="9907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5181120" y="837720"/>
            <a:ext cx="175284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029200" y="3047760"/>
            <a:ext cx="0" cy="533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95320" y="4495680"/>
            <a:ext cx="176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P Tes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 l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tectio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fférentiel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1360" y="380880"/>
            <a:ext cx="41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C)Disjoncteur Différenti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101772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1392120" y="6262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firstslide"/>
          </p:cNvPr>
          <p:cNvSpPr/>
          <p:nvPr/>
        </p:nvSpPr>
        <p:spPr>
          <a:xfrm>
            <a:off x="1752480" y="6269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7:25:28Z</dcterms:created>
  <dc:creator>CANAT</dc:creator>
  <dc:description/>
  <dc:language>en-US</dc:language>
  <cp:lastModifiedBy>CANAT</cp:lastModifiedBy>
  <dcterms:modified xsi:type="dcterms:W3CDTF">2003-03-28T11:09:34Z</dcterms:modified>
  <cp:revision>111</cp:revision>
  <dc:subject/>
  <dc:title>Aucun titre de diapositive</dc:title>
</cp:coreProperties>
</file>