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7CD-B710-46FC-97B0-3CF1D1A5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B6A-F5E1-4024-B45D-277A73DC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5FB-5B7E-4C52-B4A3-DF53FB04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547-4494-417A-9E70-5E497F80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326-F42F-4254-BCEF-322DE27B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524-C8B7-46E5-9F07-CF81BA49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261-EB77-453C-B0C3-C4D12CF2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E9C-B0D4-4FE2-82DF-36DD6E8C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D71-0F96-4B7C-8194-55490CDD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CB3-1431-4025-980F-2C5CD306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E32-5247-4787-B6C3-2E936EA2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663-C338-45C2-8D3E-DDB34B05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AD75-598F-4A21-92A5-1CF3118EE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image" Target="../media/image6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4880" y="104760"/>
            <a:ext cx="52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Les modules programm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0760" y="1771560"/>
            <a:ext cx="44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66"/>
                </a:solidFill>
                <a:latin typeface="Times New Roman"/>
              </a:rPr>
              <a:t>Domaines d ’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1840" y="2590920"/>
            <a:ext cx="35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66"/>
                </a:solidFill>
                <a:latin typeface="Times New Roman"/>
              </a:rPr>
              <a:t>L ’offre industri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3280" y="3448080"/>
            <a:ext cx="30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cc99"/>
                </a:solidFill>
                <a:latin typeface="Times New Roman"/>
              </a:rPr>
              <a:t>Le module Zé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120" y="4057560"/>
            <a:ext cx="29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cc99"/>
                </a:solidFill>
                <a:latin typeface="Times New Roman"/>
              </a:rPr>
              <a:t>Le module Ea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648320"/>
            <a:ext cx="43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cc99"/>
                </a:solidFill>
                <a:latin typeface="Times New Roman"/>
              </a:rPr>
              <a:t>Le module Millénium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2280" y="5440320"/>
            <a:ext cx="80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66"/>
                </a:solidFill>
                <a:latin typeface="Times New Roman"/>
              </a:rPr>
              <a:t>Tableau comparatif des performances et p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3505320"/>
            <a:ext cx="685800" cy="1752480"/>
          </a:xfrm>
          <a:custGeom>
            <a:avLst/>
            <a:gdLst>
              <a:gd name="textAreaLeft" fmla="*/ 0 w 685800"/>
              <a:gd name="textAreaRight" fmla="*/ 247680 w 6858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69840" y="4191120"/>
            <a:ext cx="36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Times New Roman"/>
              </a:rPr>
              <a:t>Descriptif, gamme, program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228600" y="19051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26" h="21600">
                <a:moveTo>
                  <a:pt x="5286" y="3985"/>
                </a:moveTo>
                <a:lnTo>
                  <a:pt x="12284" y="3985"/>
                </a:lnTo>
                <a:lnTo>
                  <a:pt x="16340" y="7484"/>
                </a:lnTo>
                <a:lnTo>
                  <a:pt x="16340" y="17615"/>
                </a:lnTo>
                <a:lnTo>
                  <a:pt x="5286" y="17615"/>
                </a:lnTo>
                <a:close/>
              </a:path>
              <a:path fill="darken" w="21626" h="21600">
                <a:moveTo>
                  <a:pt x="12284" y="3985"/>
                </a:moveTo>
                <a:lnTo>
                  <a:pt x="16340" y="7484"/>
                </a:lnTo>
                <a:lnTo>
                  <a:pt x="12284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7432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581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911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26" h="21600">
                <a:moveTo>
                  <a:pt x="5286" y="3985"/>
                </a:moveTo>
                <a:lnTo>
                  <a:pt x="12284" y="3985"/>
                </a:lnTo>
                <a:lnTo>
                  <a:pt x="16340" y="7484"/>
                </a:lnTo>
                <a:lnTo>
                  <a:pt x="16340" y="17615"/>
                </a:lnTo>
                <a:lnTo>
                  <a:pt x="5286" y="17615"/>
                </a:lnTo>
                <a:close/>
              </a:path>
              <a:path fill="darken" w="21626" h="21600">
                <a:moveTo>
                  <a:pt x="12284" y="3985"/>
                </a:moveTo>
                <a:lnTo>
                  <a:pt x="16340" y="7484"/>
                </a:lnTo>
                <a:lnTo>
                  <a:pt x="12284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800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5627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26" h="21600">
                <a:moveTo>
                  <a:pt x="5286" y="3985"/>
                </a:moveTo>
                <a:lnTo>
                  <a:pt x="12284" y="3985"/>
                </a:lnTo>
                <a:lnTo>
                  <a:pt x="16340" y="7484"/>
                </a:lnTo>
                <a:lnTo>
                  <a:pt x="16340" y="17615"/>
                </a:lnTo>
                <a:lnTo>
                  <a:pt x="5286" y="17615"/>
                </a:lnTo>
                <a:close/>
              </a:path>
              <a:path fill="darken" w="21626" h="21600">
                <a:moveTo>
                  <a:pt x="12284" y="3985"/>
                </a:moveTo>
                <a:lnTo>
                  <a:pt x="16340" y="7484"/>
                </a:lnTo>
                <a:lnTo>
                  <a:pt x="12284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zélio" descr=""/>
          <p:cNvPicPr/>
          <p:nvPr/>
        </p:nvPicPr>
        <p:blipFill>
          <a:blip r:embed="rId2"/>
          <a:srcRect l="12498" t="8325" r="8325" b="8325"/>
          <a:stretch/>
        </p:blipFill>
        <p:spPr>
          <a:xfrm>
            <a:off x="457200" y="228600"/>
            <a:ext cx="665280" cy="700200"/>
          </a:xfrm>
          <a:prstGeom prst="rect">
            <a:avLst/>
          </a:prstGeom>
          <a:ln w="0">
            <a:noFill/>
          </a:ln>
        </p:spPr>
      </p:pic>
      <p:pic>
        <p:nvPicPr>
          <p:cNvPr id="57" name="zen" descr=""/>
          <p:cNvPicPr/>
          <p:nvPr/>
        </p:nvPicPr>
        <p:blipFill>
          <a:blip r:embed="rId3"/>
          <a:stretch/>
        </p:blipFill>
        <p:spPr>
          <a:xfrm>
            <a:off x="8153280" y="228600"/>
            <a:ext cx="677880" cy="803160"/>
          </a:xfrm>
          <a:prstGeom prst="rect">
            <a:avLst/>
          </a:prstGeom>
          <a:ln w="0">
            <a:noFill/>
          </a:ln>
        </p:spPr>
      </p:pic>
      <p:pic>
        <p:nvPicPr>
          <p:cNvPr id="58" name="logo_family_e" descr=""/>
          <p:cNvPicPr/>
          <p:nvPr/>
        </p:nvPicPr>
        <p:blipFill>
          <a:blip r:embed="rId4"/>
          <a:srcRect l="0" t="5291" r="63905" b="0"/>
          <a:stretch/>
        </p:blipFill>
        <p:spPr>
          <a:xfrm>
            <a:off x="8153280" y="2438280"/>
            <a:ext cx="619200" cy="752760"/>
          </a:xfrm>
          <a:prstGeom prst="rect">
            <a:avLst/>
          </a:prstGeom>
          <a:ln w="0">
            <a:noFill/>
          </a:ln>
        </p:spPr>
      </p:pic>
      <p:pic>
        <p:nvPicPr>
          <p:cNvPr id="59" name="easy" descr=""/>
          <p:cNvPicPr/>
          <p:nvPr/>
        </p:nvPicPr>
        <p:blipFill>
          <a:blip r:embed="rId5"/>
          <a:stretch/>
        </p:blipFill>
        <p:spPr>
          <a:xfrm>
            <a:off x="8153280" y="4800600"/>
            <a:ext cx="58428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millenium2" descr=""/>
          <p:cNvPicPr/>
          <p:nvPr/>
        </p:nvPicPr>
        <p:blipFill>
          <a:blip r:embed="rId6"/>
          <a:stretch/>
        </p:blipFill>
        <p:spPr>
          <a:xfrm>
            <a:off x="4114800" y="6095880"/>
            <a:ext cx="646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35080" y="19080"/>
            <a:ext cx="66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Langage de programmation du Eas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4400" y="3657600"/>
            <a:ext cx="62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Trois modes de programmation sont possi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75640" y="407988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1) Langage appar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79960" y="464832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2) Langage CEI/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82120" y="52102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3) Langage ANSI/CSA ou 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00080" y="657360"/>
            <a:ext cx="4319640" cy="2411280"/>
            <a:chOff x="100080" y="657360"/>
            <a:chExt cx="4319640" cy="241128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rcRect l="25782" t="10420" r="16405" b="47920"/>
            <a:stretch/>
          </p:blipFill>
          <p:spPr>
            <a:xfrm>
              <a:off x="152280" y="762120"/>
              <a:ext cx="4267440" cy="23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00080" y="657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17360" y="3124080"/>
            <a:ext cx="2473560" cy="3581640"/>
            <a:chOff x="117360" y="3124080"/>
            <a:chExt cx="2473560" cy="3581640"/>
          </a:xfrm>
        </p:grpSpPr>
        <p:pic>
          <p:nvPicPr>
            <p:cNvPr id="178" name="" descr=""/>
            <p:cNvPicPr/>
            <p:nvPr/>
          </p:nvPicPr>
          <p:blipFill>
            <a:blip r:embed="rId3"/>
            <a:srcRect l="25782" t="10420" r="44535" b="32293"/>
            <a:stretch/>
          </p:blipFill>
          <p:spPr>
            <a:xfrm>
              <a:off x="117360" y="3124080"/>
              <a:ext cx="2473560" cy="35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0574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648320" y="728640"/>
            <a:ext cx="4343400" cy="2319480"/>
            <a:chOff x="4648320" y="728640"/>
            <a:chExt cx="4343400" cy="2319480"/>
          </a:xfrm>
        </p:grpSpPr>
        <p:pic>
          <p:nvPicPr>
            <p:cNvPr id="181" name="" descr=""/>
            <p:cNvPicPr/>
            <p:nvPr/>
          </p:nvPicPr>
          <p:blipFill>
            <a:blip r:embed="rId4"/>
            <a:srcRect l="25782" t="10420" r="17188" b="48959"/>
            <a:stretch/>
          </p:blipFill>
          <p:spPr>
            <a:xfrm>
              <a:off x="4648320" y="728640"/>
              <a:ext cx="434340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70572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86868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millenium2" descr=""/>
          <p:cNvPicPr/>
          <p:nvPr/>
        </p:nvPicPr>
        <p:blipFill>
          <a:blip r:embed="rId2"/>
          <a:srcRect l="0" t="1693" r="1307" b="1089"/>
          <a:stretch/>
        </p:blipFill>
        <p:spPr>
          <a:xfrm>
            <a:off x="-152280" y="1752480"/>
            <a:ext cx="5105160" cy="3880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00240" y="19080"/>
            <a:ext cx="66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Module programmable Millénium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8571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Alimentation du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(24 VDC ou VAC ou 230 V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23000" y="1905120"/>
            <a:ext cx="421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8 ou 12 Entrées TOR (24 VD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ou VAC ou 230 V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8840" y="4206960"/>
            <a:ext cx="335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6 touches utilis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comme des entrées 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47120" y="609588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4 ou 8 sorties rel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39560" y="5029200"/>
            <a:ext cx="42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Afficheur 4 lignes 12 caract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(existe sans affiche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14360" y="274320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4 ou 8 entrées 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990720" y="1219320"/>
            <a:ext cx="403848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4114800" y="2438280"/>
            <a:ext cx="83808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1447920" y="4190760"/>
            <a:ext cx="358128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679840" y="2133720"/>
            <a:ext cx="2273040" cy="152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047760" y="3962160"/>
            <a:ext cx="1981080" cy="609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752480" y="4572000"/>
            <a:ext cx="3276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133360" y="5333760"/>
            <a:ext cx="2895480" cy="990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47120" y="320040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Extension contigue: 4E/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09680" y="373392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Extension locale: 4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862160" y="3429000"/>
            <a:ext cx="1666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419360" y="396252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86868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rcRect l="41408" t="32293" r="25782" b="27086"/>
          <a:stretch/>
        </p:blipFill>
        <p:spPr>
          <a:xfrm>
            <a:off x="1143000" y="631800"/>
            <a:ext cx="6705720" cy="6226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663280" y="19080"/>
            <a:ext cx="402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Gamme Millénium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6868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rcRect l="1562" t="31250" r="2344" b="12502"/>
          <a:stretch/>
        </p:blipFill>
        <p:spPr>
          <a:xfrm>
            <a:off x="152280" y="2825640"/>
            <a:ext cx="8839440" cy="3880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79320" y="19080"/>
            <a:ext cx="801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Langage de programmation du millénium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2680" y="72720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Le logiciel de programmation incorpore les langages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FDB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et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SFC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rcRect l="36720" t="40626" r="57034" b="50002"/>
          <a:stretch/>
        </p:blipFill>
        <p:spPr>
          <a:xfrm>
            <a:off x="380880" y="114300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rcRect l="35937" t="55210" r="58596" b="33337"/>
          <a:stretch/>
        </p:blipFill>
        <p:spPr>
          <a:xfrm>
            <a:off x="380880" y="1905120"/>
            <a:ext cx="533520" cy="838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191600" y="126036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ape et transition: réalisation aisée de gracf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2120" y="2133720"/>
            <a:ext cx="62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locs FDB: Bloc fonctionnels intuitifs prédéfin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9920" y="6172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Les entr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3080" y="617220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Les so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94760" y="61722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Le grafc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685800" y="4876920"/>
            <a:ext cx="457200" cy="129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657600" y="5715000"/>
            <a:ext cx="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315200" y="5409720"/>
            <a:ext cx="838080" cy="838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86868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65560" y="2025720"/>
            <a:ext cx="237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 u="sng">
                <a:solidFill>
                  <a:srgbClr val="ff0000"/>
                </a:solidFill>
                <a:uFillTx/>
                <a:latin typeface="Times New Roman"/>
              </a:rPr>
              <a:t>Bilan</a:t>
            </a:r>
            <a:r>
              <a:rPr b="1" lang="fr-FR" sz="6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3960" y="3824280"/>
            <a:ext cx="534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33cc"/>
                </a:solidFill>
                <a:latin typeface="Times New Roman"/>
              </a:rPr>
              <a:t>Tableau comparat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86868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0" y="685800"/>
            <a:ext cx="9144000" cy="6095880"/>
            <a:chOff x="0" y="685800"/>
            <a:chExt cx="9144000" cy="6095880"/>
          </a:xfrm>
        </p:grpSpPr>
        <p:pic>
          <p:nvPicPr>
            <p:cNvPr id="235" name="zélio" descr=""/>
            <p:cNvPicPr/>
            <p:nvPr/>
          </p:nvPicPr>
          <p:blipFill>
            <a:blip r:embed="rId2"/>
            <a:srcRect l="12596" t="8266" r="8266" b="8266"/>
            <a:stretch/>
          </p:blipFill>
          <p:spPr>
            <a:xfrm>
              <a:off x="1676520" y="838080"/>
              <a:ext cx="102528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logo_family_e" descr=""/>
            <p:cNvPicPr/>
            <p:nvPr/>
          </p:nvPicPr>
          <p:blipFill>
            <a:blip r:embed="rId3"/>
            <a:srcRect l="0" t="5291" r="64069" b="0"/>
            <a:stretch/>
          </p:blipFill>
          <p:spPr>
            <a:xfrm>
              <a:off x="4597560" y="838080"/>
              <a:ext cx="88884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easy" descr=""/>
            <p:cNvPicPr/>
            <p:nvPr/>
          </p:nvPicPr>
          <p:blipFill>
            <a:blip r:embed="rId4"/>
            <a:stretch/>
          </p:blipFill>
          <p:spPr>
            <a:xfrm>
              <a:off x="6093000" y="838080"/>
              <a:ext cx="91728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zen" descr=""/>
            <p:cNvPicPr/>
            <p:nvPr/>
          </p:nvPicPr>
          <p:blipFill>
            <a:blip r:embed="rId5"/>
            <a:stretch/>
          </p:blipFill>
          <p:spPr>
            <a:xfrm>
              <a:off x="3127320" y="838080"/>
              <a:ext cx="91116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millenium2" descr=""/>
            <p:cNvPicPr/>
            <p:nvPr/>
          </p:nvPicPr>
          <p:blipFill>
            <a:blip r:embed="rId6"/>
            <a:stretch/>
          </p:blipFill>
          <p:spPr>
            <a:xfrm>
              <a:off x="7693200" y="838080"/>
              <a:ext cx="917280" cy="10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0" y="198108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71600" y="685800"/>
              <a:ext cx="0" cy="609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0" y="23619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28191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32763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0195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37335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41907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46479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51051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55623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64767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85800"/>
              <a:ext cx="0" cy="609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43400" y="685800"/>
              <a:ext cx="0" cy="609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1320" y="685800"/>
              <a:ext cx="0" cy="609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38880" y="685800"/>
              <a:ext cx="0" cy="609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71600" y="685800"/>
              <a:ext cx="777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20" y="1981080"/>
            <a:ext cx="8943840" cy="416520"/>
            <a:chOff x="720" y="1981080"/>
            <a:chExt cx="8943840" cy="416520"/>
          </a:xfrm>
        </p:grpSpPr>
        <p:sp>
          <p:nvSpPr>
            <p:cNvPr id="258" name=""/>
            <p:cNvSpPr/>
            <p:nvPr/>
          </p:nvSpPr>
          <p:spPr>
            <a:xfrm>
              <a:off x="720" y="19810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N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89920" y="199872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imes New Roman"/>
                </a:rPr>
                <a:t>Zél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44320" y="19810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imes New Roman"/>
                </a:rPr>
                <a:t>Z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24280" y="198108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imes New Roman"/>
                </a:rPr>
                <a:t>Log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15760" y="19810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imes New Roman"/>
                </a:rPr>
                <a:t>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56320" y="1981080"/>
              <a:ext cx="148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imes New Roman"/>
                </a:rPr>
                <a:t>Millénium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0" y="2400480"/>
            <a:ext cx="8638920" cy="416160"/>
            <a:chOff x="0" y="2400480"/>
            <a:chExt cx="8638920" cy="416160"/>
          </a:xfrm>
        </p:grpSpPr>
        <p:sp>
          <p:nvSpPr>
            <p:cNvPr id="265" name=""/>
            <p:cNvSpPr/>
            <p:nvPr/>
          </p:nvSpPr>
          <p:spPr>
            <a:xfrm>
              <a:off x="0" y="240048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Mar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23160" y="241776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Schnei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52160" y="2400480"/>
              <a:ext cx="90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Omr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0" y="240048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Sieme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34320" y="240048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Moe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52160" y="240048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Crouz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143720" y="41400"/>
            <a:ext cx="69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Caractéristiques Max des modules programm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-720" y="6459480"/>
            <a:ext cx="9064440" cy="351720"/>
            <a:chOff x="-720" y="6459480"/>
            <a:chExt cx="9064440" cy="351720"/>
          </a:xfrm>
        </p:grpSpPr>
        <p:sp>
          <p:nvSpPr>
            <p:cNvPr id="273" name=""/>
            <p:cNvSpPr/>
            <p:nvPr/>
          </p:nvSpPr>
          <p:spPr>
            <a:xfrm>
              <a:off x="-720" y="64771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Logici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38720" y="647388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Zélio so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2640" y="6488280"/>
              <a:ext cx="154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400" spc="-1" strike="noStrike">
                  <a:solidFill>
                    <a:srgbClr val="cc0066"/>
                  </a:solidFill>
                  <a:latin typeface="Times New Roman"/>
                </a:rPr>
                <a:t>Zen Support So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4920" y="648504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cc0066"/>
                  </a:solidFill>
                  <a:latin typeface="Times New Roman"/>
                </a:rPr>
                <a:t>Logo Soft Comf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95160" y="6459480"/>
              <a:ext cx="96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Easy so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49320" y="6459480"/>
              <a:ext cx="18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Crouzet Logic So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915400" y="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firstslide"/>
          </p:cNvPr>
          <p:cNvSpPr/>
          <p:nvPr/>
        </p:nvSpPr>
        <p:spPr>
          <a:xfrm>
            <a:off x="0" y="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42560" y="3719520"/>
            <a:ext cx="8314200" cy="520200"/>
            <a:chOff x="142560" y="3719520"/>
            <a:chExt cx="8314200" cy="520200"/>
          </a:xfrm>
        </p:grpSpPr>
        <p:sp>
          <p:nvSpPr>
            <p:cNvPr id="283" name=""/>
            <p:cNvSpPr/>
            <p:nvPr/>
          </p:nvSpPr>
          <p:spPr>
            <a:xfrm>
              <a:off x="142560" y="3719520"/>
              <a:ext cx="104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Nb entré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TOR 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31760" y="379584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2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21520" y="379584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1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49960" y="379584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1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53120" y="379584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6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21120" y="379584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1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52640" y="4164120"/>
            <a:ext cx="8267400" cy="520200"/>
            <a:chOff x="152640" y="4164120"/>
            <a:chExt cx="8267400" cy="520200"/>
          </a:xfrm>
        </p:grpSpPr>
        <p:sp>
          <p:nvSpPr>
            <p:cNvPr id="290" name=""/>
            <p:cNvSpPr/>
            <p:nvPr/>
          </p:nvSpPr>
          <p:spPr>
            <a:xfrm>
              <a:off x="1978200" y="423540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8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2640" y="4164120"/>
              <a:ext cx="994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Nb sorti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TOR 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7040" y="423540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8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15120" y="423540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8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67160" y="423540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78720" y="423540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8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85320" y="3214800"/>
            <a:ext cx="8913240" cy="580680"/>
            <a:chOff x="85320" y="3214800"/>
            <a:chExt cx="8913240" cy="580680"/>
          </a:xfrm>
        </p:grpSpPr>
        <p:sp>
          <p:nvSpPr>
            <p:cNvPr id="297" name=""/>
            <p:cNvSpPr/>
            <p:nvPr/>
          </p:nvSpPr>
          <p:spPr>
            <a:xfrm>
              <a:off x="85320" y="336384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Ali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77080" y="3214800"/>
              <a:ext cx="1393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12 ou 24 V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ou 230 V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25080" y="3214800"/>
              <a:ext cx="124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24 V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ou 230 V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04160" y="3214800"/>
              <a:ext cx="149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12 ou 24 VDC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24 ou 230 V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69920" y="3214800"/>
              <a:ext cx="162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24 VDC ou V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ou 230 V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11120" y="3214800"/>
              <a:ext cx="1393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12 ou 24 V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ou 230 V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-108000" y="4572000"/>
            <a:ext cx="8979120" cy="580680"/>
            <a:chOff x="-108000" y="4572000"/>
            <a:chExt cx="8979120" cy="580680"/>
          </a:xfrm>
        </p:grpSpPr>
        <p:sp>
          <p:nvSpPr>
            <p:cNvPr id="304" name=""/>
            <p:cNvSpPr/>
            <p:nvPr/>
          </p:nvSpPr>
          <p:spPr>
            <a:xfrm>
              <a:off x="-108000" y="4616280"/>
              <a:ext cx="1578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Configurations 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plus coura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46840" y="4572000"/>
              <a:ext cx="138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6E/4S; 8E/4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12E/8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53080" y="4692600"/>
              <a:ext cx="141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8E/4S; 12E/8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2400" y="4692600"/>
              <a:ext cx="141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8E/4S; 12E/8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34680" y="469260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6E/4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44840" y="4692600"/>
              <a:ext cx="141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6E/4S; 12E/8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31040" y="5500800"/>
            <a:ext cx="8976240" cy="580680"/>
            <a:chOff x="131040" y="5500800"/>
            <a:chExt cx="8976240" cy="580680"/>
          </a:xfrm>
        </p:grpSpPr>
        <p:sp>
          <p:nvSpPr>
            <p:cNvPr id="311" name=""/>
            <p:cNvSpPr/>
            <p:nvPr/>
          </p:nvSpPr>
          <p:spPr>
            <a:xfrm>
              <a:off x="131040" y="563868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Exten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65520" y="5500800"/>
              <a:ext cx="184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4E en 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+4E/2S en contigü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6600" y="560700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12E/8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99960" y="5610240"/>
              <a:ext cx="99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3 * 4E/4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67600" y="550080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4E/4S 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2E 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00040" y="5624640"/>
              <a:ext cx="1495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371240" y="556272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-20880" y="5943600"/>
            <a:ext cx="9118440" cy="590040"/>
            <a:chOff x="-20880" y="5943600"/>
            <a:chExt cx="9118440" cy="590040"/>
          </a:xfrm>
        </p:grpSpPr>
        <p:sp>
          <p:nvSpPr>
            <p:cNvPr id="319" name=""/>
            <p:cNvSpPr/>
            <p:nvPr/>
          </p:nvSpPr>
          <p:spPr>
            <a:xfrm>
              <a:off x="-20880" y="6076800"/>
              <a:ext cx="141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Commun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96840" y="5952960"/>
              <a:ext cx="180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Extension AS-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Extension Modb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78880" y="5943600"/>
              <a:ext cx="143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Interface po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mode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05360" y="5943600"/>
              <a:ext cx="1471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Extension AS-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profib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30440" y="609588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63880" y="5943600"/>
              <a:ext cx="63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AS-i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E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27880" y="5056200"/>
            <a:ext cx="8746560" cy="615600"/>
            <a:chOff x="227880" y="5056200"/>
            <a:chExt cx="8746560" cy="615600"/>
          </a:xfrm>
        </p:grpSpPr>
        <p:sp>
          <p:nvSpPr>
            <p:cNvPr id="326" name=""/>
            <p:cNvSpPr/>
            <p:nvPr/>
          </p:nvSpPr>
          <p:spPr>
            <a:xfrm>
              <a:off x="227880" y="519588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Nb 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33080" y="5057640"/>
              <a:ext cx="161028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2E ana en 24V</a:t>
              </a:r>
              <a:r>
                <a:rPr b="1" lang="fr-FR" sz="1600" spc="-1" strike="noStrike" baseline="-25000">
                  <a:solidFill>
                    <a:srgbClr val="cc0066"/>
                  </a:solidFill>
                  <a:latin typeface="Times New Roman"/>
                </a:rPr>
                <a:t>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résolution 8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64160" y="5057640"/>
              <a:ext cx="161028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8E ana en 24V</a:t>
              </a:r>
              <a:r>
                <a:rPr b="1" lang="fr-FR" sz="1600" spc="-1" strike="noStrike" baseline="-25000">
                  <a:solidFill>
                    <a:srgbClr val="cc0066"/>
                  </a:solidFill>
                  <a:latin typeface="Times New Roman"/>
                </a:rPr>
                <a:t>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résolution 8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83400" y="5057640"/>
              <a:ext cx="15141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4E/1S en 24V</a:t>
              </a:r>
              <a:r>
                <a:rPr b="1" lang="fr-FR" sz="1600" spc="-1" strike="noStrike" baseline="-25000">
                  <a:solidFill>
                    <a:srgbClr val="cc0066"/>
                  </a:solidFill>
                  <a:latin typeface="Times New Roman"/>
                </a:rPr>
                <a:t>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résol 10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056200"/>
              <a:ext cx="164448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2E ana en 24V</a:t>
              </a:r>
              <a:r>
                <a:rPr b="1" lang="fr-FR" sz="1600" spc="-1" strike="noStrike" baseline="-25000">
                  <a:solidFill>
                    <a:srgbClr val="cc0066"/>
                  </a:solidFill>
                  <a:latin typeface="Times New Roman"/>
                </a:rPr>
                <a:t>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?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48600" y="514980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2 entré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685800"/>
            <a:ext cx="9144000" cy="6095880"/>
            <a:chOff x="0" y="685800"/>
            <a:chExt cx="9144000" cy="6095880"/>
          </a:xfrm>
        </p:grpSpPr>
        <p:pic>
          <p:nvPicPr>
            <p:cNvPr id="333" name="zélio" descr=""/>
            <p:cNvPicPr/>
            <p:nvPr/>
          </p:nvPicPr>
          <p:blipFill>
            <a:blip r:embed="rId2"/>
            <a:srcRect l="12596" t="8266" r="8266" b="8266"/>
            <a:stretch/>
          </p:blipFill>
          <p:spPr>
            <a:xfrm>
              <a:off x="1676520" y="838080"/>
              <a:ext cx="102528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logo_family_e" descr=""/>
            <p:cNvPicPr/>
            <p:nvPr/>
          </p:nvPicPr>
          <p:blipFill>
            <a:blip r:embed="rId3"/>
            <a:srcRect l="0" t="5291" r="64069" b="0"/>
            <a:stretch/>
          </p:blipFill>
          <p:spPr>
            <a:xfrm>
              <a:off x="4597560" y="838080"/>
              <a:ext cx="88884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easy" descr=""/>
            <p:cNvPicPr/>
            <p:nvPr/>
          </p:nvPicPr>
          <p:blipFill>
            <a:blip r:embed="rId4"/>
            <a:stretch/>
          </p:blipFill>
          <p:spPr>
            <a:xfrm>
              <a:off x="6093000" y="838080"/>
              <a:ext cx="91728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zen" descr=""/>
            <p:cNvPicPr/>
            <p:nvPr/>
          </p:nvPicPr>
          <p:blipFill>
            <a:blip r:embed="rId5"/>
            <a:stretch/>
          </p:blipFill>
          <p:spPr>
            <a:xfrm>
              <a:off x="3127320" y="838080"/>
              <a:ext cx="91116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millenium2" descr=""/>
            <p:cNvPicPr/>
            <p:nvPr/>
          </p:nvPicPr>
          <p:blipFill>
            <a:blip r:embed="rId6"/>
            <a:stretch/>
          </p:blipFill>
          <p:spPr>
            <a:xfrm>
              <a:off x="7693200" y="838080"/>
              <a:ext cx="917280" cy="10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0" y="198108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71600" y="685800"/>
              <a:ext cx="0" cy="609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23619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28191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32763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60195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37335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41907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46479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51051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55623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64767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95480" y="685800"/>
              <a:ext cx="0" cy="609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43400" y="685800"/>
              <a:ext cx="0" cy="609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91320" y="685800"/>
              <a:ext cx="0" cy="609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38880" y="685800"/>
              <a:ext cx="0" cy="609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685800"/>
              <a:ext cx="777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720" y="1981080"/>
            <a:ext cx="8972280" cy="416520"/>
            <a:chOff x="720" y="1981080"/>
            <a:chExt cx="8972280" cy="416520"/>
          </a:xfrm>
        </p:grpSpPr>
        <p:sp>
          <p:nvSpPr>
            <p:cNvPr id="356" name=""/>
            <p:cNvSpPr/>
            <p:nvPr/>
          </p:nvSpPr>
          <p:spPr>
            <a:xfrm>
              <a:off x="720" y="19810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N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89920" y="199872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imes New Roman"/>
                </a:rPr>
                <a:t>Zél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44320" y="19810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imes New Roman"/>
                </a:rPr>
                <a:t>Z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24280" y="198108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imes New Roman"/>
                </a:rPr>
                <a:t>Log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15760" y="19810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imes New Roman"/>
                </a:rPr>
                <a:t>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4760" y="1981080"/>
              <a:ext cx="148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imes New Roman"/>
                </a:rPr>
                <a:t>Millénium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0" y="2400480"/>
            <a:ext cx="8638920" cy="416160"/>
            <a:chOff x="0" y="2400480"/>
            <a:chExt cx="8638920" cy="416160"/>
          </a:xfrm>
        </p:grpSpPr>
        <p:sp>
          <p:nvSpPr>
            <p:cNvPr id="363" name=""/>
            <p:cNvSpPr/>
            <p:nvPr/>
          </p:nvSpPr>
          <p:spPr>
            <a:xfrm>
              <a:off x="0" y="240048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Mar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23160" y="241776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Schnei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52160" y="2400480"/>
              <a:ext cx="90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Omr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240048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Sieme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34320" y="240048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Moe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52160" y="240048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Crouz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143720" y="41400"/>
            <a:ext cx="69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Caractéristiques Max des modules programm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257960" y="4564080"/>
            <a:ext cx="1886040" cy="1531800"/>
            <a:chOff x="7257960" y="4564080"/>
            <a:chExt cx="1886040" cy="1531800"/>
          </a:xfrm>
        </p:grpSpPr>
        <p:sp>
          <p:nvSpPr>
            <p:cNvPr id="371" name=""/>
            <p:cNvSpPr/>
            <p:nvPr/>
          </p:nvSpPr>
          <p:spPr>
            <a:xfrm>
              <a:off x="7257960" y="4564080"/>
              <a:ext cx="1886040" cy="236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7960" y="4944960"/>
              <a:ext cx="1886040" cy="2365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57960" y="5402160"/>
              <a:ext cx="1886040" cy="236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57960" y="5859360"/>
              <a:ext cx="1886040" cy="2365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93840" y="4572000"/>
              <a:ext cx="131904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Prog so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forme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blocs SFC o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FDB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cc0066"/>
                  </a:solidFill>
                  <a:latin typeface="Times New Roman"/>
                </a:rPr>
                <a:t>128 blo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0" y="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9000" y="2743200"/>
            <a:ext cx="8826840" cy="580680"/>
            <a:chOff x="9000" y="2743200"/>
            <a:chExt cx="8826840" cy="580680"/>
          </a:xfrm>
        </p:grpSpPr>
        <p:sp>
          <p:nvSpPr>
            <p:cNvPr id="378" name=""/>
            <p:cNvSpPr/>
            <p:nvPr/>
          </p:nvSpPr>
          <p:spPr>
            <a:xfrm>
              <a:off x="9000" y="289548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Ecr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76360" y="2743200"/>
              <a:ext cx="1325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4 lig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12 caractè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0680" y="2743200"/>
              <a:ext cx="1325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4 lig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12 caractè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08600" y="2743200"/>
              <a:ext cx="1325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4 lig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12 caractè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08560" y="2743200"/>
              <a:ext cx="1325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4 lig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12 caractè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52720" y="2743200"/>
              <a:ext cx="1325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4 lig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12 caractè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-3960" y="3657600"/>
            <a:ext cx="8678160" cy="580680"/>
            <a:chOff x="-3960" y="3657600"/>
            <a:chExt cx="8678160" cy="580680"/>
          </a:xfrm>
        </p:grpSpPr>
        <p:sp>
          <p:nvSpPr>
            <p:cNvPr id="385" name=""/>
            <p:cNvSpPr/>
            <p:nvPr/>
          </p:nvSpPr>
          <p:spPr>
            <a:xfrm>
              <a:off x="-3960" y="3701880"/>
              <a:ext cx="142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Touches 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avant utilisa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62400" y="3657600"/>
              <a:ext cx="114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4 touch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z1;z2;z3;z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37040" y="377820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6 touch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08680" y="3657600"/>
              <a:ext cx="1171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4 touch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(direction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02000" y="375912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62560" y="3657600"/>
              <a:ext cx="1171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4 touch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(direction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60" y="4586400"/>
            <a:ext cx="6732360" cy="580680"/>
            <a:chOff x="360" y="4586400"/>
            <a:chExt cx="6732360" cy="580680"/>
          </a:xfrm>
        </p:grpSpPr>
        <p:sp>
          <p:nvSpPr>
            <p:cNvPr id="392" name=""/>
            <p:cNvSpPr/>
            <p:nvPr/>
          </p:nvSpPr>
          <p:spPr>
            <a:xfrm>
              <a:off x="360" y="472428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Compteu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29000" y="4586400"/>
              <a:ext cx="101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C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0 </a:t>
              </a:r>
              <a:r>
                <a:rPr b="1" lang="fr-FR" sz="16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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i </a:t>
              </a:r>
              <a:r>
                <a:rPr b="1" lang="fr-FR" sz="16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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97480" y="472428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02000" y="470232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27240" y="47102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720" y="4129200"/>
            <a:ext cx="6746400" cy="580680"/>
            <a:chOff x="720" y="4129200"/>
            <a:chExt cx="6746400" cy="580680"/>
          </a:xfrm>
        </p:grpSpPr>
        <p:sp>
          <p:nvSpPr>
            <p:cNvPr id="398" name=""/>
            <p:cNvSpPr/>
            <p:nvPr/>
          </p:nvSpPr>
          <p:spPr>
            <a:xfrm>
              <a:off x="720" y="42670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Temp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27200" y="4129200"/>
              <a:ext cx="101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T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0 </a:t>
              </a:r>
              <a:r>
                <a:rPr b="1" lang="fr-FR" sz="16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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i </a:t>
              </a:r>
              <a:r>
                <a:rPr b="1" lang="fr-FR" sz="16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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11880" y="426708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11360" y="425304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73600" y="426708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680" y="5500800"/>
            <a:ext cx="6742440" cy="580680"/>
            <a:chOff x="4680" y="5500800"/>
            <a:chExt cx="6742440" cy="580680"/>
          </a:xfrm>
        </p:grpSpPr>
        <p:sp>
          <p:nvSpPr>
            <p:cNvPr id="404" name=""/>
            <p:cNvSpPr/>
            <p:nvPr/>
          </p:nvSpPr>
          <p:spPr>
            <a:xfrm>
              <a:off x="1577880" y="5500800"/>
              <a:ext cx="111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0 </a:t>
              </a:r>
              <a:r>
                <a:rPr b="1" lang="fr-FR" sz="16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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i </a:t>
              </a:r>
              <a:r>
                <a:rPr b="1" lang="fr-FR" sz="16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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4680" y="5607000"/>
              <a:ext cx="6742440" cy="338760"/>
              <a:chOff x="4680" y="5607000"/>
              <a:chExt cx="6742440" cy="338760"/>
            </a:xfrm>
          </p:grpSpPr>
          <p:sp>
            <p:nvSpPr>
              <p:cNvPr id="406" name=""/>
              <p:cNvSpPr/>
              <p:nvPr/>
            </p:nvSpPr>
            <p:spPr>
              <a:xfrm>
                <a:off x="4680" y="5638680"/>
                <a:ext cx="1227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Mots intern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311880" y="5607000"/>
                <a:ext cx="43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cc0066"/>
                    </a:solidFill>
                    <a:latin typeface="Times New Roman"/>
                  </a:rPr>
                  <a:t> </a:t>
                </a:r>
                <a:r>
                  <a:rPr b="1" lang="fr-FR" sz="1600" spc="-1" strike="noStrike">
                    <a:solidFill>
                      <a:srgbClr val="cc0066"/>
                    </a:solidFill>
                    <a:latin typeface="Times New Roman"/>
                  </a:rPr>
                  <a:t>3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354120" y="5607000"/>
                <a:ext cx="43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cc0066"/>
                    </a:solidFill>
                    <a:latin typeface="Times New Roman"/>
                  </a:rPr>
                  <a:t> </a:t>
                </a:r>
                <a:r>
                  <a:rPr b="1" lang="fr-FR" sz="1600" spc="-1" strike="noStrike">
                    <a:solidFill>
                      <a:srgbClr val="cc0066"/>
                    </a:solidFill>
                    <a:latin typeface="Times New Roman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802040" y="5607000"/>
                <a:ext cx="43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cc0066"/>
                    </a:solidFill>
                    <a:latin typeface="Times New Roman"/>
                  </a:rPr>
                  <a:t> </a:t>
                </a:r>
                <a:r>
                  <a:rPr b="1" lang="fr-FR" sz="1600" spc="-1" strike="noStrike">
                    <a:solidFill>
                      <a:srgbClr val="cc0066"/>
                    </a:solidFill>
                    <a:latin typeface="Times New Roman"/>
                  </a:rPr>
                  <a:t>4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-2160" y="6473880"/>
            <a:ext cx="8382240" cy="384840"/>
            <a:chOff x="-2160" y="6473880"/>
            <a:chExt cx="8382240" cy="384840"/>
          </a:xfrm>
        </p:grpSpPr>
        <p:sp>
          <p:nvSpPr>
            <p:cNvPr id="411" name=""/>
            <p:cNvSpPr/>
            <p:nvPr/>
          </p:nvSpPr>
          <p:spPr>
            <a:xfrm>
              <a:off x="-2160" y="6477120"/>
              <a:ext cx="140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Texte affich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25920" y="647388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46160" y="647712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46720" y="647712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98760" y="647856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46320" y="652140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-360" y="5164200"/>
            <a:ext cx="6983280" cy="357840"/>
            <a:chOff x="-360" y="5164200"/>
            <a:chExt cx="6983280" cy="357840"/>
          </a:xfrm>
        </p:grpSpPr>
        <p:sp>
          <p:nvSpPr>
            <p:cNvPr id="418" name=""/>
            <p:cNvSpPr/>
            <p:nvPr/>
          </p:nvSpPr>
          <p:spPr>
            <a:xfrm>
              <a:off x="-360" y="5214960"/>
              <a:ext cx="91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Blocs 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00640" y="5167440"/>
              <a:ext cx="82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8 blo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57000" y="5178600"/>
              <a:ext cx="9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32 blo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02000" y="516420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44880" y="516744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-1080" y="6053040"/>
            <a:ext cx="6748200" cy="380160"/>
            <a:chOff x="-1080" y="6053040"/>
            <a:chExt cx="6748200" cy="380160"/>
          </a:xfrm>
        </p:grpSpPr>
        <p:sp>
          <p:nvSpPr>
            <p:cNvPr id="424" name=""/>
            <p:cNvSpPr/>
            <p:nvPr/>
          </p:nvSpPr>
          <p:spPr>
            <a:xfrm>
              <a:off x="-1080" y="608184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Bloc horlo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11800" y="6093000"/>
              <a:ext cx="82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4 blo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11880" y="606420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16040" y="609588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78000" y="6053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-360" y="3200400"/>
            <a:ext cx="8808120" cy="580680"/>
            <a:chOff x="-360" y="3200400"/>
            <a:chExt cx="8808120" cy="580680"/>
          </a:xfrm>
        </p:grpSpPr>
        <p:sp>
          <p:nvSpPr>
            <p:cNvPr id="430" name=""/>
            <p:cNvSpPr/>
            <p:nvPr/>
          </p:nvSpPr>
          <p:spPr>
            <a:xfrm>
              <a:off x="-360" y="3352680"/>
              <a:ext cx="90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Lang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87120" y="3338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81600" y="3200400"/>
              <a:ext cx="1226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FDB et SF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(grafce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41680" y="3338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60240" y="3338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31920" y="335268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0066"/>
                  </a:solidFill>
                  <a:latin typeface="Times New Roman"/>
                </a:rPr>
                <a:t>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8915400" y="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0" y="685800"/>
            <a:ext cx="9144000" cy="6095880"/>
            <a:chOff x="0" y="685800"/>
            <a:chExt cx="9144000" cy="6095880"/>
          </a:xfrm>
        </p:grpSpPr>
        <p:pic>
          <p:nvPicPr>
            <p:cNvPr id="439" name="zélio" descr=""/>
            <p:cNvPicPr/>
            <p:nvPr/>
          </p:nvPicPr>
          <p:blipFill>
            <a:blip r:embed="rId2"/>
            <a:srcRect l="12596" t="8266" r="8266" b="8266"/>
            <a:stretch/>
          </p:blipFill>
          <p:spPr>
            <a:xfrm>
              <a:off x="1676520" y="838080"/>
              <a:ext cx="102528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logo_family_e" descr=""/>
            <p:cNvPicPr/>
            <p:nvPr/>
          </p:nvPicPr>
          <p:blipFill>
            <a:blip r:embed="rId3"/>
            <a:srcRect l="0" t="5291" r="64069" b="0"/>
            <a:stretch/>
          </p:blipFill>
          <p:spPr>
            <a:xfrm>
              <a:off x="4597560" y="838080"/>
              <a:ext cx="88884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easy" descr=""/>
            <p:cNvPicPr/>
            <p:nvPr/>
          </p:nvPicPr>
          <p:blipFill>
            <a:blip r:embed="rId4"/>
            <a:stretch/>
          </p:blipFill>
          <p:spPr>
            <a:xfrm>
              <a:off x="6093000" y="838080"/>
              <a:ext cx="91728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zen" descr=""/>
            <p:cNvPicPr/>
            <p:nvPr/>
          </p:nvPicPr>
          <p:blipFill>
            <a:blip r:embed="rId5"/>
            <a:stretch/>
          </p:blipFill>
          <p:spPr>
            <a:xfrm>
              <a:off x="3127320" y="838080"/>
              <a:ext cx="91116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millenium2" descr=""/>
            <p:cNvPicPr/>
            <p:nvPr/>
          </p:nvPicPr>
          <p:blipFill>
            <a:blip r:embed="rId6"/>
            <a:stretch/>
          </p:blipFill>
          <p:spPr>
            <a:xfrm>
              <a:off x="7693200" y="838080"/>
              <a:ext cx="917280" cy="10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0" y="198108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1600" y="685800"/>
              <a:ext cx="0" cy="609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23619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28191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0" y="32763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60195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37335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41907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46479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51051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55623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647676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95480" y="685800"/>
              <a:ext cx="0" cy="609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43400" y="685800"/>
              <a:ext cx="0" cy="609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91320" y="685800"/>
              <a:ext cx="0" cy="609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8880" y="685800"/>
              <a:ext cx="0" cy="609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71600" y="685800"/>
              <a:ext cx="777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720" y="1981080"/>
            <a:ext cx="8972280" cy="416520"/>
            <a:chOff x="720" y="1981080"/>
            <a:chExt cx="8972280" cy="416520"/>
          </a:xfrm>
        </p:grpSpPr>
        <p:sp>
          <p:nvSpPr>
            <p:cNvPr id="462" name=""/>
            <p:cNvSpPr/>
            <p:nvPr/>
          </p:nvSpPr>
          <p:spPr>
            <a:xfrm>
              <a:off x="720" y="19810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N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89920" y="199872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imes New Roman"/>
                </a:rPr>
                <a:t>Zél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44320" y="19810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imes New Roman"/>
                </a:rPr>
                <a:t>Z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4280" y="198108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imes New Roman"/>
                </a:rPr>
                <a:t>Log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15760" y="19810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imes New Roman"/>
                </a:rPr>
                <a:t>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84760" y="1981080"/>
              <a:ext cx="148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imes New Roman"/>
                </a:rPr>
                <a:t>Millénium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0" y="2400480"/>
            <a:ext cx="8638920" cy="416160"/>
            <a:chOff x="0" y="2400480"/>
            <a:chExt cx="8638920" cy="416160"/>
          </a:xfrm>
        </p:grpSpPr>
        <p:sp>
          <p:nvSpPr>
            <p:cNvPr id="469" name=""/>
            <p:cNvSpPr/>
            <p:nvPr/>
          </p:nvSpPr>
          <p:spPr>
            <a:xfrm>
              <a:off x="0" y="240048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Mar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23160" y="241776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Schnei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52160" y="2400480"/>
              <a:ext cx="90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Omr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72000" y="240048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Sieme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34320" y="240048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Moe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52160" y="240048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Crouz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839960" y="4140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mparatif des prix (Radiospares 200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-48600" y="4705200"/>
            <a:ext cx="8920440" cy="401760"/>
            <a:chOff x="-48600" y="4705200"/>
            <a:chExt cx="8920440" cy="401760"/>
          </a:xfrm>
        </p:grpSpPr>
        <p:sp>
          <p:nvSpPr>
            <p:cNvPr id="477" name=""/>
            <p:cNvSpPr/>
            <p:nvPr/>
          </p:nvSpPr>
          <p:spPr>
            <a:xfrm>
              <a:off x="-48600" y="4781520"/>
              <a:ext cx="14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Câble pc mod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48280" y="47196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66.62 eu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50360" y="47052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50.32 eu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26880" y="47052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63.00 eu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78360" y="471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0440" y="4738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-1080" y="4191120"/>
            <a:ext cx="8915400" cy="520200"/>
            <a:chOff x="-1080" y="4191120"/>
            <a:chExt cx="8915400" cy="520200"/>
          </a:xfrm>
        </p:grpSpPr>
        <p:sp>
          <p:nvSpPr>
            <p:cNvPr id="484" name=""/>
            <p:cNvSpPr/>
            <p:nvPr/>
          </p:nvSpPr>
          <p:spPr>
            <a:xfrm>
              <a:off x="-1080" y="4191120"/>
              <a:ext cx="125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Module 8E/4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S  rel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45400" y="4237200"/>
              <a:ext cx="14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131.15 eu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06040" y="4237200"/>
              <a:ext cx="14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112.00 eu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36320" y="4237200"/>
              <a:ext cx="14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125.70 eu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12840" y="4222800"/>
              <a:ext cx="14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140.00 eu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30440" y="4222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0320" y="3257640"/>
            <a:ext cx="8721360" cy="520200"/>
            <a:chOff x="40320" y="3257640"/>
            <a:chExt cx="8721360" cy="520200"/>
          </a:xfrm>
        </p:grpSpPr>
        <p:sp>
          <p:nvSpPr>
            <p:cNvPr id="491" name=""/>
            <p:cNvSpPr/>
            <p:nvPr/>
          </p:nvSpPr>
          <p:spPr>
            <a:xfrm>
              <a:off x="40320" y="3257640"/>
              <a:ext cx="125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Pack: logiciel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module; câ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26840" y="3314880"/>
              <a:ext cx="111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152 eu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22320" y="3305160"/>
              <a:ext cx="111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175 eu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21000" y="3305160"/>
              <a:ext cx="111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241 eu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646760" y="3305160"/>
              <a:ext cx="111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175 eu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30440" y="3295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93040" y="5103720"/>
            <a:ext cx="8621280" cy="460440"/>
            <a:chOff x="293040" y="5103720"/>
            <a:chExt cx="8621280" cy="460440"/>
          </a:xfrm>
        </p:grpSpPr>
        <p:sp>
          <p:nvSpPr>
            <p:cNvPr id="498" name=""/>
            <p:cNvSpPr/>
            <p:nvPr/>
          </p:nvSpPr>
          <p:spPr>
            <a:xfrm>
              <a:off x="293040" y="5186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Logici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91480" y="5181480"/>
              <a:ext cx="128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16.77 eu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74440" y="5181480"/>
              <a:ext cx="128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50.40 eu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27320" y="5167440"/>
              <a:ext cx="128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24.80 eu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80040" y="510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32400" y="5195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30440" y="5195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40320" y="104760"/>
            <a:ext cx="44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Domaines d ’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3120" y="914400"/>
            <a:ext cx="85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Applications ne nécessitant pas plus de 20 à 30 Entrées / Sor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Tout Ou Rien (TOR) et 4 entrées analogiques (ANA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Le prix est souvent inférieur à 150 e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3560" y="4952880"/>
            <a:ext cx="764100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=&gt; Géothermie:gestion du compresseur, des pompes à ea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sondes de température, du pressostat 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contrôleurs de débit d'eau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71800" y="266688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=&gt; Comptage de piè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2360" y="3124080"/>
            <a:ext cx="56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=&gt; Commande de pompes et compr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67120" y="358128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=&gt; Convoy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95560" y="449568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=&gt; Panneaux d ’affic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88720" y="403848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=&gt; Volets rou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560" y="213372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Les applications typiq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86868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zélio" descr=""/>
          <p:cNvPicPr/>
          <p:nvPr/>
        </p:nvPicPr>
        <p:blipFill>
          <a:blip r:embed="rId2"/>
          <a:srcRect l="12498" t="8325" r="8325" b="8325"/>
          <a:stretch/>
        </p:blipFill>
        <p:spPr>
          <a:xfrm>
            <a:off x="457200" y="228600"/>
            <a:ext cx="520560" cy="547560"/>
          </a:xfrm>
          <a:prstGeom prst="rect">
            <a:avLst/>
          </a:prstGeom>
          <a:ln w="0">
            <a:noFill/>
          </a:ln>
        </p:spPr>
      </p:pic>
      <p:pic>
        <p:nvPicPr>
          <p:cNvPr id="74" name="zen" descr=""/>
          <p:cNvPicPr/>
          <p:nvPr/>
        </p:nvPicPr>
        <p:blipFill>
          <a:blip r:embed="rId3"/>
          <a:stretch/>
        </p:blipFill>
        <p:spPr>
          <a:xfrm>
            <a:off x="8305920" y="228600"/>
            <a:ext cx="420480" cy="498600"/>
          </a:xfrm>
          <a:prstGeom prst="rect">
            <a:avLst/>
          </a:prstGeom>
          <a:ln w="0">
            <a:noFill/>
          </a:ln>
        </p:spPr>
      </p:pic>
      <p:pic>
        <p:nvPicPr>
          <p:cNvPr id="75" name="logo_family_e" descr=""/>
          <p:cNvPicPr/>
          <p:nvPr/>
        </p:nvPicPr>
        <p:blipFill>
          <a:blip r:embed="rId4"/>
          <a:srcRect l="0" t="5291" r="63905" b="0"/>
          <a:stretch/>
        </p:blipFill>
        <p:spPr>
          <a:xfrm>
            <a:off x="8381880" y="5943600"/>
            <a:ext cx="432000" cy="523800"/>
          </a:xfrm>
          <a:prstGeom prst="rect">
            <a:avLst/>
          </a:prstGeom>
          <a:ln w="0">
            <a:noFill/>
          </a:ln>
        </p:spPr>
      </p:pic>
      <p:pic>
        <p:nvPicPr>
          <p:cNvPr id="76" name="easy" descr=""/>
          <p:cNvPicPr/>
          <p:nvPr/>
        </p:nvPicPr>
        <p:blipFill>
          <a:blip r:embed="rId5"/>
          <a:stretch/>
        </p:blipFill>
        <p:spPr>
          <a:xfrm>
            <a:off x="457200" y="5867280"/>
            <a:ext cx="453960" cy="533520"/>
          </a:xfrm>
          <a:prstGeom prst="rect">
            <a:avLst/>
          </a:prstGeom>
          <a:ln w="0">
            <a:noFill/>
          </a:ln>
        </p:spPr>
      </p:pic>
      <p:pic>
        <p:nvPicPr>
          <p:cNvPr id="77" name="millenium2" descr=""/>
          <p:cNvPicPr/>
          <p:nvPr/>
        </p:nvPicPr>
        <p:blipFill>
          <a:blip r:embed="rId6"/>
          <a:stretch/>
        </p:blipFill>
        <p:spPr>
          <a:xfrm>
            <a:off x="4424400" y="6324480"/>
            <a:ext cx="452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zélio" descr=""/>
          <p:cNvPicPr/>
          <p:nvPr/>
        </p:nvPicPr>
        <p:blipFill>
          <a:blip r:embed="rId2"/>
          <a:srcRect l="12498" t="8325" r="8325" b="8325"/>
          <a:stretch/>
        </p:blipFill>
        <p:spPr>
          <a:xfrm>
            <a:off x="380880" y="1309680"/>
            <a:ext cx="1447920" cy="1523880"/>
          </a:xfrm>
          <a:prstGeom prst="rect">
            <a:avLst/>
          </a:prstGeom>
          <a:ln w="0">
            <a:noFill/>
          </a:ln>
        </p:spPr>
      </p:pic>
      <p:pic>
        <p:nvPicPr>
          <p:cNvPr id="79" name="logo_family_e" descr=""/>
          <p:cNvPicPr/>
          <p:nvPr/>
        </p:nvPicPr>
        <p:blipFill>
          <a:blip r:embed="rId3"/>
          <a:srcRect l="0" t="5291" r="63905" b="0"/>
          <a:stretch/>
        </p:blipFill>
        <p:spPr>
          <a:xfrm>
            <a:off x="457200" y="2986200"/>
            <a:ext cx="1171440" cy="1423800"/>
          </a:xfrm>
          <a:prstGeom prst="rect">
            <a:avLst/>
          </a:prstGeom>
          <a:ln w="0">
            <a:noFill/>
          </a:ln>
        </p:spPr>
      </p:pic>
      <p:pic>
        <p:nvPicPr>
          <p:cNvPr id="80" name="easy" descr=""/>
          <p:cNvPicPr/>
          <p:nvPr/>
        </p:nvPicPr>
        <p:blipFill>
          <a:blip r:embed="rId4"/>
          <a:stretch/>
        </p:blipFill>
        <p:spPr>
          <a:xfrm>
            <a:off x="5257800" y="3689280"/>
            <a:ext cx="1593720" cy="1873440"/>
          </a:xfrm>
          <a:prstGeom prst="rect">
            <a:avLst/>
          </a:prstGeom>
          <a:ln w="0">
            <a:noFill/>
          </a:ln>
        </p:spPr>
      </p:pic>
      <p:pic>
        <p:nvPicPr>
          <p:cNvPr id="81" name="zen" descr=""/>
          <p:cNvPicPr/>
          <p:nvPr/>
        </p:nvPicPr>
        <p:blipFill>
          <a:blip r:embed="rId5"/>
          <a:stretch/>
        </p:blipFill>
        <p:spPr>
          <a:xfrm>
            <a:off x="5257800" y="1479600"/>
            <a:ext cx="1552680" cy="1838160"/>
          </a:xfrm>
          <a:prstGeom prst="rect">
            <a:avLst/>
          </a:prstGeom>
          <a:ln w="0">
            <a:noFill/>
          </a:ln>
        </p:spPr>
      </p:pic>
      <p:pic>
        <p:nvPicPr>
          <p:cNvPr id="82" name="millenium2" descr=""/>
          <p:cNvPicPr/>
          <p:nvPr/>
        </p:nvPicPr>
        <p:blipFill>
          <a:blip r:embed="rId6"/>
          <a:stretch/>
        </p:blipFill>
        <p:spPr>
          <a:xfrm>
            <a:off x="457200" y="4586400"/>
            <a:ext cx="1279440" cy="1509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1840" y="152280"/>
            <a:ext cx="86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0000"/>
                </a:solidFill>
                <a:uFillTx/>
                <a:latin typeface="Times New Roman"/>
              </a:rPr>
              <a:t>Offre (liste non exhaustive) de modules programm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61760" y="155736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Times New Roman"/>
              </a:rPr>
              <a:t>Zé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72320" y="218916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(Schnei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40160" y="311616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Times New Roman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2520" y="374796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(Sieme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72880" y="4792680"/>
            <a:ext cx="24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Times New Roman"/>
              </a:rPr>
              <a:t>Millénium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5320" y="54244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(Crouz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86400" y="17305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Times New Roman"/>
              </a:rPr>
              <a:t>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34480" y="23623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(Omr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86040" y="40482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Times New Roman"/>
              </a:rPr>
              <a:t>Ea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33040" y="46800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(Moel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83480" y="606096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Clicker sur le module à détailler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86868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13840" y="104760"/>
            <a:ext cx="33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Appareils étudi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3120" y="1523880"/>
            <a:ext cx="55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euls les appareils suivant seront étudié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7360" y="21747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==&gt; Zélio (Schnei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7000" y="286056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==&gt; Easy (Moel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6280" y="3470400"/>
            <a:ext cx="37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==&gt; Millénium II (Crouz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080" y="4917960"/>
            <a:ext cx="78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Cependant, le tableau comparatif final porte bien sur les 5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86868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zélio" descr=""/>
          <p:cNvPicPr/>
          <p:nvPr/>
        </p:nvPicPr>
        <p:blipFill>
          <a:blip r:embed="rId2"/>
          <a:srcRect l="16670" t="11120" r="11120" b="11120"/>
          <a:stretch/>
        </p:blipFill>
        <p:spPr>
          <a:xfrm>
            <a:off x="-33480" y="1905120"/>
            <a:ext cx="353880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77480" y="76320"/>
            <a:ext cx="53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Module programmable Zé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9144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Alimentation du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( 12 ou 24 VDC ou 230 V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4000" y="190512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6 à 12 Entrées (12 ou  24 VD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ou 230 V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88960" y="3962520"/>
            <a:ext cx="448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Touches z1; z2; z3; z4 utilis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comme des entrées 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0040" y="609588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4 ou 8 sorties rel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88600" y="5029200"/>
            <a:ext cx="42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Afficheur 4 lignes 12 caract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(existe sans affiche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3640" y="304812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Entrées 9 et 10: TOR ou 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914040" y="1295280"/>
            <a:ext cx="335268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666520" y="2590560"/>
            <a:ext cx="16002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523880" y="4571640"/>
            <a:ext cx="27432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057400" y="2133720"/>
            <a:ext cx="2209680" cy="152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048120" y="3962160"/>
            <a:ext cx="1218960" cy="228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048120" y="4191120"/>
            <a:ext cx="1218960" cy="228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219320" y="5638320"/>
            <a:ext cx="304776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86868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399480" y="1908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Gamme Zé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28440" y="1073160"/>
            <a:ext cx="9234360" cy="547992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6868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7338960" cy="5506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35080" y="19080"/>
            <a:ext cx="67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Langage de programmation du Zé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7880" y="762120"/>
            <a:ext cx="66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Le logiciel utilise le langage de programmation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LD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86868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77480" y="7632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Module programmable Eas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easy" descr=""/>
          <p:cNvPicPr/>
          <p:nvPr/>
        </p:nvPicPr>
        <p:blipFill>
          <a:blip r:embed="rId2"/>
          <a:stretch/>
        </p:blipFill>
        <p:spPr>
          <a:xfrm>
            <a:off x="0" y="1752480"/>
            <a:ext cx="3565440" cy="4191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48320" y="8571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Alimentation du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(24 VDC ou VAC ou 230 V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14800" y="18288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8 ou 12 Entrées TOR (12 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24 VDC ou 230 V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520" y="4206960"/>
            <a:ext cx="335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6 touches utilis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comme des entrées 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6840" y="5838840"/>
            <a:ext cx="48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4 ou 6 sorties relais (8 en transis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(1 sortie ANA sous alim 24V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63240" y="5029200"/>
            <a:ext cx="42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Afficheur 4 lignes 12 caract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(existe sans affiche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37320" y="274320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4 entrées ANA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914400" y="1219320"/>
            <a:ext cx="403848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666520" y="2590920"/>
            <a:ext cx="22100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371600" y="4190760"/>
            <a:ext cx="358128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904760" y="2133720"/>
            <a:ext cx="2971800" cy="228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971440" y="3962160"/>
            <a:ext cx="1981080" cy="609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76160" y="4572000"/>
            <a:ext cx="3276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980720" y="5257440"/>
            <a:ext cx="2514600" cy="762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35160" y="350532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Extension:  12E/8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429000" y="3200400"/>
            <a:ext cx="14479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86868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399480" y="-109440"/>
            <a:ext cx="26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Gamme Eas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209680" y="457200"/>
            <a:ext cx="4662720" cy="6400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62320" y="762120"/>
            <a:ext cx="1340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Easy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8E/4S 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2E 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760" y="2743200"/>
            <a:ext cx="1340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Easy 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12E/8S 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2E 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2320" y="4952880"/>
            <a:ext cx="1340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Easy 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12E/8S 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4E 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1S 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53400" y="685800"/>
            <a:ext cx="2085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Unité d’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12E/8S 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63120" y="1752480"/>
            <a:ext cx="2085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Unité d’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2S 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30640" y="277164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Coupleur p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module d ’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85800" y="3962520"/>
            <a:ext cx="2085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Unité d’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12E/8S TOR(déport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40080" y="5149800"/>
            <a:ext cx="21697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Coupleurs résea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AS-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Profi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Device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86868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11:43:54Z</dcterms:created>
  <dc:creator>CANAT</dc:creator>
  <dc:description/>
  <dc:language>en-US</dc:language>
  <cp:lastModifiedBy>CANAT</cp:lastModifiedBy>
  <dcterms:modified xsi:type="dcterms:W3CDTF">2003-07-04T09:49:09Z</dcterms:modified>
  <cp:revision>58</cp:revision>
  <dc:subject/>
  <dc:title>Aucun titre de diapositive</dc:title>
</cp:coreProperties>
</file>